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ECE8-5FC0-44C2-860A-FF273EB3A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EBC9-6660-4E1F-AEC2-B3B59E39F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E037-8894-4685-B414-6532807BB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EC5F-C2DC-45BD-A3F9-79DE51B1C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6CF02-D4C5-4489-A0A9-BBFBC9FDB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D233C-2AEF-4340-B866-2341D742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EAF10-0D45-47ED-9FB2-0C10E02CB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6DD74-F5C7-4E10-964A-062DD23CC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C0F7F-3428-470C-BCFB-EBDB49545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3C562-9B96-4F80-B214-A3C39FB67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63A41-3E6D-4374-AB0E-21CAB9D6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483D-9A2D-40CD-A891-F028C18C0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32869-B41B-4818-A2BF-A9947429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C715E-D15C-4139-8064-0FA226DA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89B63-278E-425D-9DE2-C1FD55694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180C4-C093-4F11-A908-92AE1F98B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2D8AC-CFBC-4D1B-9FC8-B43494545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2690-E99C-4EE3-B4F0-C39A01511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0B77-2B6B-4EA8-BBCA-946F6E126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107A-C0F3-4395-86F4-F2C3B256A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C026-DDEC-43DE-8A98-596853152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45D4-EDDF-48F6-92A0-023C1B97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4F93-87E4-47C2-A5B5-792D43E9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D042-504C-4DC2-9DF5-B4427D2C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ED5DE-7BFC-46F4-9FB7-E9EFDC72CE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0A475-8A4B-4ED7-8B7B-82038F743C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E 4.0 as a browser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Satoshi Nakajim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icrosof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01520" y="533160"/>
            <a:ext cx="6342120" cy="148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dditional On-going Cost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819520" y="1980720"/>
            <a:ext cx="59436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ing (double the metrix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aintenance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Keep it working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Bug fixes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01520" y="533160"/>
            <a:ext cx="6342120" cy="148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ough Estimate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One time development cos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4 persons X 2 weeks (no buffering)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aintenance (bug-fixes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1 or 2 dedicated developers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(To Be Filled)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3352680" cy="125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in95 Shel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"/>
          <p:cNvSpPr/>
          <p:nvPr/>
        </p:nvSpPr>
        <p:spPr>
          <a:xfrm>
            <a:off x="1828800" y="1828800"/>
            <a:ext cx="2286000" cy="838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Explor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28800" y="3581280"/>
            <a:ext cx="2286000" cy="83844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hell32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28800" y="5257800"/>
            <a:ext cx="228600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omctl32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0200" y="1676520"/>
            <a:ext cx="358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ray/StartButt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Desktop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Folder/Explorer window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hell DDE/Command lin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0" y="342900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hell Name Spa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hellFolderView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hell API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0" y="51055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ListView/TreeView Contro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oolbar Contro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276720"/>
            <a:ext cx="176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hel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omponent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19520" y="457200"/>
            <a:ext cx="4038480" cy="125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E 3.0 Brows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"/>
          <p:cNvSpPr/>
          <p:nvPr/>
        </p:nvSpPr>
        <p:spPr>
          <a:xfrm>
            <a:off x="1828800" y="1828800"/>
            <a:ext cx="22860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Explor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28800" y="2514600"/>
            <a:ext cx="2286000" cy="990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hdocvw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4343400"/>
            <a:ext cx="22860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omctl32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0560" y="1676520"/>
            <a:ext cx="34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tub (just calls shdocvw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0" y="2362320"/>
            <a:ext cx="4343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nternet Name Spa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hellView/DocObject mapp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Browser window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E DDE/Automa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E command lin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43434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+ </a:t>
            </a:r>
            <a:r>
              <a:rPr b="0" lang="en-US" sz="2400" spc="-1" strike="noStrike" u="sng">
                <a:solidFill>
                  <a:srgbClr val="003399"/>
                </a:solidFill>
                <a:uFillTx/>
                <a:latin typeface="Times New Roman"/>
              </a:rPr>
              <a:t>ReBa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28800" y="5562720"/>
            <a:ext cx="14479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Winine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05320" y="5562720"/>
            <a:ext cx="144756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Urlm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5562720"/>
            <a:ext cx="144756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Hlink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705720" y="5562720"/>
            <a:ext cx="144756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Actxprx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28800" y="6172200"/>
            <a:ext cx="14479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Oleaut32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6172200"/>
            <a:ext cx="144756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486400"/>
            <a:ext cx="176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weeper Component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00200" y="5486400"/>
            <a:ext cx="6705720" cy="0"/>
          </a:xfrm>
          <a:prstGeom prst="line">
            <a:avLst/>
          </a:prstGeom>
          <a:ln w="936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2895480"/>
            <a:ext cx="176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Brows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omponent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4876920"/>
            <a:ext cx="228600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Mshtm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48769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HTML View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5562360" cy="125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E 3 running on Win95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1981080"/>
            <a:ext cx="1828800" cy="4419720"/>
          </a:xfrm>
          <a:prstGeom prst="flowChartAlternateProcess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Explor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Proces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1981080"/>
            <a:ext cx="1752840" cy="4419720"/>
          </a:xfrm>
          <a:prstGeom prst="flowChartAlternateProcess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Explor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Proces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81080" y="2514600"/>
            <a:ext cx="838440" cy="68580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4038480"/>
            <a:ext cx="762120" cy="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040" y="2286000"/>
            <a:ext cx="15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hell DD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400" y="385128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Open C:\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133720" y="4800240"/>
            <a:ext cx="685800" cy="68580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2800" y="548640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explorer …”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705360" y="2590920"/>
            <a:ext cx="609480" cy="60948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78200" y="2174760"/>
            <a:ext cx="11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E DD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6721200" y="3616200"/>
            <a:ext cx="609480" cy="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6640" y="327672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E Auto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6705360" y="4800240"/>
            <a:ext cx="609480" cy="60948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932880" y="541008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explorer …”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6721200" y="4302000"/>
            <a:ext cx="609480" cy="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313400" y="396252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http://…”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19520" y="457200"/>
            <a:ext cx="4038480" cy="125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E 4.0 Shel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"/>
          <p:cNvSpPr/>
          <p:nvPr/>
        </p:nvSpPr>
        <p:spPr>
          <a:xfrm>
            <a:off x="1828800" y="1600200"/>
            <a:ext cx="22860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Explor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28800" y="2209680"/>
            <a:ext cx="2286000" cy="53352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Explor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28800" y="6172200"/>
            <a:ext cx="22860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omctl32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1523880"/>
            <a:ext cx="336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tub (just calls explorer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22096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ray/StartButt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60958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+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imes New Roman"/>
              </a:rPr>
              <a:t>Rebar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28800" y="2971800"/>
            <a:ext cx="2286000" cy="990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hdocvw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2819520"/>
            <a:ext cx="4343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nternet Name Spa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hellView/DocObject mapp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Folder/Explorer window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IE/Shell DD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IE/Shell Automa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IE/Shell command lin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28800" y="5334120"/>
            <a:ext cx="2286000" cy="685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hell32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525780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+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imes New Roman"/>
              </a:rPr>
              <a:t>Internet Name Space hook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+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imes New Roman"/>
              </a:rPr>
              <a:t> WebView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5638680" cy="125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E 4.0 Shell Proces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2" name=""/>
          <p:cNvSpPr/>
          <p:nvPr/>
        </p:nvSpPr>
        <p:spPr>
          <a:xfrm>
            <a:off x="2819520" y="1981080"/>
            <a:ext cx="3809880" cy="4419720"/>
          </a:xfrm>
          <a:prstGeom prst="flowChartAlternateProcess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Explor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Proces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81080" y="2514600"/>
            <a:ext cx="838440" cy="68580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57400" y="4038480"/>
            <a:ext cx="762120" cy="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30040" y="2286000"/>
            <a:ext cx="15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hell DD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8400" y="385128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Open C:\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133720" y="4800240"/>
            <a:ext cx="685800" cy="68580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2800" y="548640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explorer …”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6705360" y="2590920"/>
            <a:ext cx="609480" cy="60948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378200" y="2174760"/>
            <a:ext cx="11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E DD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6705360" y="4800240"/>
            <a:ext cx="609480" cy="60948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32880" y="541008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explorer …”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6721200" y="3616200"/>
            <a:ext cx="609480" cy="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316640" y="327672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E Auto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6721200" y="4302000"/>
            <a:ext cx="609480" cy="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313400" y="396252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http://…”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819520" y="457200"/>
            <a:ext cx="5029200" cy="125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E 4.0 Browser-Onl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8" name=""/>
          <p:cNvSpPr/>
          <p:nvPr/>
        </p:nvSpPr>
        <p:spPr>
          <a:xfrm>
            <a:off x="1828800" y="1600200"/>
            <a:ext cx="22860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Explor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28800" y="4724280"/>
            <a:ext cx="228600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omctl32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0" y="15238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tub (just calls shdocvw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0" y="47242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+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</a:rPr>
              <a:t>Rebar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828800" y="2362320"/>
            <a:ext cx="2286000" cy="990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hdocvw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0" y="2209680"/>
            <a:ext cx="4343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nternet Name Spa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hellView/DocObject mapp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Browser window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IE DD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IE Automa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IE command lin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819520" y="457200"/>
            <a:ext cx="5029200" cy="125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E 4.0 Browser-Onl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5" name=""/>
          <p:cNvSpPr/>
          <p:nvPr/>
        </p:nvSpPr>
        <p:spPr>
          <a:xfrm>
            <a:off x="2819520" y="1981080"/>
            <a:ext cx="1828800" cy="4419720"/>
          </a:xfrm>
          <a:prstGeom prst="flowChartAlternateProcess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Explor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Proces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952880" y="1981080"/>
            <a:ext cx="1752840" cy="4419720"/>
          </a:xfrm>
          <a:prstGeom prst="flowChartAlternateProcess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Explor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Proces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81080" y="2514600"/>
            <a:ext cx="838440" cy="68580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57400" y="4038480"/>
            <a:ext cx="762120" cy="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30040" y="2286000"/>
            <a:ext cx="15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hell DD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8400" y="385128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Open C:\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133720" y="4800240"/>
            <a:ext cx="685800" cy="68580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2800" y="548640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explorer …”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6705360" y="2590920"/>
            <a:ext cx="609480" cy="60948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378200" y="2174760"/>
            <a:ext cx="11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E DD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6705360" y="4800240"/>
            <a:ext cx="609480" cy="60948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932880" y="541008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explorer …”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721200" y="3616200"/>
            <a:ext cx="609480" cy="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16640" y="327672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E Auto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721200" y="4302000"/>
            <a:ext cx="609480" cy="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13400" y="396252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http://…”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801520" y="609120"/>
            <a:ext cx="6342120" cy="133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dditional One-time Cost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819520" y="1981080"/>
            <a:ext cx="6324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e-coupling shdocvw from shell32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ake following features work again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IE CommandLine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Type associations (html, jpg, …)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IE DDE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IE Automation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ebCheck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thena integration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tup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2-09T18:40:59Z</dcterms:created>
  <dc:creator>Satoshi Nakajima</dc:creator>
  <dc:description/>
  <dc:language>en-US</dc:language>
  <cp:lastModifiedBy>Satoshi Nakajima</cp:lastModifiedBy>
  <cp:lastPrinted>1996-12-09T20:07:36Z</cp:lastPrinted>
  <dcterms:modified xsi:type="dcterms:W3CDTF">1996-12-09T22:44:30Z</dcterms:modified>
  <cp:revision>7</cp:revision>
  <dc:subject/>
  <dc:title>IE 4.0 as a browser</dc:title>
</cp:coreProperties>
</file>