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520-BAC8-4B1C-A335-D5AE7AA9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3D2C-1C39-4B29-9818-57579E4A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B202-AB28-4827-B27B-B2D8C8B5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C71-3ED0-4F2F-BE41-F3D5A9D1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79FB-2F70-42A8-AD57-19027A6B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CF05-5B94-42E4-9DC1-722D8831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575B-22B3-4BFD-9BC7-D74FD1A6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78B6-1C1F-4D7B-A0C5-780DF8D9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E874-4E66-4930-A872-A334F508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52FD-AFCF-4E34-A477-03E55DF6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70A7-55AE-492C-9238-28548742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E95E-293E-4DA6-9E6E-9ECC8AED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4142-C5EF-44EC-AECA-BB7A0D2F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A528-F0AC-4DD3-8C44-2926084D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7F19-8018-418F-8401-F3E4092A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3116-4F2F-4BB1-8670-6C742CF4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C1CC-67E4-43A7-BFB3-B041E062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18D-CE27-47F8-85A8-4525886B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765-37C4-4C88-824C-6CE965E5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D474-E2DB-4558-927E-5966B265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1D3-545E-4E84-9D65-C0A6AA90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F02C-E755-47B6-9DDD-05BE5600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C28-798C-4987-BAC0-BF1DB94C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7733-0081-4F37-A507-30CD70D9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62920" y="-533520"/>
            <a:ext cx="2514600" cy="2514600"/>
          </a:xfrm>
          <a:prstGeom prst="diamond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66B3-BB4B-427F-A231-070574F176C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0099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B8C8-9B7C-478C-9344-3C720BF1CD4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IE 4.0 Shell Architecture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65530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E 4.0 Technology Exchange Mee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3564000"/>
            <a:ext cx="4114800" cy="4132080"/>
          </a:xfrm>
          <a:prstGeom prst="diamond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   </a:t>
            </a: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IE 4.0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45280" y="2743200"/>
            <a:ext cx="327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atoshi Nakajim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624852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8 Nov., 19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ShellBrows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t allows the shell view to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rge Menu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dd Toolbar butt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ut some status tex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ranslate accelerator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5943600"/>
            <a:ext cx="6204960" cy="550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ot OLE’s In-place UI negotiation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DefView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 default implementation of IShellView on top of IShellFolde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4419720"/>
            <a:ext cx="243828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 (folder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1"/>
            <a:endCxn id="187" idx="3"/>
          </p:cNvCxnSpPr>
          <p:nvPr/>
        </p:nvCxnSpPr>
        <p:spPr>
          <a:xfrm flipH="1">
            <a:off x="5562000" y="468612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5334120" y="4572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4191120"/>
            <a:ext cx="15238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06680" y="5181480"/>
            <a:ext cx="3585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CreateView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54100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fVie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90" idx="0"/>
            <a:endCxn id="192" idx="2"/>
          </p:cNvCxnSpPr>
          <p:nvPr/>
        </p:nvCxnSpPr>
        <p:spPr>
          <a:xfrm flipV="1">
            <a:off x="2704680" y="487620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2590920" y="4648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4343400"/>
            <a:ext cx="137160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0819200">
            <a:off x="4647960" y="5333760"/>
            <a:ext cx="531720" cy="536400"/>
          </a:xfrm>
          <a:custGeom>
            <a:avLst/>
            <a:gdLst>
              <a:gd name="textAreaLeft" fmla="*/ 0 w 531720"/>
              <a:gd name="textAreaRight" fmla="*/ 532080 w 531720"/>
              <a:gd name="textAreaTop" fmla="*/ 0 h 536400"/>
              <a:gd name="textAreaBottom" fmla="*/ 536400 h 536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92040" y="6095880"/>
            <a:ext cx="475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CreateShellFolderView(psf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0" idx="3"/>
            <a:endCxn id="187" idx="1"/>
          </p:cNvCxnSpPr>
          <p:nvPr/>
        </p:nvCxnSpPr>
        <p:spPr>
          <a:xfrm flipV="1">
            <a:off x="3962520" y="4685760"/>
            <a:ext cx="1372320" cy="99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Extended Name Space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20570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SVs can plug-in their own hierarchical name spac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32767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plor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3429000"/>
            <a:ext cx="21337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skto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202" idx="1"/>
            <a:endCxn id="204" idx="3"/>
          </p:cNvCxnSpPr>
          <p:nvPr/>
        </p:nvCxnSpPr>
        <p:spPr>
          <a:xfrm flipH="1">
            <a:off x="4114440" y="3619080"/>
            <a:ext cx="381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3886200" y="3505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2971800"/>
            <a:ext cx="152424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4038480"/>
            <a:ext cx="213336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yComput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6" idx="1"/>
            <a:endCxn id="208" idx="3"/>
          </p:cNvCxnSpPr>
          <p:nvPr/>
        </p:nvCxnSpPr>
        <p:spPr>
          <a:xfrm flipH="1">
            <a:off x="4952160" y="4228920"/>
            <a:ext cx="3819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4724280" y="4114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4572000"/>
            <a:ext cx="21333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etHoo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209" idx="1"/>
            <a:endCxn id="211" idx="3"/>
          </p:cNvCxnSpPr>
          <p:nvPr/>
        </p:nvCxnSpPr>
        <p:spPr>
          <a:xfrm flipH="1">
            <a:off x="4952160" y="4762080"/>
            <a:ext cx="3819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4724280" y="4648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5105520"/>
            <a:ext cx="21337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S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2" idx="1"/>
            <a:endCxn id="214" idx="3"/>
          </p:cNvCxnSpPr>
          <p:nvPr/>
        </p:nvCxnSpPr>
        <p:spPr>
          <a:xfrm flipH="1">
            <a:off x="5790960" y="5295600"/>
            <a:ext cx="381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14" name=""/>
          <p:cNvSpPr/>
          <p:nvPr/>
        </p:nvSpPr>
        <p:spPr>
          <a:xfrm>
            <a:off x="5562720" y="5181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5638680"/>
            <a:ext cx="21337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hen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5" idx="1"/>
            <a:endCxn id="217" idx="3"/>
          </p:cNvCxnSpPr>
          <p:nvPr/>
        </p:nvCxnSpPr>
        <p:spPr>
          <a:xfrm flipH="1">
            <a:off x="5790960" y="5829120"/>
            <a:ext cx="381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5562720" y="5715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6172200"/>
            <a:ext cx="21337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Zip Fold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1"/>
            <a:endCxn id="220" idx="3"/>
          </p:cNvCxnSpPr>
          <p:nvPr/>
        </p:nvCxnSpPr>
        <p:spPr>
          <a:xfrm flipH="1">
            <a:off x="5790960" y="6362280"/>
            <a:ext cx="381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20" name=""/>
          <p:cNvSpPr/>
          <p:nvPr/>
        </p:nvSpPr>
        <p:spPr>
          <a:xfrm>
            <a:off x="5562720" y="6248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105520" y="52959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092200" y="636264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079960" y="5829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5181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6248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nternet Explorer 3.0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1337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31" idx="0"/>
            <a:endCxn id="229" idx="2"/>
          </p:cNvCxnSpPr>
          <p:nvPr/>
        </p:nvCxnSpPr>
        <p:spPr>
          <a:xfrm flipV="1">
            <a:off x="2628720" y="27424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25146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3962520"/>
            <a:ext cx="190476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2" idx="0"/>
            <a:endCxn id="234" idx="2"/>
          </p:cNvCxnSpPr>
          <p:nvPr/>
        </p:nvCxnSpPr>
        <p:spPr>
          <a:xfrm flipV="1">
            <a:off x="1714320" y="365688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1600200" y="3429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2895480"/>
            <a:ext cx="167652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3352680"/>
            <a:ext cx="137160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3962520"/>
            <a:ext cx="190512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0"/>
            <a:endCxn id="239" idx="2"/>
          </p:cNvCxnSpPr>
          <p:nvPr/>
        </p:nvCxnSpPr>
        <p:spPr>
          <a:xfrm flipV="1">
            <a:off x="4076280" y="365688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3962520" y="3429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41" idx="0"/>
            <a:endCxn id="237" idx="2"/>
          </p:cNvCxnSpPr>
          <p:nvPr/>
        </p:nvCxnSpPr>
        <p:spPr>
          <a:xfrm flipV="1">
            <a:off x="4076280" y="457128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3962520" y="48769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67080" y="4724280"/>
            <a:ext cx="243864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Document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5867280"/>
            <a:ext cx="190512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MLOb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0"/>
            <a:endCxn id="245" idx="2"/>
          </p:cNvCxnSpPr>
          <p:nvPr/>
        </p:nvCxnSpPr>
        <p:spPr>
          <a:xfrm flipV="1">
            <a:off x="4076280" y="5562360"/>
            <a:ext cx="1080" cy="305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3962520" y="53341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5257800"/>
            <a:ext cx="19051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Docu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67280" y="2362320"/>
            <a:ext cx="243864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tp://ms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7" idx="1"/>
            <a:endCxn id="249" idx="3"/>
          </p:cNvCxnSpPr>
          <p:nvPr/>
        </p:nvCxnSpPr>
        <p:spPr>
          <a:xfrm flipH="1">
            <a:off x="5257080" y="262872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5029200" y="25146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133720"/>
            <a:ext cx="15238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06680" y="3276720"/>
            <a:ext cx="3585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CreateView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0819200">
            <a:off x="4724280" y="3123360"/>
            <a:ext cx="532080" cy="536760"/>
          </a:xfrm>
          <a:custGeom>
            <a:avLst/>
            <a:gdLst>
              <a:gd name="textAreaLeft" fmla="*/ 0 w 532080"/>
              <a:gd name="textAreaRight" fmla="*/ 532440 w 53208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5867280"/>
            <a:ext cx="190512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ord/Exc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53" idx="0"/>
            <a:endCxn id="255" idx="2"/>
          </p:cNvCxnSpPr>
          <p:nvPr/>
        </p:nvCxnSpPr>
        <p:spPr>
          <a:xfrm flipV="1">
            <a:off x="6438600" y="5562360"/>
            <a:ext cx="1080" cy="305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6324480" y="53341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CShellBrows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ShellBrowser is a mini-Explor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88620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60" idx="0"/>
            <a:endCxn id="258" idx="2"/>
          </p:cNvCxnSpPr>
          <p:nvPr/>
        </p:nvCxnSpPr>
        <p:spPr>
          <a:xfrm flipV="1">
            <a:off x="4000320" y="441900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3886200" y="4648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648320"/>
            <a:ext cx="2819520" cy="1752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mmandTar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ntain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InPlaceUIWindo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3" idx="1"/>
            <a:endCxn id="258" idx="3"/>
          </p:cNvCxnSpPr>
          <p:nvPr/>
        </p:nvCxnSpPr>
        <p:spPr>
          <a:xfrm flipH="1">
            <a:off x="5257080" y="415260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56272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3600" y="3657600"/>
            <a:ext cx="2362320" cy="1752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ispatc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WebBrowserAp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HlinkFra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TargetFra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28954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Base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3505320"/>
            <a:ext cx="4572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70840" y="327672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600200" y="2819520"/>
            <a:ext cx="304812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Wedge”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297180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DocVie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72" idx="0"/>
            <a:endCxn id="274" idx="2"/>
          </p:cNvCxnSpPr>
          <p:nvPr/>
        </p:nvCxnSpPr>
        <p:spPr>
          <a:xfrm flipV="1">
            <a:off x="3161880" y="2361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3048120" y="21337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6" idx="0"/>
            <a:endCxn id="277" idx="2"/>
          </p:cNvCxnSpPr>
          <p:nvPr/>
        </p:nvCxnSpPr>
        <p:spPr>
          <a:xfrm flipV="1">
            <a:off x="3161880" y="449532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3048120" y="5105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4280" y="4495680"/>
            <a:ext cx="2819520" cy="2057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Document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InPlace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mmandTar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erviceProvi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388620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DocObjectHos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3581280"/>
            <a:ext cx="15264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24280" y="2286000"/>
            <a:ext cx="274320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mmandTar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WebBrowserOC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71800" y="3124080"/>
            <a:ext cx="304812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32767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4" idx="0"/>
            <a:endCxn id="286" idx="2"/>
          </p:cNvCxnSpPr>
          <p:nvPr/>
        </p:nvCxnSpPr>
        <p:spPr>
          <a:xfrm flipV="1">
            <a:off x="4533480" y="266652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4419720" y="24382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8" idx="0"/>
            <a:endCxn id="289" idx="2"/>
          </p:cNvCxnSpPr>
          <p:nvPr/>
        </p:nvCxnSpPr>
        <p:spPr>
          <a:xfrm flipV="1">
            <a:off x="4533480" y="479988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4419720" y="54100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41911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S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1752480"/>
            <a:ext cx="2361960" cy="2286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Objec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ViewObject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PersistSreamIni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ntro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Web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5105520"/>
            <a:ext cx="2819520" cy="1752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mmandTar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ntain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InPlaceUIWindo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72200" y="3276720"/>
            <a:ext cx="251460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Base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866920" y="3886200"/>
            <a:ext cx="8384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90360" y="396252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Frame Set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81080" y="3886200"/>
            <a:ext cx="266724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7400" y="396252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299" idx="0"/>
            <a:endCxn id="301" idx="2"/>
          </p:cNvCxnSpPr>
          <p:nvPr/>
        </p:nvCxnSpPr>
        <p:spPr>
          <a:xfrm flipV="1">
            <a:off x="3314520" y="38095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3200400" y="365760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3" idx="0"/>
            <a:endCxn id="304" idx="2"/>
          </p:cNvCxnSpPr>
          <p:nvPr/>
        </p:nvCxnSpPr>
        <p:spPr>
          <a:xfrm flipV="1">
            <a:off x="3314520" y="47239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3200400" y="48769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43434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S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00600" y="3886200"/>
            <a:ext cx="266688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76920" y="396252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6" idx="0"/>
            <a:endCxn id="308" idx="2"/>
          </p:cNvCxnSpPr>
          <p:nvPr/>
        </p:nvCxnSpPr>
        <p:spPr>
          <a:xfrm flipV="1">
            <a:off x="6133680" y="38095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6019920" y="365760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10" idx="0"/>
            <a:endCxn id="311" idx="2"/>
          </p:cNvCxnSpPr>
          <p:nvPr/>
        </p:nvCxnSpPr>
        <p:spPr>
          <a:xfrm flipV="1">
            <a:off x="6133680" y="47239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6019920" y="48769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76920" y="43434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S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29000" y="76212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4" idx="0"/>
            <a:endCxn id="312" idx="2"/>
          </p:cNvCxnSpPr>
          <p:nvPr/>
        </p:nvCxnSpPr>
        <p:spPr>
          <a:xfrm flipV="1">
            <a:off x="4686120" y="11422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4572000" y="1295280"/>
            <a:ext cx="228600" cy="1638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6" idx="0"/>
            <a:endCxn id="317" idx="2"/>
          </p:cNvCxnSpPr>
          <p:nvPr/>
        </p:nvCxnSpPr>
        <p:spPr>
          <a:xfrm flipV="1">
            <a:off x="4686120" y="2580840"/>
            <a:ext cx="1080" cy="162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17" name=""/>
          <p:cNvSpPr/>
          <p:nvPr/>
        </p:nvSpPr>
        <p:spPr>
          <a:xfrm>
            <a:off x="4572000" y="2438280"/>
            <a:ext cx="228600" cy="14292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2895480"/>
            <a:ext cx="144756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20" idx="0"/>
            <a:endCxn id="318" idx="2"/>
          </p:cNvCxnSpPr>
          <p:nvPr/>
        </p:nvCxnSpPr>
        <p:spPr>
          <a:xfrm flipV="1">
            <a:off x="3314520" y="327600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20" name=""/>
          <p:cNvSpPr/>
          <p:nvPr/>
        </p:nvSpPr>
        <p:spPr>
          <a:xfrm>
            <a:off x="3200400" y="3429000"/>
            <a:ext cx="228600" cy="16344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10080" y="2895480"/>
            <a:ext cx="14479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2" name=""/>
          <p:cNvCxnSpPr>
            <a:stCxn id="323" idx="0"/>
            <a:endCxn id="321" idx="2"/>
          </p:cNvCxnSpPr>
          <p:nvPr/>
        </p:nvCxnSpPr>
        <p:spPr>
          <a:xfrm flipV="1">
            <a:off x="6133680" y="327600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6019920" y="3429000"/>
            <a:ext cx="228600" cy="16344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62320" y="6248520"/>
            <a:ext cx="19047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MLOb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4" idx="0"/>
            <a:endCxn id="326" idx="2"/>
          </p:cNvCxnSpPr>
          <p:nvPr/>
        </p:nvCxnSpPr>
        <p:spPr>
          <a:xfrm flipV="1">
            <a:off x="3314520" y="6162480"/>
            <a:ext cx="1080" cy="864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3200400" y="6019920"/>
            <a:ext cx="228600" cy="14292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81480" y="6248520"/>
            <a:ext cx="19051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MLOb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7" idx="0"/>
            <a:endCxn id="329" idx="2"/>
          </p:cNvCxnSpPr>
          <p:nvPr/>
        </p:nvCxnSpPr>
        <p:spPr>
          <a:xfrm flipV="1">
            <a:off x="6133680" y="6162480"/>
            <a:ext cx="1080" cy="864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29" name=""/>
          <p:cNvSpPr/>
          <p:nvPr/>
        </p:nvSpPr>
        <p:spPr>
          <a:xfrm>
            <a:off x="6019920" y="6019920"/>
            <a:ext cx="228600" cy="14292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4600" y="2666880"/>
            <a:ext cx="43434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10280" y="3276720"/>
            <a:ext cx="1524240" cy="304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Client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10280" y="3581280"/>
            <a:ext cx="1219320" cy="30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2743200"/>
            <a:ext cx="19047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Ob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334120"/>
            <a:ext cx="19047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33" idx="0"/>
            <a:endCxn id="335" idx="2"/>
          </p:cNvCxnSpPr>
          <p:nvPr/>
        </p:nvCxnSpPr>
        <p:spPr>
          <a:xfrm flipV="1">
            <a:off x="3314520" y="52578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3200400" y="51055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7" idx="0"/>
            <a:endCxn id="333" idx="2"/>
          </p:cNvCxnSpPr>
          <p:nvPr/>
        </p:nvCxnSpPr>
        <p:spPr>
          <a:xfrm flipV="1">
            <a:off x="3314520" y="57150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3200400" y="57913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5334120"/>
            <a:ext cx="19051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0"/>
            <a:endCxn id="340" idx="2"/>
          </p:cNvCxnSpPr>
          <p:nvPr/>
        </p:nvCxnSpPr>
        <p:spPr>
          <a:xfrm flipV="1">
            <a:off x="6133680" y="52578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6019920" y="51055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2" idx="0"/>
            <a:endCxn id="338" idx="2"/>
          </p:cNvCxnSpPr>
          <p:nvPr/>
        </p:nvCxnSpPr>
        <p:spPr>
          <a:xfrm flipV="1">
            <a:off x="6133680" y="57150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42" name=""/>
          <p:cNvSpPr/>
          <p:nvPr/>
        </p:nvSpPr>
        <p:spPr>
          <a:xfrm>
            <a:off x="6019920" y="57913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2920" y="4876920"/>
            <a:ext cx="1523880" cy="304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162920" y="5181480"/>
            <a:ext cx="1218960" cy="30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1219320"/>
            <a:ext cx="1523880" cy="304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1320" y="1523880"/>
            <a:ext cx="1218960" cy="30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38880" y="5791320"/>
            <a:ext cx="190512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Document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238880" y="6019920"/>
            <a:ext cx="1524240" cy="304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Docu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3920" y="1752480"/>
            <a:ext cx="190476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9" idx="0"/>
            <a:endCxn id="351" idx="2"/>
          </p:cNvCxnSpPr>
          <p:nvPr/>
        </p:nvCxnSpPr>
        <p:spPr>
          <a:xfrm flipV="1">
            <a:off x="4686120" y="16758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51" name=""/>
          <p:cNvSpPr/>
          <p:nvPr/>
        </p:nvSpPr>
        <p:spPr>
          <a:xfrm>
            <a:off x="4572000" y="1523880"/>
            <a:ext cx="228600" cy="15264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3" idx="0"/>
            <a:endCxn id="349" idx="2"/>
          </p:cNvCxnSpPr>
          <p:nvPr/>
        </p:nvCxnSpPr>
        <p:spPr>
          <a:xfrm flipV="1">
            <a:off x="4686120" y="21330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4572000" y="2209680"/>
            <a:ext cx="228600" cy="15264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2057400"/>
            <a:ext cx="190476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Document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2286000"/>
            <a:ext cx="1523880" cy="30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Docu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E 4.0 Explor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198108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E 4.0 Explorer, Folder and Desktop are based on IE 3.0 browser code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8680" y="42670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09880" y="3276720"/>
            <a:ext cx="251460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Base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19920" y="388620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66680" y="365760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4114800"/>
            <a:ext cx="281952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4267080"/>
            <a:ext cx="25146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5181480"/>
            <a:ext cx="25146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S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57400" y="4876920"/>
            <a:ext cx="15228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352680" y="3962520"/>
            <a:ext cx="9144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76920" y="39625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5334120"/>
            <a:ext cx="266724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Desktop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99440" y="426708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00800" y="5334120"/>
            <a:ext cx="251460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ExplorerBrws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10280" y="495288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457040" y="472428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676520" y="5181480"/>
            <a:ext cx="281916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WebBa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ebBar is a dockable browser, which can be docked on a browser or the deskto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28800" y="52578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57150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CHos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828800" y="61722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8" idx="0"/>
            <a:endCxn id="382" idx="2"/>
          </p:cNvCxnSpPr>
          <p:nvPr/>
        </p:nvCxnSpPr>
        <p:spPr>
          <a:xfrm flipV="1">
            <a:off x="3085920" y="487656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82" name=""/>
          <p:cNvSpPr/>
          <p:nvPr/>
        </p:nvSpPr>
        <p:spPr>
          <a:xfrm>
            <a:off x="2971800" y="4648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4572000"/>
            <a:ext cx="228600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ockingWindo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28800" y="32767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Base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86" idx="0"/>
            <a:endCxn id="384" idx="2"/>
          </p:cNvCxnSpPr>
          <p:nvPr/>
        </p:nvCxnSpPr>
        <p:spPr>
          <a:xfrm flipV="1">
            <a:off x="3085920" y="38854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"/>
          <p:cNvSpPr/>
          <p:nvPr/>
        </p:nvSpPr>
        <p:spPr>
          <a:xfrm>
            <a:off x="2971800" y="4114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4038480"/>
            <a:ext cx="251460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ockingWindow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5880" y="33526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19720" y="36576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7880" y="320040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5880" y="40384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DesktopBrws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19720" y="3733920"/>
            <a:ext cx="1523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Scope of this present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vered in this present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rowser, Shell Explorer, WebBar, Asynchronos Navigation, UI negoti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ot cover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bView, Automation Model, Desktop New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7772400" y="228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op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Layout Negoti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Effective Client Area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24040" y="2352600"/>
            <a:ext cx="5905440" cy="40291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28800" y="4114800"/>
            <a:ext cx="563868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ffective Client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BaseBrowser::_GetEffectiveClient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ockingWindowSite::GetBorderDW for the internet toolbar returns this rectang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78040" y="2413080"/>
            <a:ext cx="5803920" cy="698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25909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net toolbar takes this border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STBS::GetBorderST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724040" y="3127320"/>
            <a:ext cx="5905440" cy="325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350532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ockingWindowSite::GetBorderDW for the scope pane returns this rectang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65440" y="3403440"/>
            <a:ext cx="1536480" cy="29084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487692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scope pane takes the border space from left and top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2362320" y="4648320"/>
            <a:ext cx="12189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765440" y="3162240"/>
            <a:ext cx="5816520" cy="203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2895120" y="3276720"/>
            <a:ext cx="762120" cy="167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Shell View Rectangle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400560" y="3305160"/>
            <a:ext cx="4228920" cy="30765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81280" y="4343400"/>
            <a:ext cx="396252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BaseBrowser::_GetView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OleInPlaceUIWindow::GetBorder returns this rectang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429000" y="3340080"/>
            <a:ext cx="41655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67080" y="38862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cel’s formular b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3886200" y="3429000"/>
            <a:ext cx="3808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Shell View Window Rectangle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400560" y="3508200"/>
            <a:ext cx="4228920" cy="287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4343400"/>
            <a:ext cx="388620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BaseBrowser::_GetViewWindow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OleDocumentView::SetRect will be called with this rectang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synchronous Navig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133720"/>
            <a:ext cx="2514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342900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0"/>
            <a:endCxn id="431" idx="2"/>
          </p:cNvCxnSpPr>
          <p:nvPr/>
        </p:nvCxnSpPr>
        <p:spPr>
          <a:xfrm flipV="1">
            <a:off x="1942920" y="31996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18288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28800" y="4343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8" idx="2"/>
            <a:endCxn id="431" idx="0"/>
          </p:cNvCxnSpPr>
          <p:nvPr/>
        </p:nvCxnSpPr>
        <p:spPr>
          <a:xfrm>
            <a:off x="1942920" y="2590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1068120" y="2666880"/>
            <a:ext cx="75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98360" y="5029200"/>
            <a:ext cx="604980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. IHlinkFrame::Navigate calle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. Create a new Wedge (Wedge2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. Create URL moniker and call BindToObjec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Note that HTMLView1 remains UIActiv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9160" y="335268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36" idx="0"/>
            <a:endCxn id="438" idx="2"/>
          </p:cNvCxnSpPr>
          <p:nvPr/>
        </p:nvCxnSpPr>
        <p:spPr>
          <a:xfrm flipV="1">
            <a:off x="4041360" y="31996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38" name=""/>
          <p:cNvSpPr/>
          <p:nvPr/>
        </p:nvSpPr>
        <p:spPr>
          <a:xfrm>
            <a:off x="39276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endCxn id="438" idx="1"/>
          </p:cNvCxnSpPr>
          <p:nvPr/>
        </p:nvCxnSpPr>
        <p:spPr>
          <a:xfrm>
            <a:off x="3013200" y="2590920"/>
            <a:ext cx="915120" cy="49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2084400" y="2590920"/>
            <a:ext cx="18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Pend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1676520"/>
            <a:ext cx="533520" cy="5331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3920" y="1676520"/>
            <a:ext cx="38088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384800" y="2819520"/>
            <a:ext cx="38088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56200" y="4419720"/>
            <a:ext cx="20574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RL monik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0"/>
            <a:endCxn id="446" idx="2"/>
          </p:cNvCxnSpPr>
          <p:nvPr/>
        </p:nvCxnSpPr>
        <p:spPr>
          <a:xfrm flipV="1">
            <a:off x="5184360" y="42667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46" name=""/>
          <p:cNvSpPr/>
          <p:nvPr/>
        </p:nvSpPr>
        <p:spPr>
          <a:xfrm>
            <a:off x="507060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527800" y="3886200"/>
            <a:ext cx="38088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48" name=""/>
          <p:cNvCxnSpPr>
            <a:stCxn id="436" idx="2"/>
            <a:endCxn id="446" idx="1"/>
          </p:cNvCxnSpPr>
          <p:nvPr/>
        </p:nvCxnSpPr>
        <p:spPr>
          <a:xfrm>
            <a:off x="4041720" y="3809520"/>
            <a:ext cx="1029600" cy="34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29" idx="2"/>
            <a:endCxn id="432" idx="0"/>
          </p:cNvCxnSpPr>
          <p:nvPr/>
        </p:nvCxnSpPr>
        <p:spPr>
          <a:xfrm>
            <a:off x="1942920" y="38862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990720" y="487692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32" idx="2"/>
            <a:endCxn id="450" idx="0"/>
          </p:cNvCxnSpPr>
          <p:nvPr/>
        </p:nvCxnSpPr>
        <p:spPr>
          <a:xfrm>
            <a:off x="1942920" y="45716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synchronous Navig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9480" y="2133720"/>
            <a:ext cx="2514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14400" y="342900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56" name=""/>
          <p:cNvCxnSpPr>
            <a:stCxn id="455" idx="0"/>
            <a:endCxn id="457" idx="2"/>
          </p:cNvCxnSpPr>
          <p:nvPr/>
        </p:nvCxnSpPr>
        <p:spPr>
          <a:xfrm flipV="1">
            <a:off x="1866600" y="31996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57" name=""/>
          <p:cNvSpPr/>
          <p:nvPr/>
        </p:nvSpPr>
        <p:spPr>
          <a:xfrm>
            <a:off x="175248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52480" y="4343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4" idx="2"/>
            <a:endCxn id="457" idx="0"/>
          </p:cNvCxnSpPr>
          <p:nvPr/>
        </p:nvCxnSpPr>
        <p:spPr>
          <a:xfrm>
            <a:off x="1866600" y="2590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>
            <a:off x="915840" y="2590920"/>
            <a:ext cx="75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28160" y="5029200"/>
            <a:ext cx="623268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4. Moniker sends a HTTP request to the serv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5. Server respond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6. Moniker create another HTML 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Note that HTMLView1 is still UIActiv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13200" y="335268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2" idx="0"/>
            <a:endCxn id="464" idx="2"/>
          </p:cNvCxnSpPr>
          <p:nvPr/>
        </p:nvCxnSpPr>
        <p:spPr>
          <a:xfrm flipV="1">
            <a:off x="3965040" y="31996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85128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endCxn id="464" idx="1"/>
          </p:cNvCxnSpPr>
          <p:nvPr/>
        </p:nvCxnSpPr>
        <p:spPr>
          <a:xfrm>
            <a:off x="2936880" y="2590920"/>
            <a:ext cx="915120" cy="49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66" name=""/>
          <p:cNvSpPr/>
          <p:nvPr/>
        </p:nvSpPr>
        <p:spPr>
          <a:xfrm>
            <a:off x="2084400" y="2666880"/>
            <a:ext cx="18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Pend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15200" y="4724280"/>
            <a:ext cx="380880" cy="3812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10080" y="3200400"/>
            <a:ext cx="38124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79880" y="4419720"/>
            <a:ext cx="20574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RL monik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9" idx="0"/>
            <a:endCxn id="471" idx="2"/>
          </p:cNvCxnSpPr>
          <p:nvPr/>
        </p:nvCxnSpPr>
        <p:spPr>
          <a:xfrm flipV="1">
            <a:off x="5108040" y="42667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71" name=""/>
          <p:cNvSpPr/>
          <p:nvPr/>
        </p:nvSpPr>
        <p:spPr>
          <a:xfrm>
            <a:off x="499428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924680" y="3962520"/>
            <a:ext cx="38124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62" idx="2"/>
            <a:endCxn id="471" idx="1"/>
          </p:cNvCxnSpPr>
          <p:nvPr/>
        </p:nvCxnSpPr>
        <p:spPr>
          <a:xfrm>
            <a:off x="3965400" y="3809520"/>
            <a:ext cx="1029600" cy="34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4" name=""/>
          <p:cNvCxnSpPr>
            <a:stCxn id="455" idx="2"/>
            <a:endCxn id="458" idx="0"/>
          </p:cNvCxnSpPr>
          <p:nvPr/>
        </p:nvCxnSpPr>
        <p:spPr>
          <a:xfrm>
            <a:off x="1866600" y="38862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914400" y="487692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58" idx="2"/>
            <a:endCxn id="475" idx="0"/>
          </p:cNvCxnSpPr>
          <p:nvPr/>
        </p:nvCxnSpPr>
        <p:spPr>
          <a:xfrm>
            <a:off x="1866600" y="45716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77" name=""/>
          <p:cNvSpPr/>
          <p:nvPr/>
        </p:nvSpPr>
        <p:spPr>
          <a:xfrm>
            <a:off x="6324480" y="46483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6324120" y="44197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162920" y="27432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24480" y="327672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79" idx="2"/>
            <a:endCxn id="480" idx="0"/>
          </p:cNvCxnSpPr>
          <p:nvPr/>
        </p:nvCxnSpPr>
        <p:spPr>
          <a:xfrm>
            <a:off x="7276680" y="29714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82" name=""/>
          <p:cNvSpPr/>
          <p:nvPr/>
        </p:nvSpPr>
        <p:spPr>
          <a:xfrm rot="21537600">
            <a:off x="5638680" y="3505320"/>
            <a:ext cx="532080" cy="536400"/>
          </a:xfrm>
          <a:custGeom>
            <a:avLst/>
            <a:gdLst>
              <a:gd name="textAreaLeft" fmla="*/ 0 w 532080"/>
              <a:gd name="textAreaRight" fmla="*/ 532440 w 532080"/>
              <a:gd name="textAreaTop" fmla="*/ 0 h 536400"/>
              <a:gd name="textAreaBottom" fmla="*/ 536400 h 536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synchronous Navig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2133720"/>
            <a:ext cx="2514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342900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6" idx="0"/>
            <a:endCxn id="488" idx="2"/>
          </p:cNvCxnSpPr>
          <p:nvPr/>
        </p:nvCxnSpPr>
        <p:spPr>
          <a:xfrm flipV="1">
            <a:off x="1942920" y="31996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18288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28800" y="4343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0" name=""/>
          <p:cNvCxnSpPr>
            <a:stCxn id="485" idx="2"/>
            <a:endCxn id="488" idx="0"/>
          </p:cNvCxnSpPr>
          <p:nvPr/>
        </p:nvCxnSpPr>
        <p:spPr>
          <a:xfrm>
            <a:off x="1942920" y="2590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992160" y="2666880"/>
            <a:ext cx="75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84680" y="5029200"/>
            <a:ext cx="588672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7. Moniker calls Wedge’s OnObjectAvail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8. Wedge2 gets the pointer to HTML 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9. Wedge2 notifies it to the 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Note that HTMLView1 is 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still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UIActiv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89160" y="335268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4" name=""/>
          <p:cNvCxnSpPr>
            <a:stCxn id="493" idx="0"/>
            <a:endCxn id="495" idx="2"/>
          </p:cNvCxnSpPr>
          <p:nvPr/>
        </p:nvCxnSpPr>
        <p:spPr>
          <a:xfrm flipV="1">
            <a:off x="4041360" y="31996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95" name=""/>
          <p:cNvSpPr/>
          <p:nvPr/>
        </p:nvSpPr>
        <p:spPr>
          <a:xfrm>
            <a:off x="39276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endCxn id="495" idx="1"/>
          </p:cNvCxnSpPr>
          <p:nvPr/>
        </p:nvCxnSpPr>
        <p:spPr>
          <a:xfrm>
            <a:off x="3013200" y="2590920"/>
            <a:ext cx="915120" cy="49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97" name=""/>
          <p:cNvSpPr/>
          <p:nvPr/>
        </p:nvSpPr>
        <p:spPr>
          <a:xfrm>
            <a:off x="2160360" y="2590920"/>
            <a:ext cx="18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Pend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29200" y="3809880"/>
            <a:ext cx="380880" cy="3812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67280" y="3429000"/>
            <a:ext cx="38124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52680" y="4419720"/>
            <a:ext cx="20574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RL monik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500" idx="0"/>
            <a:endCxn id="502" idx="2"/>
          </p:cNvCxnSpPr>
          <p:nvPr/>
        </p:nvCxnSpPr>
        <p:spPr>
          <a:xfrm flipV="1">
            <a:off x="4381200" y="42667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426708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493" idx="2"/>
            <a:endCxn id="502" idx="1"/>
          </p:cNvCxnSpPr>
          <p:nvPr/>
        </p:nvCxnSpPr>
        <p:spPr>
          <a:xfrm>
            <a:off x="4041720" y="3809520"/>
            <a:ext cx="226080" cy="34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486" idx="2"/>
            <a:endCxn id="489" idx="0"/>
          </p:cNvCxnSpPr>
          <p:nvPr/>
        </p:nvCxnSpPr>
        <p:spPr>
          <a:xfrm>
            <a:off x="1942920" y="38862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990720" y="487692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stCxn id="489" idx="2"/>
            <a:endCxn id="505" idx="0"/>
          </p:cNvCxnSpPr>
          <p:nvPr/>
        </p:nvCxnSpPr>
        <p:spPr>
          <a:xfrm>
            <a:off x="1942920" y="45716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07" name=""/>
          <p:cNvSpPr/>
          <p:nvPr/>
        </p:nvSpPr>
        <p:spPr>
          <a:xfrm>
            <a:off x="6477120" y="38862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38680" y="441972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507" idx="2"/>
            <a:endCxn id="508" idx="0"/>
          </p:cNvCxnSpPr>
          <p:nvPr/>
        </p:nvCxnSpPr>
        <p:spPr>
          <a:xfrm>
            <a:off x="6590880" y="41144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10" name=""/>
          <p:cNvCxnSpPr>
            <a:stCxn id="493" idx="3"/>
            <a:endCxn id="507" idx="1"/>
          </p:cNvCxnSpPr>
          <p:nvPr/>
        </p:nvCxnSpPr>
        <p:spPr>
          <a:xfrm>
            <a:off x="4993920" y="3580920"/>
            <a:ext cx="1483560" cy="420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11" name=""/>
          <p:cNvSpPr/>
          <p:nvPr/>
        </p:nvSpPr>
        <p:spPr>
          <a:xfrm>
            <a:off x="4800600" y="2743200"/>
            <a:ext cx="38088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4343040" y="26665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571640" y="28195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4" name=""/>
          <p:cNvCxnSpPr>
            <a:stCxn id="512" idx="0"/>
            <a:endCxn id="513" idx="0"/>
          </p:cNvCxnSpPr>
          <p:nvPr/>
        </p:nvCxnSpPr>
        <p:spPr>
          <a:xfrm flipV="1">
            <a:off x="4495680" y="281880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15" name=""/>
          <p:cNvSpPr/>
          <p:nvPr/>
        </p:nvSpPr>
        <p:spPr>
          <a:xfrm flipH="1" flipV="1">
            <a:off x="4647960" y="38095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876560" y="39625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7" name=""/>
          <p:cNvCxnSpPr>
            <a:stCxn id="515" idx="0"/>
            <a:endCxn id="516" idx="0"/>
          </p:cNvCxnSpPr>
          <p:nvPr/>
        </p:nvCxnSpPr>
        <p:spPr>
          <a:xfrm flipV="1">
            <a:off x="4800600" y="396180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synchronous Navig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1752480" y="2133720"/>
            <a:ext cx="2514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3520" y="380988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20" idx="0"/>
            <a:endCxn id="522" idx="2"/>
          </p:cNvCxnSpPr>
          <p:nvPr/>
        </p:nvCxnSpPr>
        <p:spPr>
          <a:xfrm flipV="1">
            <a:off x="1485720" y="358056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1371600" y="33526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371600" y="47242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12760" y="5029200"/>
            <a:ext cx="583308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0. Deactivate and release the current 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1. Activate the Wedge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2. UIActivate HTMLView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89160" y="335268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525" idx="0"/>
            <a:endCxn id="527" idx="2"/>
          </p:cNvCxnSpPr>
          <p:nvPr/>
        </p:nvCxnSpPr>
        <p:spPr>
          <a:xfrm flipV="1">
            <a:off x="4041360" y="31996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27" name=""/>
          <p:cNvSpPr/>
          <p:nvPr/>
        </p:nvSpPr>
        <p:spPr>
          <a:xfrm>
            <a:off x="39276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8" name=""/>
          <p:cNvCxnSpPr>
            <a:endCxn id="527" idx="1"/>
          </p:cNvCxnSpPr>
          <p:nvPr/>
        </p:nvCxnSpPr>
        <p:spPr>
          <a:xfrm>
            <a:off x="3013200" y="2590920"/>
            <a:ext cx="915120" cy="49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29" name=""/>
          <p:cNvSpPr/>
          <p:nvPr/>
        </p:nvSpPr>
        <p:spPr>
          <a:xfrm>
            <a:off x="2592360" y="2666880"/>
            <a:ext cx="75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2438280"/>
            <a:ext cx="380880" cy="3812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334120" y="3581280"/>
            <a:ext cx="380880" cy="3812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2" name=""/>
          <p:cNvCxnSpPr>
            <a:stCxn id="520" idx="2"/>
            <a:endCxn id="523" idx="0"/>
          </p:cNvCxnSpPr>
          <p:nvPr/>
        </p:nvCxnSpPr>
        <p:spPr>
          <a:xfrm>
            <a:off x="1485720" y="426708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533520" y="525780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23" idx="2"/>
            <a:endCxn id="533" idx="0"/>
          </p:cNvCxnSpPr>
          <p:nvPr/>
        </p:nvCxnSpPr>
        <p:spPr>
          <a:xfrm>
            <a:off x="1485720" y="495252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35" name=""/>
          <p:cNvSpPr/>
          <p:nvPr/>
        </p:nvSpPr>
        <p:spPr>
          <a:xfrm>
            <a:off x="487692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457200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7" name=""/>
          <p:cNvCxnSpPr>
            <a:stCxn id="535" idx="2"/>
            <a:endCxn id="536" idx="0"/>
          </p:cNvCxnSpPr>
          <p:nvPr/>
        </p:nvCxnSpPr>
        <p:spPr>
          <a:xfrm>
            <a:off x="4990680" y="426672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38" name=""/>
          <p:cNvCxnSpPr>
            <a:stCxn id="525" idx="2"/>
            <a:endCxn id="535" idx="1"/>
          </p:cNvCxnSpPr>
          <p:nvPr/>
        </p:nvCxnSpPr>
        <p:spPr>
          <a:xfrm>
            <a:off x="4041720" y="3809520"/>
            <a:ext cx="835920" cy="34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1295280" y="2743200"/>
            <a:ext cx="38124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4190760" y="26665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 flipV="1">
            <a:off x="4419360" y="28195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41" idx="0"/>
            <a:endCxn id="542" idx="0"/>
          </p:cNvCxnSpPr>
          <p:nvPr/>
        </p:nvCxnSpPr>
        <p:spPr>
          <a:xfrm flipV="1">
            <a:off x="4343400" y="281880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44" name=""/>
          <p:cNvSpPr/>
          <p:nvPr/>
        </p:nvSpPr>
        <p:spPr>
          <a:xfrm flipH="1" flipV="1">
            <a:off x="5181480" y="396252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410080" y="411480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46" name=""/>
          <p:cNvCxnSpPr>
            <a:stCxn id="544" idx="0"/>
            <a:endCxn id="545" idx="0"/>
          </p:cNvCxnSpPr>
          <p:nvPr/>
        </p:nvCxnSpPr>
        <p:spPr>
          <a:xfrm flipV="1">
            <a:off x="5333760" y="411408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47" name=""/>
          <p:cNvSpPr/>
          <p:nvPr/>
        </p:nvSpPr>
        <p:spPr>
          <a:xfrm flipV="1">
            <a:off x="1828800" y="2819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1905120" y="3048120"/>
            <a:ext cx="15228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7" idx="0"/>
            <a:endCxn id="548" idx="0"/>
          </p:cNvCxnSpPr>
          <p:nvPr/>
        </p:nvCxnSpPr>
        <p:spPr>
          <a:xfrm flipV="1">
            <a:off x="1828440" y="3047400"/>
            <a:ext cx="2278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609480" y="3352680"/>
            <a:ext cx="1905120" cy="2743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533160" y="3352680"/>
            <a:ext cx="1904760" cy="28195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ttp://ohserv/users/saton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t\private\shell\docs (\\trango\slmadd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3564000"/>
            <a:ext cx="4114800" cy="4132080"/>
          </a:xfrm>
          <a:prstGeom prst="diamond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   </a:t>
            </a: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SHIP IT!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Garamond"/>
              </a:rPr>
              <a:t>Robust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Garamond"/>
              </a:rPr>
              <a:t>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Garamond"/>
              </a:rPr>
              <a:t>Bug fix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Browser Evolu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Win95 Explorer works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ll Namespace, IShellFolder, pidl, IShellView, IShellBrows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IE 3.0 browser work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cO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IE 4.0 browser work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B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228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op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dvanced topics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ayout negotiation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asynchronous navigation work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228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op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Shell Name Space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hell NameSpac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ierarchical name space, which the user can browse with the Shell Explor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hell Ite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tems in the shell name space -- drives, files, directories, servers, shares, MyComputer, ControlPanel, ControlPanel items, Printer Folder, Printer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ShellFold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905120"/>
            <a:ext cx="251460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plor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1905120"/>
            <a:ext cx="213336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ell Fold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1"/>
            <a:endCxn id="109" idx="3"/>
          </p:cNvCxnSpPr>
          <p:nvPr/>
        </p:nvCxnSpPr>
        <p:spPr>
          <a:xfrm flipH="1">
            <a:off x="4723920" y="2323800"/>
            <a:ext cx="610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4495680" y="22096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1676520"/>
            <a:ext cx="15238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3048120"/>
            <a:ext cx="7696080" cy="39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hellFolder allows you to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numerate items in it (returns pidl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arse display name (name to pidl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t display name (pidl to name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ind to an i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t UI objects (menu, drop target, …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What is a “pidl”? 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752480"/>
            <a:ext cx="76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n identifier of an item in the shell name space.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2971800"/>
            <a:ext cx="76176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2971800"/>
            <a:ext cx="22100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paque b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99760" y="2895480"/>
            <a:ext cx="174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ITEMI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3581280"/>
            <a:ext cx="17524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HITEMID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09120" y="3505320"/>
            <a:ext cx="90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ID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581280"/>
            <a:ext cx="17524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HITEMID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3581280"/>
            <a:ext cx="1371600" cy="3812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3581280"/>
            <a:ext cx="60984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76680" y="4343400"/>
            <a:ext cx="480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 pidl to “C:\tmp\foo.htm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4952880"/>
            <a:ext cx="60948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4952880"/>
            <a:ext cx="16765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yCompu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952880"/>
            <a:ext cx="60948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4952880"/>
            <a:ext cx="60984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:\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4952880"/>
            <a:ext cx="60948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4952880"/>
            <a:ext cx="6094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m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952880"/>
            <a:ext cx="60984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4952880"/>
            <a:ext cx="121896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o.ht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53280" y="4952880"/>
            <a:ext cx="60984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41680" y="5791320"/>
            <a:ext cx="6189840" cy="550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member that pidls are opaque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Binding to IShellFold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84400" y="3352680"/>
            <a:ext cx="292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BindTo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429000"/>
            <a:ext cx="6094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3429000"/>
            <a:ext cx="16765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yCompu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4876920"/>
            <a:ext cx="60984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4876920"/>
            <a:ext cx="6094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:\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876920"/>
            <a:ext cx="6094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4876920"/>
            <a:ext cx="6098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m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4876920"/>
            <a:ext cx="6094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2666880"/>
            <a:ext cx="213336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skto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1"/>
            <a:endCxn id="147" idx="3"/>
          </p:cNvCxnSpPr>
          <p:nvPr/>
        </p:nvCxnSpPr>
        <p:spPr>
          <a:xfrm flipH="1">
            <a:off x="2437920" y="2933280"/>
            <a:ext cx="610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2209680" y="2819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2362320"/>
            <a:ext cx="152424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rot="10819800">
            <a:off x="1749960" y="4038120"/>
            <a:ext cx="533520" cy="536760"/>
          </a:xfrm>
          <a:custGeom>
            <a:avLst/>
            <a:gdLst>
              <a:gd name="textAreaLeft" fmla="*/ 360 w 533520"/>
              <a:gd name="textAreaRight" fmla="*/ 534240 w 5335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4191120"/>
            <a:ext cx="213372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yComput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2" idx="3"/>
          </p:cNvCxnSpPr>
          <p:nvPr/>
        </p:nvCxnSpPr>
        <p:spPr>
          <a:xfrm flipH="1">
            <a:off x="3047400" y="445752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2819520" y="4343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3886200"/>
            <a:ext cx="152424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4240" y="4800600"/>
            <a:ext cx="292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BindTo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5715000"/>
            <a:ext cx="213372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5" idx="1"/>
            <a:endCxn id="157" idx="3"/>
          </p:cNvCxnSpPr>
          <p:nvPr/>
        </p:nvCxnSpPr>
        <p:spPr>
          <a:xfrm flipH="1">
            <a:off x="3656880" y="598140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3429000" y="58672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5410080"/>
            <a:ext cx="152388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99440" y="1828800"/>
            <a:ext cx="34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GetDesktopFold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rot="10819800">
            <a:off x="2361600" y="5562720"/>
            <a:ext cx="533160" cy="5364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536400"/>
              <a:gd name="textAreaBottom" fmla="*/ 536400 h 536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3429000"/>
            <a:ext cx="6094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ShellBrowser / IShellView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362320"/>
            <a:ext cx="243828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 (folder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4" idx="1"/>
            <a:endCxn id="166" idx="3"/>
          </p:cNvCxnSpPr>
          <p:nvPr/>
        </p:nvCxnSpPr>
        <p:spPr>
          <a:xfrm flipH="1">
            <a:off x="5790600" y="262872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5562720" y="25146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2133720"/>
            <a:ext cx="15238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58960" y="3429000"/>
            <a:ext cx="3585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CreateView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1905120"/>
            <a:ext cx="251460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xplor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71" idx="0"/>
            <a:endCxn id="169" idx="2"/>
          </p:cNvCxnSpPr>
          <p:nvPr/>
        </p:nvCxnSpPr>
        <p:spPr>
          <a:xfrm flipV="1">
            <a:off x="3085920" y="274284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2971800" y="3200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4724280"/>
            <a:ext cx="251460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 (view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2" idx="0"/>
            <a:endCxn id="174" idx="2"/>
          </p:cNvCxnSpPr>
          <p:nvPr/>
        </p:nvCxnSpPr>
        <p:spPr>
          <a:xfrm flipV="1">
            <a:off x="3085920" y="419040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2971800" y="3962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3200400"/>
            <a:ext cx="16765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4114800"/>
            <a:ext cx="137160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0819200">
            <a:off x="4876560" y="3580560"/>
            <a:ext cx="531720" cy="536760"/>
          </a:xfrm>
          <a:custGeom>
            <a:avLst/>
            <a:gdLst>
              <a:gd name="textAreaLeft" fmla="*/ 0 w 531720"/>
              <a:gd name="textAreaRight" fmla="*/ 532080 w 5317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8T00:46:50Z</dcterms:created>
  <dc:creator>Satoshi Nakajima</dc:creator>
  <dc:description/>
  <dc:language>en-US</dc:language>
  <cp:lastModifiedBy>Chris Guzak</cp:lastModifiedBy>
  <cp:lastPrinted>1996-11-08T18:59:09Z</cp:lastPrinted>
  <dcterms:modified xsi:type="dcterms:W3CDTF">1997-07-10T18:17:05Z</dcterms:modified>
  <cp:revision>28</cp:revision>
  <dc:subject/>
  <dc:title>IE 4.0 Shell Architecture</dc:title>
</cp:coreProperties>
</file>