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839325" cy="73961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552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928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176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552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928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1760" y="294840"/>
            <a:ext cx="885456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759720" y="6665760"/>
            <a:ext cx="269892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Microsoft Company Conf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819000" y="6667560"/>
            <a:ext cx="19044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35AB1ADE-C3DF-4FF4-A64B-3B428A0BBC03}" type="datetime">
              <a:rPr b="1" lang="en-US" sz="12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123920" y="550800"/>
            <a:ext cx="10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81160" y="1943280"/>
            <a:ext cx="807732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28880" y="1638360"/>
            <a:ext cx="7924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Win32 presents a DOS like high level filesystem API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Ope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Read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GetFile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se Win32 APIs are in turn based on NT I/O system 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reat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Read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QueryInformatio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71680" y="1104840"/>
            <a:ext cx="861048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Win32 API will call one or more NT I/O system A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Win32 ReadFile API ca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Read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Win32 DeleteFile API ca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Ope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SetInformationFile (to set "FileDispositionInformation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Win32 OpenFile API calls several APIs, inclu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Ope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QueryInformationFile (to query "FileBasicInformation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76240" y="11048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interface between the NT I/O system and NT drivers and file systems is the IoCallDriver API.  The IoCallDriver API takes an IoRequestPacket (IRP) as one of its para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IRP contains all the information to implement a particular NT I/O system A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re is no difference between an NT file system and an NT device driver to the NT I/O system.  All drivers and file systems share a common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major NT I/O system API maps onto a single IRP, however some related APIs are mapped to common IR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ReadFile maps to IRP_MJ_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reateFile and NtOpenFile both map to IRP_MJ_CRE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LockFile and NtUnlockFile both map to IRP_MJ_LOCK_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23960" y="1181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Irp contains one or more Irp Stack Locations (IrpSp'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drivers or file systems can use other stack locations in the IRP to pass requests to lower level dri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IrpSp contains information about the particular NT API being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READ contains the ByteOffset, Length, and "Key" for the read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REATE contains the DesiredAccess, ShareAccess, and Initial allocation for the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7640" y="1924200"/>
            <a:ext cx="868680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659040" y="550800"/>
            <a:ext cx="26640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mportant IRP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23960" y="1990800"/>
            <a:ext cx="8534520" cy="37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886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se are the most important NT I/O system IR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REATE - Called whenever a file object is cre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READ/IRP_MJ_WRITE - Called to Read or Write data to a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LEANUP - Called when the last handle open on a file object is clo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LOSE - Called when the last reference to a file object is removed.  </a:t>
            </a:r>
            <a:r>
              <a:rPr b="1" i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ote that this is NOT necessarily the same time that the user closes the file.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476520" y="396720"/>
            <a:ext cx="301932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Object N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7640" y="1236600"/>
            <a:ext cx="86868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ll NT objects lie in the NT name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NT name space is hierarchical, and all NT devices begin at the special nod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n Nt network file system appears to be just another NT device, typically NT network file systems are called something l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Device\NetworkRe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Remote files are presented to the file system relative to the base of the file system device name.  Thus the application would op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Device\NetworkRedirector\RemoteResource\Fi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file system would see an IRP_MJ_CREATE IRP containing a file object with the n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RemoteResource\Fi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22560" y="549360"/>
            <a:ext cx="3929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Drive mapping in Win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47640" y="125748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Drive mapping in Win32 is performed via NT's Symbolic Link cap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Local drives are simply symbolic links to other locations in the NT name hierarch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establishes drive mappings for the default NT devi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Floppy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C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HardDisk0\Partiti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LPT1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Parallel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o map a local Win32 drive to a network drive, all a network providers WNetAddConnection API has to do is to use the Native NT API's to create a Symbolic Link that maps the specified local drive to a point inside the network file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Q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NetworkRedirector\Remote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7640" y="1495440"/>
            <a:ext cx="8686800" cy="46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81600" y="549360"/>
            <a:ext cx="20098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09760" y="1028880"/>
            <a:ext cx="7696080" cy="3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81160" y="1789200"/>
            <a:ext cx="84582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Security is imbedded in the NT kern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NT security model allows for replaceable "Authentication Packages" that are used to provide domain wide authent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uthentication packages run in USER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Mechanisms are provided for network file systems  components to call authentication packages to determine user credentials or security challenge/response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default NT authentication package (MSV1_0) implements Lan Manager style challenge/response authent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