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F27B73-9B90-4598-85E9-1D507BE4A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ing shadowed boxes with PowerPoint is easy.  Simply use the Rectangle tool to draw the box and then choose Shadowed from the Draw 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delete this word processing box before using this template for your own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1438200"/>
            <a:ext cx="8839080" cy="5238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23960" y="6737400"/>
            <a:ext cx="17733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82200" y="6737400"/>
            <a:ext cx="33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428E74C3-56ED-4F52-A098-3A70B0961796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295200"/>
            <a:ext cx="883908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09760" y="1438200"/>
            <a:ext cx="30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5360" y="600120"/>
            <a:ext cx="8839080" cy="6076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862520" y="968400"/>
            <a:ext cx="1047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47840" y="2124000"/>
            <a:ext cx="5257800" cy="153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on Windows on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96160" y="56293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915240" y="5616720"/>
            <a:ext cx="19764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on Sha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636560" y="460440"/>
            <a:ext cx="6134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1: 16 bit non-PM AP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86080" y="1895400"/>
            <a:ext cx="609588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16bit OS2 1.X , non-PM (VIO) apps, inside a character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 (in addition to general restrictions):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that can run: WORD5.5, Paradox, Rbase, PWB, 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103400" y="460440"/>
            <a:ext cx="7947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: PM in a separate screen grou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62040" y="1514520"/>
            <a:ext cx="6095880" cy="41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'Frame for PM applications' - not a system of it's own - no separate PM file manager, print manager, control panel etc. Support 16bit and 32bit clean PM bin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(in addition to general restrictions): Clipboard, DDE between PM apps and Windows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that can run: PM-WORD, PM-EXCEL, 123G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636560" y="460440"/>
            <a:ext cx="6627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3: PM/WIN share the g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86080" y="1895400"/>
            <a:ext cx="6095880" cy="24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2 and Windows app sharing the glass and communicating with each other. Clean PM apps unmodified (bina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(in addition to general restrictions):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865160" y="460440"/>
            <a:ext cx="5405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1: Work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66680" y="1587600"/>
            <a:ext cx="8128080" cy="332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ly code complete. See sche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 to be d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LS+DBCS, map on Uni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LM support (NetBios, Mailslot, NetAP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ter mapping to Win/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s 100% of the relevant os/2 1.21 component t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865160" y="460440"/>
            <a:ext cx="5164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: Work 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400" y="1434960"/>
            <a:ext cx="7442280" cy="66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level design is d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Win32 GDI/USER and NT kernel hoo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PM "takeover" by hotk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 role-over of development staff April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y 16b PM code to be "cleaner" (CLI, IOP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hooks with WIN32 for clean stwit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private base API to support loading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b 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Configuration APIs (os2sys.ini, os2.i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with Spooler, Sh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865160" y="460440"/>
            <a:ext cx="5164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3: Work 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43000" y="1739880"/>
            <a:ext cx="7647120" cy="45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 not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nd implement hooks to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WIN on top of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mplement PM frame windows as WIN32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DE, Clipboard, metafile trans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from Win/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 /INPUT hook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gnize PM-flav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, pass input to PM for th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manager to include PM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Statement of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86080" y="1895400"/>
            <a:ext cx="6095880" cy="45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 corporate customers developing OS/2 and PM applications to run those applications under WIN32/NT, in the same screen group as native WIN32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so by only placing 'reasonable' restrictions on both 16 and 32 bit applic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that satisfy restrictions will run binary on X86 platform. Recompile 32 bit apps for RIS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941480" y="536400"/>
            <a:ext cx="6572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ions on OS2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14680" y="1743120"/>
            <a:ext cx="6095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mixed 16/32 bi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direct HW manip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ort private device driv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No ring 2 code -&gt; no IOPL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No access to physical video buffer.          VIO apps run inside a character wind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86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560600" y="231840"/>
            <a:ext cx="50418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/NT Block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1680" y="3876840"/>
            <a:ext cx="48006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680" y="1438200"/>
            <a:ext cx="1905120" cy="1676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43040" y="1577880"/>
            <a:ext cx="108108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933640" y="2352600"/>
            <a:ext cx="18288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105000" y="2340000"/>
            <a:ext cx="1614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57680" y="1209600"/>
            <a:ext cx="281952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29040" y="1425600"/>
            <a:ext cx="23572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1680" y="3571920"/>
            <a:ext cx="579096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0640" y="3952800"/>
            <a:ext cx="1600200" cy="304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886040" y="3863880"/>
            <a:ext cx="942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P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3440" y="395280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33440" y="31910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000680" y="31910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81560" y="319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00680" y="1971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1971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1000" y="3787920"/>
            <a:ext cx="1704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1000" y="2797200"/>
            <a:ext cx="14479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14640" y="4473720"/>
            <a:ext cx="18716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76240" y="31910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560600" y="460440"/>
            <a:ext cx="5499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/OS2 Server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160" y="1438200"/>
            <a:ext cx="9677520" cy="5791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0280" y="1590840"/>
            <a:ext cx="419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66960" y="2657520"/>
            <a:ext cx="2209680" cy="1219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419200" y="3025800"/>
            <a:ext cx="12193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2760" y="4486320"/>
            <a:ext cx="2286000" cy="106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04840" y="4486320"/>
            <a:ext cx="1143000" cy="990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76240" y="6010200"/>
            <a:ext cx="228600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52520" y="4778280"/>
            <a:ext cx="647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29040" y="4778280"/>
            <a:ext cx="12384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71640" y="6302520"/>
            <a:ext cx="15429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81560" y="2657520"/>
            <a:ext cx="685800" cy="1295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476600" y="2949480"/>
            <a:ext cx="461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476600" y="3406680"/>
            <a:ext cx="447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53160" y="2657520"/>
            <a:ext cx="2819520" cy="15238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67360" y="6010200"/>
            <a:ext cx="175248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7760" y="6010200"/>
            <a:ext cx="144792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34040" y="4714920"/>
            <a:ext cx="160020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72480" y="6010200"/>
            <a:ext cx="114300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686640" y="3102120"/>
            <a:ext cx="919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381720" y="5083200"/>
            <a:ext cx="1220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543640" y="6302520"/>
            <a:ext cx="6811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10120" y="62262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067520" y="6302520"/>
            <a:ext cx="1052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591400" y="6302520"/>
            <a:ext cx="905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52560" y="2124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09760" y="212400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28840" y="21114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57440" y="1654200"/>
            <a:ext cx="1343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48240" y="1590840"/>
            <a:ext cx="41148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458040" y="1654200"/>
            <a:ext cx="1805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57680" y="2124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86480" y="2124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62240" y="4029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24160" y="509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05440" y="38005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19640" y="3876840"/>
            <a:ext cx="121932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76840" y="2124000"/>
            <a:ext cx="0" cy="3810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2476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105840" y="204804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34240" y="5553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886880" y="4257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62640" y="562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71840" y="1044720"/>
            <a:ext cx="27957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plit screen grou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560600" y="460440"/>
            <a:ext cx="5499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/OS2 Server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160" y="1438200"/>
            <a:ext cx="9677520" cy="5791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00280" y="1590840"/>
            <a:ext cx="419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66960" y="2581200"/>
            <a:ext cx="2209680" cy="1219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419200" y="3025800"/>
            <a:ext cx="12193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52760" y="4486320"/>
            <a:ext cx="2286000" cy="106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04840" y="4486320"/>
            <a:ext cx="1143000" cy="990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76240" y="6010200"/>
            <a:ext cx="228600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352520" y="4778280"/>
            <a:ext cx="647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29040" y="4778280"/>
            <a:ext cx="12384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71640" y="6302520"/>
            <a:ext cx="15429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81560" y="3267000"/>
            <a:ext cx="685800" cy="9144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476600" y="3330720"/>
            <a:ext cx="461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53160" y="2657520"/>
            <a:ext cx="2819520" cy="15238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95760" y="5934240"/>
            <a:ext cx="3124080" cy="10666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7760" y="6010200"/>
            <a:ext cx="144792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34040" y="4714920"/>
            <a:ext cx="160020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72480" y="6010200"/>
            <a:ext cx="114300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686640" y="3102120"/>
            <a:ext cx="919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381720" y="5083200"/>
            <a:ext cx="1220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248000" y="6226200"/>
            <a:ext cx="6811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10120" y="6226200"/>
            <a:ext cx="987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D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067520" y="6302520"/>
            <a:ext cx="1052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515440" y="6302520"/>
            <a:ext cx="905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52560" y="2124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09760" y="212400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428840" y="21114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657440" y="1654200"/>
            <a:ext cx="1343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48240" y="1590840"/>
            <a:ext cx="41148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458040" y="1654200"/>
            <a:ext cx="1805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5768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6480" y="21240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24360" y="5629320"/>
            <a:ext cx="0" cy="533520"/>
          </a:xfrm>
          <a:prstGeom prst="line">
            <a:avLst/>
          </a:prstGeom>
          <a:ln w="101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24160" y="509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905440" y="38005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43680" y="4029120"/>
            <a:ext cx="1295280" cy="76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76840" y="2124000"/>
            <a:ext cx="0" cy="3810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2476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05840" y="204804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734240" y="5553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886880" y="4257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62640" y="562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571840" y="968400"/>
            <a:ext cx="2847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e  screen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52960" y="28861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90840" y="3876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22160" y="536400"/>
            <a:ext cx="8564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's/Con's of Split vs. Same Scre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676520" y="1673280"/>
            <a:ext cx="743904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Scree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ll looks like Windows from user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Can't see them all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2170080" y="460440"/>
            <a:ext cx="538632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16/32 Client Proc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76240" y="1819440"/>
            <a:ext cx="20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00240" y="1806480"/>
            <a:ext cx="14144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3960" y="1666800"/>
            <a:ext cx="3048120" cy="396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76240" y="3343320"/>
            <a:ext cx="213372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76240" y="4714920"/>
            <a:ext cx="27432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95320" y="3406680"/>
            <a:ext cx="18194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nk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71640" y="4854600"/>
            <a:ext cx="2666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/32 client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90640" y="25812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0640" y="4257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15080" y="1819440"/>
            <a:ext cx="20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238720" y="1806480"/>
            <a:ext cx="14144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bit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62440" y="1666800"/>
            <a:ext cx="3048120" cy="396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15080" y="4714920"/>
            <a:ext cx="27432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010120" y="4854600"/>
            <a:ext cx="2624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/32  client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29480" y="258120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952560" y="2200320"/>
            <a:ext cx="647712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Add 16 bit Base APIs                                 8 (1.X,  VIO application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Add PM support                                         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 and 32 PM apps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separate screen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Share the glass                                        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ame screen group, DD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170080" y="460440"/>
            <a:ext cx="56865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POW/NT in Ph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504800" y="1577880"/>
            <a:ext cx="866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076800" y="1577880"/>
            <a:ext cx="26812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 effort (M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