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6540480"/>
            <a:ext cx="913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fld id="{D95F410B-20D2-4332-A02D-D35C048CED9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25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318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User Ed Publishing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447920"/>
            <a:ext cx="7162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HTML (authored w/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ekly Internet Magazine (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TML and .mdb for beginners, administrators, and security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ccess to Microsoft-maintained versions of 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 Guide &amp; Win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Content as MSPress books or doc S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Pl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760" y="2133720"/>
            <a:ext cx="1390680" cy="1847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40" y="2546280"/>
            <a:ext cx="1879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ekly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Ez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56204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5280" y="12193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125748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960" y="1612800"/>
            <a:ext cx="1716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705040"/>
            <a:ext cx="4762440" cy="2685960"/>
          </a:xfrm>
          <a:prstGeom prst="rect">
            <a:avLst/>
          </a:prstGeom>
          <a:solidFill>
            <a:srgbClr val="00279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12920" y="2260440"/>
            <a:ext cx="20210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ibraltar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05640" y="22096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4280" y="2057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4280" y="369576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6957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96360" y="207648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4578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30524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8400" y="5943600"/>
            <a:ext cx="19080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59436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4324320"/>
            <a:ext cx="1526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8920" y="1041480"/>
            <a:ext cx="1733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80280" y="1612800"/>
            <a:ext cx="14367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-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952720"/>
            <a:ext cx="203832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37080" y="3079800"/>
            <a:ext cx="1969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5960" y="3200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304812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68648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6680" y="468648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306720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4381560"/>
            <a:ext cx="125748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75480" y="4568760"/>
            <a:ext cx="939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19400" y="4305240"/>
            <a:ext cx="1238400" cy="762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2600" y="1650960"/>
            <a:ext cx="1784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3800" y="3216240"/>
            <a:ext cx="1044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 100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56600" y="2149560"/>
            <a:ext cx="10288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489800" y="4435560"/>
            <a:ext cx="1073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g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b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5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1809720"/>
            <a:ext cx="1981080" cy="34308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201924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196200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9840" y="1809720"/>
            <a:ext cx="476280" cy="2667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95256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62720" y="211464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95760"/>
            <a:ext cx="0" cy="6667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695760"/>
            <a:ext cx="0" cy="6285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1760" y="1131840"/>
            <a:ext cx="892188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3.51), patent application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, modeled after traditional Unix mechanism for ease-of-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146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49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52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57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83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86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91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409760"/>
            <a:ext cx="78724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In use within dev team - lots of tuning and minor features before larger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Investing ~8 weeks of cleanup in SpyGlass code (make it un-embarras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60020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Extensions and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tool is HAPI, a script driven network test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est dll (wrapper of wininet.dll) with custom keyword and type defin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scripts for all exposed Internet application protocols (gopher, http, ftp, arch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ests to be run native and through catapult gatew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stress ap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will undergo much usage testing on WFW (Win32s), Win95, and Windows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6002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driven by client-based test scripts to ensure con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client-based stress applications to ensure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nd local administration, setup and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12760"/>
            <a:ext cx="8172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1760" y="868320"/>
            <a:ext cx="7162920" cy="56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(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(75% 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Administration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testing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Gateway stress starting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oll-out underway in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Monthly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1880" y="12654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, Schedules and Staffing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, APIs, SmallPr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,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,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Architecture, 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/Management/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braltar ‘97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chedul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59320" y="15256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0720" y="13431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9600" y="507528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6480" y="13111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 (BGI de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 (live SQL Server on \\ntra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(Local Access .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 Demo (OFS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(using NetSc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pend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49360" y="1133640"/>
            <a:ext cx="814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e on the hook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client from PS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 extending Catapult for organization access to MS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‘95 requires Catapult APIs for Internet Assistant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pe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76160" y="1133640"/>
            <a:ext cx="763596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to get Word ‘95/Internet Assistant 2.0 in-the-box (use 32-bit Word6 for non-Int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court third parties for gateway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 to depend/support third parties for a 1.0 SSL/S-HTTP solution to reduce product complexity and pull in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ood SMORG mail/news story w/ Exchange-only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: can we ship a crippled 3rd party indexer pre-Cai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ackup Sl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NT Raid ODBC Gateway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eekly Internet Magaz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1600200"/>
            <a:ext cx="71629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y begins 6/1 using Gibraltar pre-beta software on internet.microsoft.com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stomers,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, Test, UE, PSS, all interact on the same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feedback on concept emphasis, documentation style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54320" y="955800"/>
            <a:ext cx="3282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ultimate dog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7600" y="1066680"/>
            <a:ext cx="71629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ormat is HTML using browser on local files or internet.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er’s Guide to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’s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imer and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ation and Orientation Guide &lt; 100 p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or UI (UI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upplemental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10484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Gibraltar HTML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fo in book i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Press or Doc 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Windows NT Internet Server (1000 pages, includes security 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n the Internet for Beginners (350 pa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8200" y="1542960"/>
            <a:ext cx="7467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LE/DB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and Catalog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L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52360" y="1357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atapult Polic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 Wiz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logging for billing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M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crosof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cripting/OLE automa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integration (publishing, autho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APIs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64400" y="77004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35080" y="130320"/>
            <a:ext cx="6740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9720" y="2930400"/>
            <a:ext cx="7599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-performance publishing and access server that provides a window for getting information to and from the Internet for organizations of all siz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1.0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1520" y="12384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265400"/>
            <a:ext cx="83059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 o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Document Security (SSL, S-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e support (S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 - 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, NetSite Commerc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 (SW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600" y="939960"/>
            <a:ext cx="822492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/component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till under investigation, at minimum will follow serv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(prelimin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 performance publishing and access server that provides a window for getting information to and from the Internet for organizations of all size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42840" y="1122480"/>
            <a:ext cx="71629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per catapult client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ed - DEC, NEC, Intel, Gateway, Tan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riefing 6/1/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braltar (Internet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BSD Internet Review 4/25</dc:title>
</cp:coreProperties>
</file>