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erver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15,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525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82880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SSL as-is-it-now or use Wssa (short te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tyle communications using enhancements to Winsock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PI based security interface. Applications deal with both Winsock and use SSPI for authentication and encryption. (our own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 separate API set (SARC_API) based on winsock and S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TP/NN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1428840"/>
            <a:ext cx="7162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Exchange POR (as we understand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C (SMTP gateway) on single server: May 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NTP development on hold (for n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b/Exchange work underway through contr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P/ListServe not spec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ould we be looking at alternat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66840" y="228600"/>
            <a:ext cx="84866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ve Activity this Mon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200240"/>
            <a:ext cx="716292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SAPI vs B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SAPI: more flexible, yet more complex for common applications. Possibly more efficient for stream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GI/Filters: tailored for common extensions. Plan to review w/ partners over the next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bSite, Purveyor shi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 minute Sun Netra infomercial on Un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graph, Digital OEM’ing NetSite/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Scape/Jav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BM announced Internet Gateway and Object Oriented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ing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66680" y="144792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lobal Summit - hands on for SEs/MCS pl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ta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0 total U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s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 Providers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G/MORG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RG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V’s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0 total non-U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calization kicke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d/IA in-the-bo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38360" y="2144880"/>
            <a:ext cx="64389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137160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MTP/NN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76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lout (Publish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66680" y="1200240"/>
            <a:ext cx="7162920" cy="52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ww.microsof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gle server, dual P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% CPU, 156kb/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ak load 40% CPU, 320kb/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0k tranactions/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uescreen almost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 serv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ww.msn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ww.grandprix.microsof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n95.microsof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lout (Access, AP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14400" y="1428840"/>
            <a:ext cx="71629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ding 26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86/50 uniprocess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0 unique users, 25-50 concurrent, 80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ging enabled, caching perf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wn twice daily (average), 60 hr. max up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57200" y="5105520"/>
            <a:ext cx="7101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6212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Performance (We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276200"/>
            <a:ext cx="7162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s. BSDI/Netscape (486/66, 16Mb, Elnk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Scape:402,025 bytes/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T: 270,468 bytes/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Scape/Gibraltar: 1.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iprocessor P66, 160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2 files/sec (9k ave), 90%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8 files/sec (13k ave), 80%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2 files/sec (42k ave), 35%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ime to upgrade test 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(FT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43000" y="704880"/>
            <a:ext cx="7753320" cy="61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s. BSDI/wu-2.4 (486/66, 16Mb, Elnk3,900s,100kb f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braltar FTP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nects, putfiles, getfiles: 9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SDI (wu-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nects, putfiles, getfiles: 3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T/BSDI: 2.5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37160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roximately 2 weeks behind on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tapult caching and logging check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tapult discovery protocol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ing toward internal publishing alpha w/ setup/admin: 7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 patents underway w/ IP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Schedule (unchang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59320" y="1982880"/>
            <a:ext cx="3162240" cy="2643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lization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iday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C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0720" y="1800360"/>
            <a:ext cx="3976560" cy="30812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TNetDev pilo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/7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G Pilo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/15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/15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/1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C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/1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/15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33640" y="5380200"/>
            <a:ext cx="719784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a1 omitted functiona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NS namespace editor, performance work, some browser cleanup, generalized SmallProx, SNM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a2 full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76200" y="2162160"/>
            <a:ext cx="6583320" cy="3292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79640" y="2041560"/>
            <a:ext cx="2689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hallenge, cip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03680" y="2498760"/>
            <a:ext cx="34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Xid, server_cert,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03680" y="2955960"/>
            <a:ext cx="355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{master key}S_pub_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79640" y="371808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{Xid}C_write_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879640" y="4175280"/>
            <a:ext cx="3413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{challenge}S_write_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651040" y="4861080"/>
            <a:ext cx="432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{new_session_id}S_write_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gates</dc:creator>
  <dc:description/>
  <dc:language>en-US</dc:language>
  <cp:lastModifiedBy>bill gates</cp:lastModifiedBy>
  <cp:revision>0</cp:revision>
  <dc:subject/>
  <dc:title>Internet Server Review 6/15</dc:title>
</cp:coreProperties>
</file>