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164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7E940FA-393F-459B-95A6-36D8857C2B4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cure internet Communications using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24360" y="5029200"/>
            <a:ext cx="309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Proposed by 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socket options for authentication and encryption re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can use getsockopt() and setsockopt() for querying and sett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Winsock 2.0 standards committee permi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; applications need to use only one set of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ency on RSA encryption and authentication (hard coded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o obtain authentication -- left to user level hook (not specified i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es interface for security support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rgetted at Distributed systems and RPC runtim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pecify its relation to sock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ssa &amp; C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sa: Windows Secure Sockets API -- same as SSL interface and uses ssl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I: Crypto API --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interface supporting security and transport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Scalable. Extensions to support transports and security schemes should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operability of the different schemes adopted (unless it is open schem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 (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uthentication and Encrypted data should be decipherable independent of platform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communicating with multiple peers with different schemes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 easy layering of user level protocols (http, ftp, .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opt SSL as-is-it-now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y royalty to Netscape happ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   [DevTime = 4 weeks. Maintenance = 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, but use authentication and encryption packages from 3rd party ( trustable?)   [DevTime = 3 months. Maintenance = ?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981080"/>
            <a:ext cx="7848720" cy="46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 (or maybe like Wssa), as well as implement authentication and encryption packages (in kernel mode possibly, speed ==$$)  [ DevTime = 6 months. Maybe long for Winsock 2.0 based imp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y a new interface separately for security, evangelize and implement it; Couple this with Winsock. [ DevTime = 6-12 month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474747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8360" y="2144880"/>
            <a:ext cx="6438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pronged approach - separate API set for security (extensions of SSPI possibly) and retain/enhance Winsock for raw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e the API set open to enable scalability and inte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will run on SARC API (esp. ht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oals for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isting communication interfaces (Winsock, SSL, SSPI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posed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iscus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strategy? and what is corporate-wide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long term and short term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ime to talk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rr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/TCP is used for intern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 protocol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ftp, gopher need to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modifications of applica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interoperable, secure and sca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ins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rived from Berkeley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and simple API virtualizing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options for any authentication or encyption of transpor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: Secure Sockets Layer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95680"/>
            <a:ext cx="32004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00400" y="4724280"/>
            <a:ext cx="1905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362320"/>
            <a:ext cx="48006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2514600"/>
            <a:ext cx="3657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2004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200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43434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971800"/>
            <a:ext cx="1219320" cy="2209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26708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988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581280"/>
            <a:ext cx="152388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71800" y="3733920"/>
            <a:ext cx="990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33720" y="373392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 defines a separate set of functions for handling I/O (masks socke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all socket functions are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s only TC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3rd party (RSA, PKCS) software for authentication and encry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Pr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s on top of sockets, providing socket like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public key encryption offering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unencrypted and unauthenticat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3rd party software for encryption an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support for adding/modifying authentication and encryp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ly runs over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centralized certificate issuer (currently Netscape) for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multiple client/server connections within same process (relevant for catapu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rali R. Krishnan</dc:creator>
  <dc:description>This presentation was prepared for talk on Wednesday, 14 June, 1995 to discuss about secure communication strategy for our internet related products.</dc:description>
  <dc:language>en-US</dc:language>
  <cp:lastModifiedBy>Murali R. Krishnan</cp:lastModifiedBy>
  <cp:revision>0</cp:revision>
  <dc:subject>Secure Communications</dc:subject>
  <dc:title>Secure And Reliable Communication using Sockets</dc:title>
</cp:coreProperties>
</file>