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4760" cy="5254920"/>
            <a:chOff x="146160" y="976320"/>
            <a:chExt cx="8834760" cy="525492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7480" cy="4888080"/>
              <a:chOff x="3673440" y="979560"/>
              <a:chExt cx="5307480" cy="48880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79760" cy="1779840"/>
                <a:chOff x="8201160" y="4087800"/>
                <a:chExt cx="779760" cy="177984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79760" cy="522360"/>
                  <a:chOff x="8201160" y="5345280"/>
                  <a:chExt cx="779760" cy="52236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4200" cy="316440"/>
                  </a:xfrm>
                  <a:custGeom>
                    <a:avLst/>
                    <a:gdLst/>
                    <a:ahLst/>
                    <a:rect l="0" t="0" r="r" b="b"/>
                    <a:pathLst>
                      <a:path w="345" h="879">
                        <a:moveTo>
                          <a:pt x="112" y="12"/>
                        </a:moveTo>
                        <a:lnTo>
                          <a:pt x="147" y="0"/>
                        </a:lnTo>
                        <a:lnTo>
                          <a:pt x="207" y="97"/>
                        </a:lnTo>
                        <a:lnTo>
                          <a:pt x="198" y="378"/>
                        </a:lnTo>
                        <a:lnTo>
                          <a:pt x="241" y="378"/>
                        </a:lnTo>
                        <a:lnTo>
                          <a:pt x="250" y="415"/>
                        </a:lnTo>
                        <a:lnTo>
                          <a:pt x="268" y="476"/>
                        </a:lnTo>
                        <a:lnTo>
                          <a:pt x="277" y="512"/>
                        </a:lnTo>
                        <a:lnTo>
                          <a:pt x="311" y="500"/>
                        </a:lnTo>
                        <a:lnTo>
                          <a:pt x="337" y="439"/>
                        </a:lnTo>
                        <a:lnTo>
                          <a:pt x="345" y="476"/>
                        </a:lnTo>
                        <a:lnTo>
                          <a:pt x="328" y="525"/>
                        </a:lnTo>
                        <a:lnTo>
                          <a:pt x="311" y="561"/>
                        </a:lnTo>
                        <a:lnTo>
                          <a:pt x="302" y="634"/>
                        </a:lnTo>
                        <a:lnTo>
                          <a:pt x="258" y="672"/>
                        </a:lnTo>
                        <a:lnTo>
                          <a:pt x="233" y="684"/>
                        </a:lnTo>
                        <a:lnTo>
                          <a:pt x="198" y="721"/>
                        </a:lnTo>
                        <a:lnTo>
                          <a:pt x="190" y="757"/>
                        </a:lnTo>
                        <a:lnTo>
                          <a:pt x="198" y="794"/>
                        </a:lnTo>
                        <a:lnTo>
                          <a:pt x="207" y="830"/>
                        </a:lnTo>
                        <a:lnTo>
                          <a:pt x="164" y="855"/>
                        </a:lnTo>
                        <a:lnTo>
                          <a:pt x="138" y="867"/>
                        </a:lnTo>
                        <a:lnTo>
                          <a:pt x="112" y="879"/>
                        </a:lnTo>
                        <a:lnTo>
                          <a:pt x="95" y="867"/>
                        </a:lnTo>
                        <a:lnTo>
                          <a:pt x="51" y="855"/>
                        </a:lnTo>
                        <a:lnTo>
                          <a:pt x="34" y="830"/>
                        </a:lnTo>
                        <a:lnTo>
                          <a:pt x="51" y="806"/>
                        </a:lnTo>
                        <a:lnTo>
                          <a:pt x="85" y="794"/>
                        </a:lnTo>
                        <a:lnTo>
                          <a:pt x="112" y="733"/>
                        </a:lnTo>
                        <a:lnTo>
                          <a:pt x="112" y="708"/>
                        </a:lnTo>
                        <a:lnTo>
                          <a:pt x="85" y="684"/>
                        </a:lnTo>
                        <a:lnTo>
                          <a:pt x="51" y="646"/>
                        </a:lnTo>
                        <a:lnTo>
                          <a:pt x="25" y="646"/>
                        </a:lnTo>
                        <a:lnTo>
                          <a:pt x="8" y="634"/>
                        </a:lnTo>
                        <a:lnTo>
                          <a:pt x="0" y="598"/>
                        </a:lnTo>
                        <a:lnTo>
                          <a:pt x="8" y="573"/>
                        </a:lnTo>
                        <a:lnTo>
                          <a:pt x="25" y="573"/>
                        </a:lnTo>
                        <a:lnTo>
                          <a:pt x="51" y="561"/>
                        </a:lnTo>
                        <a:lnTo>
                          <a:pt x="85" y="525"/>
                        </a:lnTo>
                        <a:lnTo>
                          <a:pt x="104" y="512"/>
                        </a:lnTo>
                        <a:lnTo>
                          <a:pt x="121" y="378"/>
                        </a:lnTo>
                        <a:lnTo>
                          <a:pt x="104" y="342"/>
                        </a:lnTo>
                        <a:lnTo>
                          <a:pt x="77" y="317"/>
                        </a:lnTo>
                        <a:lnTo>
                          <a:pt x="68" y="244"/>
                        </a:lnTo>
                        <a:lnTo>
                          <a:pt x="77" y="170"/>
                        </a:lnTo>
                        <a:lnTo>
                          <a:pt x="85" y="121"/>
                        </a:lnTo>
                        <a:lnTo>
                          <a:pt x="112" y="12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0400" cy="268560"/>
                  </a:xfrm>
                  <a:custGeom>
                    <a:avLst/>
                    <a:gdLst/>
                    <a:ahLst/>
                    <a:rect l="0" t="0" r="r" b="b"/>
                    <a:pathLst>
                      <a:path w="640" h="746">
                        <a:moveTo>
                          <a:pt x="450" y="0"/>
                        </a:moveTo>
                        <a:lnTo>
                          <a:pt x="528" y="0"/>
                        </a:lnTo>
                        <a:lnTo>
                          <a:pt x="640" y="195"/>
                        </a:lnTo>
                        <a:lnTo>
                          <a:pt x="519" y="366"/>
                        </a:lnTo>
                        <a:lnTo>
                          <a:pt x="519" y="440"/>
                        </a:lnTo>
                        <a:lnTo>
                          <a:pt x="493" y="465"/>
                        </a:lnTo>
                        <a:lnTo>
                          <a:pt x="424" y="465"/>
                        </a:lnTo>
                        <a:lnTo>
                          <a:pt x="337" y="562"/>
                        </a:lnTo>
                        <a:lnTo>
                          <a:pt x="259" y="660"/>
                        </a:lnTo>
                        <a:lnTo>
                          <a:pt x="207" y="746"/>
                        </a:lnTo>
                        <a:lnTo>
                          <a:pt x="207" y="672"/>
                        </a:lnTo>
                        <a:lnTo>
                          <a:pt x="112" y="685"/>
                        </a:lnTo>
                        <a:lnTo>
                          <a:pt x="69" y="685"/>
                        </a:lnTo>
                        <a:lnTo>
                          <a:pt x="0" y="685"/>
                        </a:lnTo>
                        <a:lnTo>
                          <a:pt x="95" y="562"/>
                        </a:lnTo>
                        <a:lnTo>
                          <a:pt x="129" y="501"/>
                        </a:lnTo>
                        <a:lnTo>
                          <a:pt x="164" y="501"/>
                        </a:lnTo>
                        <a:lnTo>
                          <a:pt x="233" y="404"/>
                        </a:lnTo>
                        <a:lnTo>
                          <a:pt x="259" y="404"/>
                        </a:lnTo>
                        <a:lnTo>
                          <a:pt x="259" y="391"/>
                        </a:lnTo>
                        <a:lnTo>
                          <a:pt x="293" y="354"/>
                        </a:lnTo>
                        <a:lnTo>
                          <a:pt x="337" y="354"/>
                        </a:lnTo>
                        <a:lnTo>
                          <a:pt x="319" y="244"/>
                        </a:lnTo>
                        <a:lnTo>
                          <a:pt x="329" y="244"/>
                        </a:lnTo>
                        <a:lnTo>
                          <a:pt x="372" y="183"/>
                        </a:lnTo>
                        <a:lnTo>
                          <a:pt x="389" y="232"/>
                        </a:lnTo>
                        <a:lnTo>
                          <a:pt x="458" y="146"/>
                        </a:lnTo>
                        <a:lnTo>
                          <a:pt x="45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7840" cy="1414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93">
                        <a:moveTo>
                          <a:pt x="0" y="0"/>
                        </a:moveTo>
                        <a:lnTo>
                          <a:pt x="51" y="0"/>
                        </a:lnTo>
                        <a:lnTo>
                          <a:pt x="113" y="49"/>
                        </a:lnTo>
                        <a:lnTo>
                          <a:pt x="244" y="49"/>
                        </a:lnTo>
                        <a:lnTo>
                          <a:pt x="227" y="110"/>
                        </a:lnTo>
                        <a:lnTo>
                          <a:pt x="244" y="183"/>
                        </a:lnTo>
                        <a:lnTo>
                          <a:pt x="201" y="183"/>
                        </a:lnTo>
                        <a:lnTo>
                          <a:pt x="192" y="197"/>
                        </a:lnTo>
                        <a:lnTo>
                          <a:pt x="165" y="209"/>
                        </a:lnTo>
                        <a:lnTo>
                          <a:pt x="192" y="393"/>
                        </a:lnTo>
                        <a:lnTo>
                          <a:pt x="113" y="381"/>
                        </a:lnTo>
                        <a:lnTo>
                          <a:pt x="43" y="319"/>
                        </a:lnTo>
                        <a:lnTo>
                          <a:pt x="43" y="197"/>
                        </a:lnTo>
                        <a:lnTo>
                          <a:pt x="43" y="147"/>
                        </a:lnTo>
                        <a:lnTo>
                          <a:pt x="0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0040" cy="159120"/>
                </a:xfrm>
                <a:custGeom>
                  <a:avLst/>
                  <a:gdLst/>
                  <a:ahLst/>
                  <a:rect l="0" t="0" r="r" b="b"/>
                  <a:pathLst>
                    <a:path w="389" h="442">
                      <a:moveTo>
                        <a:pt x="68" y="164"/>
                      </a:moveTo>
                      <a:lnTo>
                        <a:pt x="0" y="354"/>
                      </a:lnTo>
                      <a:lnTo>
                        <a:pt x="25" y="430"/>
                      </a:lnTo>
                      <a:lnTo>
                        <a:pt x="137" y="442"/>
                      </a:lnTo>
                      <a:lnTo>
                        <a:pt x="233" y="442"/>
                      </a:lnTo>
                      <a:lnTo>
                        <a:pt x="268" y="367"/>
                      </a:lnTo>
                      <a:lnTo>
                        <a:pt x="285" y="290"/>
                      </a:lnTo>
                      <a:lnTo>
                        <a:pt x="389" y="290"/>
                      </a:lnTo>
                      <a:lnTo>
                        <a:pt x="371" y="177"/>
                      </a:lnTo>
                      <a:lnTo>
                        <a:pt x="371" y="62"/>
                      </a:lnTo>
                      <a:lnTo>
                        <a:pt x="268" y="0"/>
                      </a:lnTo>
                      <a:lnTo>
                        <a:pt x="259" y="126"/>
                      </a:lnTo>
                      <a:lnTo>
                        <a:pt x="320" y="202"/>
                      </a:lnTo>
                      <a:lnTo>
                        <a:pt x="225" y="202"/>
                      </a:lnTo>
                      <a:lnTo>
                        <a:pt x="189" y="252"/>
                      </a:lnTo>
                      <a:lnTo>
                        <a:pt x="68" y="164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5200" cy="3797640"/>
                <a:chOff x="6815160" y="1752480"/>
                <a:chExt cx="1645200" cy="379764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7200" cy="1140480"/>
                  <a:chOff x="7080120" y="2139840"/>
                  <a:chExt cx="367200" cy="114048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7840" cy="1162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23">
                        <a:moveTo>
                          <a:pt x="0" y="249"/>
                        </a:moveTo>
                        <a:lnTo>
                          <a:pt x="43" y="311"/>
                        </a:lnTo>
                        <a:lnTo>
                          <a:pt x="96" y="299"/>
                        </a:lnTo>
                        <a:lnTo>
                          <a:pt x="174" y="323"/>
                        </a:lnTo>
                        <a:lnTo>
                          <a:pt x="235" y="323"/>
                        </a:lnTo>
                        <a:lnTo>
                          <a:pt x="244" y="211"/>
                        </a:lnTo>
                        <a:lnTo>
                          <a:pt x="227" y="137"/>
                        </a:lnTo>
                        <a:lnTo>
                          <a:pt x="182" y="49"/>
                        </a:lnTo>
                        <a:lnTo>
                          <a:pt x="139" y="49"/>
                        </a:lnTo>
                        <a:lnTo>
                          <a:pt x="122" y="0"/>
                        </a:lnTo>
                        <a:lnTo>
                          <a:pt x="60" y="0"/>
                        </a:lnTo>
                        <a:lnTo>
                          <a:pt x="60" y="100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460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235" h="411">
                        <a:moveTo>
                          <a:pt x="51" y="0"/>
                        </a:moveTo>
                        <a:lnTo>
                          <a:pt x="156" y="12"/>
                        </a:lnTo>
                        <a:lnTo>
                          <a:pt x="192" y="124"/>
                        </a:lnTo>
                        <a:lnTo>
                          <a:pt x="235" y="186"/>
                        </a:lnTo>
                        <a:lnTo>
                          <a:pt x="201" y="237"/>
                        </a:lnTo>
                        <a:lnTo>
                          <a:pt x="235" y="299"/>
                        </a:lnTo>
                        <a:lnTo>
                          <a:pt x="218" y="373"/>
                        </a:lnTo>
                        <a:lnTo>
                          <a:pt x="183" y="411"/>
                        </a:lnTo>
                        <a:lnTo>
                          <a:pt x="113" y="398"/>
                        </a:lnTo>
                        <a:lnTo>
                          <a:pt x="70" y="398"/>
                        </a:lnTo>
                        <a:lnTo>
                          <a:pt x="43" y="348"/>
                        </a:lnTo>
                        <a:lnTo>
                          <a:pt x="17" y="286"/>
                        </a:lnTo>
                        <a:lnTo>
                          <a:pt x="17" y="224"/>
                        </a:lnTo>
                        <a:lnTo>
                          <a:pt x="0" y="136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49760" cy="136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380">
                        <a:moveTo>
                          <a:pt x="60" y="0"/>
                        </a:moveTo>
                        <a:lnTo>
                          <a:pt x="113" y="61"/>
                        </a:lnTo>
                        <a:lnTo>
                          <a:pt x="165" y="48"/>
                        </a:lnTo>
                        <a:lnTo>
                          <a:pt x="242" y="61"/>
                        </a:lnTo>
                        <a:lnTo>
                          <a:pt x="311" y="61"/>
                        </a:lnTo>
                        <a:lnTo>
                          <a:pt x="347" y="97"/>
                        </a:lnTo>
                        <a:lnTo>
                          <a:pt x="390" y="183"/>
                        </a:lnTo>
                        <a:lnTo>
                          <a:pt x="416" y="221"/>
                        </a:lnTo>
                        <a:lnTo>
                          <a:pt x="321" y="245"/>
                        </a:lnTo>
                        <a:lnTo>
                          <a:pt x="294" y="270"/>
                        </a:lnTo>
                        <a:lnTo>
                          <a:pt x="321" y="319"/>
                        </a:lnTo>
                        <a:lnTo>
                          <a:pt x="321" y="368"/>
                        </a:lnTo>
                        <a:lnTo>
                          <a:pt x="225" y="319"/>
                        </a:lnTo>
                        <a:lnTo>
                          <a:pt x="147" y="282"/>
                        </a:lnTo>
                        <a:lnTo>
                          <a:pt x="113" y="294"/>
                        </a:lnTo>
                        <a:lnTo>
                          <a:pt x="113" y="368"/>
                        </a:lnTo>
                        <a:lnTo>
                          <a:pt x="60" y="380"/>
                        </a:lnTo>
                        <a:lnTo>
                          <a:pt x="34" y="319"/>
                        </a:lnTo>
                        <a:lnTo>
                          <a:pt x="25" y="245"/>
                        </a:lnTo>
                        <a:lnTo>
                          <a:pt x="0" y="233"/>
                        </a:lnTo>
                        <a:lnTo>
                          <a:pt x="25" y="159"/>
                        </a:lnTo>
                        <a:lnTo>
                          <a:pt x="69" y="134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7160" cy="1100520"/>
                </a:xfrm>
                <a:custGeom>
                  <a:avLst/>
                  <a:gdLst/>
                  <a:ahLst/>
                  <a:rect l="0" t="0" r="r" b="b"/>
                  <a:pathLst>
                    <a:path w="2881" h="3057">
                      <a:moveTo>
                        <a:pt x="2074" y="0"/>
                      </a:moveTo>
                      <a:lnTo>
                        <a:pt x="2230" y="0"/>
                      </a:lnTo>
                      <a:lnTo>
                        <a:pt x="2230" y="245"/>
                      </a:lnTo>
                      <a:lnTo>
                        <a:pt x="2290" y="306"/>
                      </a:lnTo>
                      <a:lnTo>
                        <a:pt x="2307" y="343"/>
                      </a:lnTo>
                      <a:lnTo>
                        <a:pt x="2341" y="343"/>
                      </a:lnTo>
                      <a:lnTo>
                        <a:pt x="2358" y="392"/>
                      </a:lnTo>
                      <a:lnTo>
                        <a:pt x="2375" y="638"/>
                      </a:lnTo>
                      <a:lnTo>
                        <a:pt x="2461" y="798"/>
                      </a:lnTo>
                      <a:lnTo>
                        <a:pt x="2590" y="1031"/>
                      </a:lnTo>
                      <a:lnTo>
                        <a:pt x="2590" y="1068"/>
                      </a:lnTo>
                      <a:lnTo>
                        <a:pt x="2727" y="1265"/>
                      </a:lnTo>
                      <a:lnTo>
                        <a:pt x="2727" y="1301"/>
                      </a:lnTo>
                      <a:lnTo>
                        <a:pt x="2864" y="1461"/>
                      </a:lnTo>
                      <a:lnTo>
                        <a:pt x="2881" y="1743"/>
                      </a:lnTo>
                      <a:lnTo>
                        <a:pt x="2864" y="2001"/>
                      </a:lnTo>
                      <a:lnTo>
                        <a:pt x="2821" y="2124"/>
                      </a:lnTo>
                      <a:lnTo>
                        <a:pt x="2770" y="2185"/>
                      </a:lnTo>
                      <a:lnTo>
                        <a:pt x="2752" y="2309"/>
                      </a:lnTo>
                      <a:lnTo>
                        <a:pt x="2701" y="2419"/>
                      </a:lnTo>
                      <a:lnTo>
                        <a:pt x="2658" y="2468"/>
                      </a:lnTo>
                      <a:lnTo>
                        <a:pt x="2667" y="2505"/>
                      </a:lnTo>
                      <a:lnTo>
                        <a:pt x="2615" y="2579"/>
                      </a:lnTo>
                      <a:lnTo>
                        <a:pt x="2590" y="2738"/>
                      </a:lnTo>
                      <a:lnTo>
                        <a:pt x="2581" y="2824"/>
                      </a:lnTo>
                      <a:lnTo>
                        <a:pt x="2530" y="2861"/>
                      </a:lnTo>
                      <a:lnTo>
                        <a:pt x="2521" y="2898"/>
                      </a:lnTo>
                      <a:lnTo>
                        <a:pt x="2487" y="2972"/>
                      </a:lnTo>
                      <a:lnTo>
                        <a:pt x="2427" y="2984"/>
                      </a:lnTo>
                      <a:lnTo>
                        <a:pt x="2384" y="3008"/>
                      </a:lnTo>
                      <a:lnTo>
                        <a:pt x="2324" y="3057"/>
                      </a:lnTo>
                      <a:lnTo>
                        <a:pt x="2247" y="2959"/>
                      </a:lnTo>
                      <a:lnTo>
                        <a:pt x="2160" y="2972"/>
                      </a:lnTo>
                      <a:lnTo>
                        <a:pt x="2134" y="2972"/>
                      </a:lnTo>
                      <a:lnTo>
                        <a:pt x="2014" y="2996"/>
                      </a:lnTo>
                      <a:lnTo>
                        <a:pt x="1937" y="2898"/>
                      </a:lnTo>
                      <a:lnTo>
                        <a:pt x="1886" y="2800"/>
                      </a:lnTo>
                      <a:lnTo>
                        <a:pt x="1852" y="2812"/>
                      </a:lnTo>
                      <a:lnTo>
                        <a:pt x="1817" y="2726"/>
                      </a:lnTo>
                      <a:lnTo>
                        <a:pt x="1800" y="2652"/>
                      </a:lnTo>
                      <a:lnTo>
                        <a:pt x="1783" y="2628"/>
                      </a:lnTo>
                      <a:lnTo>
                        <a:pt x="1783" y="2505"/>
                      </a:lnTo>
                      <a:lnTo>
                        <a:pt x="1792" y="2432"/>
                      </a:lnTo>
                      <a:lnTo>
                        <a:pt x="1775" y="2382"/>
                      </a:lnTo>
                      <a:lnTo>
                        <a:pt x="1706" y="2407"/>
                      </a:lnTo>
                      <a:lnTo>
                        <a:pt x="1672" y="2419"/>
                      </a:lnTo>
                      <a:lnTo>
                        <a:pt x="1612" y="2419"/>
                      </a:lnTo>
                      <a:lnTo>
                        <a:pt x="1586" y="2419"/>
                      </a:lnTo>
                      <a:lnTo>
                        <a:pt x="1560" y="2419"/>
                      </a:lnTo>
                      <a:lnTo>
                        <a:pt x="1517" y="2346"/>
                      </a:lnTo>
                      <a:lnTo>
                        <a:pt x="1475" y="2246"/>
                      </a:lnTo>
                      <a:lnTo>
                        <a:pt x="1466" y="2259"/>
                      </a:lnTo>
                      <a:lnTo>
                        <a:pt x="1389" y="2259"/>
                      </a:lnTo>
                      <a:lnTo>
                        <a:pt x="1380" y="2222"/>
                      </a:lnTo>
                      <a:lnTo>
                        <a:pt x="1337" y="2259"/>
                      </a:lnTo>
                      <a:lnTo>
                        <a:pt x="1295" y="2246"/>
                      </a:lnTo>
                      <a:lnTo>
                        <a:pt x="1226" y="2246"/>
                      </a:lnTo>
                      <a:lnTo>
                        <a:pt x="1183" y="2222"/>
                      </a:lnTo>
                      <a:lnTo>
                        <a:pt x="1166" y="2259"/>
                      </a:lnTo>
                      <a:lnTo>
                        <a:pt x="1097" y="2271"/>
                      </a:lnTo>
                      <a:lnTo>
                        <a:pt x="1080" y="2246"/>
                      </a:lnTo>
                      <a:lnTo>
                        <a:pt x="1037" y="2309"/>
                      </a:lnTo>
                      <a:lnTo>
                        <a:pt x="986" y="2370"/>
                      </a:lnTo>
                      <a:lnTo>
                        <a:pt x="952" y="2370"/>
                      </a:lnTo>
                      <a:lnTo>
                        <a:pt x="900" y="2444"/>
                      </a:lnTo>
                      <a:lnTo>
                        <a:pt x="823" y="2444"/>
                      </a:lnTo>
                      <a:lnTo>
                        <a:pt x="763" y="2468"/>
                      </a:lnTo>
                      <a:lnTo>
                        <a:pt x="694" y="2505"/>
                      </a:lnTo>
                      <a:lnTo>
                        <a:pt x="659" y="2554"/>
                      </a:lnTo>
                      <a:lnTo>
                        <a:pt x="634" y="2542"/>
                      </a:lnTo>
                      <a:lnTo>
                        <a:pt x="608" y="2591"/>
                      </a:lnTo>
                      <a:lnTo>
                        <a:pt x="574" y="2603"/>
                      </a:lnTo>
                      <a:lnTo>
                        <a:pt x="531" y="2665"/>
                      </a:lnTo>
                      <a:lnTo>
                        <a:pt x="394" y="2665"/>
                      </a:lnTo>
                      <a:lnTo>
                        <a:pt x="334" y="2579"/>
                      </a:lnTo>
                      <a:lnTo>
                        <a:pt x="325" y="2542"/>
                      </a:lnTo>
                      <a:lnTo>
                        <a:pt x="308" y="2579"/>
                      </a:lnTo>
                      <a:lnTo>
                        <a:pt x="282" y="2517"/>
                      </a:lnTo>
                      <a:lnTo>
                        <a:pt x="291" y="2358"/>
                      </a:lnTo>
                      <a:lnTo>
                        <a:pt x="308" y="2259"/>
                      </a:lnTo>
                      <a:lnTo>
                        <a:pt x="282" y="2185"/>
                      </a:lnTo>
                      <a:lnTo>
                        <a:pt x="257" y="2111"/>
                      </a:lnTo>
                      <a:lnTo>
                        <a:pt x="248" y="2026"/>
                      </a:lnTo>
                      <a:lnTo>
                        <a:pt x="205" y="1989"/>
                      </a:lnTo>
                      <a:lnTo>
                        <a:pt x="197" y="1976"/>
                      </a:lnTo>
                      <a:lnTo>
                        <a:pt x="188" y="1940"/>
                      </a:lnTo>
                      <a:lnTo>
                        <a:pt x="128" y="1829"/>
                      </a:lnTo>
                      <a:lnTo>
                        <a:pt x="51" y="1559"/>
                      </a:lnTo>
                      <a:lnTo>
                        <a:pt x="25" y="1375"/>
                      </a:lnTo>
                      <a:lnTo>
                        <a:pt x="25" y="1265"/>
                      </a:lnTo>
                      <a:lnTo>
                        <a:pt x="0" y="1228"/>
                      </a:lnTo>
                      <a:lnTo>
                        <a:pt x="8" y="1130"/>
                      </a:lnTo>
                      <a:lnTo>
                        <a:pt x="34" y="1081"/>
                      </a:lnTo>
                      <a:lnTo>
                        <a:pt x="128" y="946"/>
                      </a:lnTo>
                      <a:lnTo>
                        <a:pt x="222" y="958"/>
                      </a:lnTo>
                      <a:lnTo>
                        <a:pt x="239" y="982"/>
                      </a:lnTo>
                      <a:lnTo>
                        <a:pt x="359" y="982"/>
                      </a:lnTo>
                      <a:lnTo>
                        <a:pt x="368" y="946"/>
                      </a:lnTo>
                      <a:lnTo>
                        <a:pt x="394" y="958"/>
                      </a:lnTo>
                      <a:lnTo>
                        <a:pt x="428" y="921"/>
                      </a:lnTo>
                      <a:lnTo>
                        <a:pt x="454" y="933"/>
                      </a:lnTo>
                      <a:lnTo>
                        <a:pt x="479" y="909"/>
                      </a:lnTo>
                      <a:lnTo>
                        <a:pt x="471" y="872"/>
                      </a:lnTo>
                      <a:lnTo>
                        <a:pt x="497" y="786"/>
                      </a:lnTo>
                      <a:lnTo>
                        <a:pt x="531" y="748"/>
                      </a:lnTo>
                      <a:lnTo>
                        <a:pt x="514" y="724"/>
                      </a:lnTo>
                      <a:lnTo>
                        <a:pt x="531" y="699"/>
                      </a:lnTo>
                      <a:lnTo>
                        <a:pt x="514" y="662"/>
                      </a:lnTo>
                      <a:lnTo>
                        <a:pt x="565" y="601"/>
                      </a:lnTo>
                      <a:lnTo>
                        <a:pt x="642" y="589"/>
                      </a:lnTo>
                      <a:lnTo>
                        <a:pt x="719" y="441"/>
                      </a:lnTo>
                      <a:lnTo>
                        <a:pt x="815" y="319"/>
                      </a:lnTo>
                      <a:lnTo>
                        <a:pt x="858" y="306"/>
                      </a:lnTo>
                      <a:lnTo>
                        <a:pt x="883" y="282"/>
                      </a:lnTo>
                      <a:lnTo>
                        <a:pt x="926" y="282"/>
                      </a:lnTo>
                      <a:lnTo>
                        <a:pt x="1003" y="380"/>
                      </a:lnTo>
                      <a:lnTo>
                        <a:pt x="1029" y="392"/>
                      </a:lnTo>
                      <a:lnTo>
                        <a:pt x="1055" y="343"/>
                      </a:lnTo>
                      <a:lnTo>
                        <a:pt x="1106" y="282"/>
                      </a:lnTo>
                      <a:lnTo>
                        <a:pt x="1140" y="270"/>
                      </a:lnTo>
                      <a:lnTo>
                        <a:pt x="1175" y="171"/>
                      </a:lnTo>
                      <a:lnTo>
                        <a:pt x="1209" y="159"/>
                      </a:lnTo>
                      <a:lnTo>
                        <a:pt x="1252" y="122"/>
                      </a:lnTo>
                      <a:lnTo>
                        <a:pt x="1295" y="85"/>
                      </a:lnTo>
                      <a:lnTo>
                        <a:pt x="1337" y="85"/>
                      </a:lnTo>
                      <a:lnTo>
                        <a:pt x="1372" y="36"/>
                      </a:lnTo>
                      <a:lnTo>
                        <a:pt x="1423" y="36"/>
                      </a:lnTo>
                      <a:lnTo>
                        <a:pt x="1483" y="36"/>
                      </a:lnTo>
                      <a:lnTo>
                        <a:pt x="1560" y="61"/>
                      </a:lnTo>
                      <a:lnTo>
                        <a:pt x="1612" y="110"/>
                      </a:lnTo>
                      <a:lnTo>
                        <a:pt x="1620" y="147"/>
                      </a:lnTo>
                      <a:lnTo>
                        <a:pt x="1629" y="171"/>
                      </a:lnTo>
                      <a:lnTo>
                        <a:pt x="1637" y="233"/>
                      </a:lnTo>
                      <a:lnTo>
                        <a:pt x="1629" y="257"/>
                      </a:lnTo>
                      <a:lnTo>
                        <a:pt x="1629" y="306"/>
                      </a:lnTo>
                      <a:lnTo>
                        <a:pt x="1620" y="343"/>
                      </a:lnTo>
                      <a:lnTo>
                        <a:pt x="1749" y="478"/>
                      </a:lnTo>
                      <a:lnTo>
                        <a:pt x="1792" y="552"/>
                      </a:lnTo>
                      <a:lnTo>
                        <a:pt x="1843" y="576"/>
                      </a:lnTo>
                      <a:lnTo>
                        <a:pt x="1894" y="613"/>
                      </a:lnTo>
                      <a:lnTo>
                        <a:pt x="1929" y="625"/>
                      </a:lnTo>
                      <a:lnTo>
                        <a:pt x="1980" y="589"/>
                      </a:lnTo>
                      <a:lnTo>
                        <a:pt x="2023" y="478"/>
                      </a:lnTo>
                      <a:lnTo>
                        <a:pt x="2040" y="392"/>
                      </a:lnTo>
                      <a:lnTo>
                        <a:pt x="2057" y="233"/>
                      </a:lnTo>
                      <a:lnTo>
                        <a:pt x="2074" y="159"/>
                      </a:lnTo>
                      <a:lnTo>
                        <a:pt x="2074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4920" cy="149760"/>
                </a:xfrm>
                <a:custGeom>
                  <a:avLst/>
                  <a:gdLst/>
                  <a:ahLst/>
                  <a:rect l="0" t="0" r="r" b="b"/>
                  <a:pathLst>
                    <a:path w="1597" h="416">
                      <a:moveTo>
                        <a:pt x="0" y="0"/>
                      </a:moveTo>
                      <a:lnTo>
                        <a:pt x="120" y="60"/>
                      </a:lnTo>
                      <a:lnTo>
                        <a:pt x="223" y="60"/>
                      </a:lnTo>
                      <a:lnTo>
                        <a:pt x="317" y="60"/>
                      </a:lnTo>
                      <a:lnTo>
                        <a:pt x="386" y="60"/>
                      </a:lnTo>
                      <a:lnTo>
                        <a:pt x="437" y="73"/>
                      </a:lnTo>
                      <a:lnTo>
                        <a:pt x="506" y="110"/>
                      </a:lnTo>
                      <a:lnTo>
                        <a:pt x="540" y="196"/>
                      </a:lnTo>
                      <a:lnTo>
                        <a:pt x="575" y="232"/>
                      </a:lnTo>
                      <a:lnTo>
                        <a:pt x="635" y="220"/>
                      </a:lnTo>
                      <a:lnTo>
                        <a:pt x="703" y="220"/>
                      </a:lnTo>
                      <a:lnTo>
                        <a:pt x="780" y="269"/>
                      </a:lnTo>
                      <a:lnTo>
                        <a:pt x="833" y="293"/>
                      </a:lnTo>
                      <a:lnTo>
                        <a:pt x="867" y="293"/>
                      </a:lnTo>
                      <a:lnTo>
                        <a:pt x="876" y="232"/>
                      </a:lnTo>
                      <a:lnTo>
                        <a:pt x="902" y="196"/>
                      </a:lnTo>
                      <a:lnTo>
                        <a:pt x="1005" y="220"/>
                      </a:lnTo>
                      <a:lnTo>
                        <a:pt x="1090" y="220"/>
                      </a:lnTo>
                      <a:lnTo>
                        <a:pt x="1168" y="220"/>
                      </a:lnTo>
                      <a:lnTo>
                        <a:pt x="1228" y="257"/>
                      </a:lnTo>
                      <a:lnTo>
                        <a:pt x="1262" y="281"/>
                      </a:lnTo>
                      <a:lnTo>
                        <a:pt x="1322" y="269"/>
                      </a:lnTo>
                      <a:lnTo>
                        <a:pt x="1365" y="244"/>
                      </a:lnTo>
                      <a:lnTo>
                        <a:pt x="1391" y="220"/>
                      </a:lnTo>
                      <a:lnTo>
                        <a:pt x="1460" y="220"/>
                      </a:lnTo>
                      <a:lnTo>
                        <a:pt x="1502" y="196"/>
                      </a:lnTo>
                      <a:lnTo>
                        <a:pt x="1562" y="171"/>
                      </a:lnTo>
                      <a:lnTo>
                        <a:pt x="1597" y="171"/>
                      </a:lnTo>
                      <a:lnTo>
                        <a:pt x="1588" y="257"/>
                      </a:lnTo>
                      <a:lnTo>
                        <a:pt x="1571" y="293"/>
                      </a:lnTo>
                      <a:lnTo>
                        <a:pt x="1537" y="331"/>
                      </a:lnTo>
                      <a:lnTo>
                        <a:pt x="1502" y="331"/>
                      </a:lnTo>
                      <a:lnTo>
                        <a:pt x="1494" y="331"/>
                      </a:lnTo>
                      <a:lnTo>
                        <a:pt x="1451" y="343"/>
                      </a:lnTo>
                      <a:lnTo>
                        <a:pt x="1417" y="392"/>
                      </a:lnTo>
                      <a:lnTo>
                        <a:pt x="1382" y="379"/>
                      </a:lnTo>
                      <a:lnTo>
                        <a:pt x="1348" y="355"/>
                      </a:lnTo>
                      <a:lnTo>
                        <a:pt x="1314" y="379"/>
                      </a:lnTo>
                      <a:lnTo>
                        <a:pt x="1279" y="392"/>
                      </a:lnTo>
                      <a:lnTo>
                        <a:pt x="1254" y="392"/>
                      </a:lnTo>
                      <a:lnTo>
                        <a:pt x="1228" y="416"/>
                      </a:lnTo>
                      <a:lnTo>
                        <a:pt x="1159" y="416"/>
                      </a:lnTo>
                      <a:lnTo>
                        <a:pt x="1133" y="379"/>
                      </a:lnTo>
                      <a:lnTo>
                        <a:pt x="1099" y="331"/>
                      </a:lnTo>
                      <a:lnTo>
                        <a:pt x="1056" y="379"/>
                      </a:lnTo>
                      <a:lnTo>
                        <a:pt x="1030" y="416"/>
                      </a:lnTo>
                      <a:lnTo>
                        <a:pt x="996" y="416"/>
                      </a:lnTo>
                      <a:lnTo>
                        <a:pt x="936" y="331"/>
                      </a:lnTo>
                      <a:lnTo>
                        <a:pt x="919" y="343"/>
                      </a:lnTo>
                      <a:lnTo>
                        <a:pt x="884" y="343"/>
                      </a:lnTo>
                      <a:lnTo>
                        <a:pt x="859" y="392"/>
                      </a:lnTo>
                      <a:lnTo>
                        <a:pt x="807" y="379"/>
                      </a:lnTo>
                      <a:lnTo>
                        <a:pt x="755" y="379"/>
                      </a:lnTo>
                      <a:lnTo>
                        <a:pt x="729" y="355"/>
                      </a:lnTo>
                      <a:lnTo>
                        <a:pt x="695" y="331"/>
                      </a:lnTo>
                      <a:lnTo>
                        <a:pt x="643" y="343"/>
                      </a:lnTo>
                      <a:lnTo>
                        <a:pt x="592" y="392"/>
                      </a:lnTo>
                      <a:lnTo>
                        <a:pt x="557" y="379"/>
                      </a:lnTo>
                      <a:lnTo>
                        <a:pt x="506" y="355"/>
                      </a:lnTo>
                      <a:lnTo>
                        <a:pt x="446" y="318"/>
                      </a:lnTo>
                      <a:lnTo>
                        <a:pt x="394" y="318"/>
                      </a:lnTo>
                      <a:lnTo>
                        <a:pt x="291" y="281"/>
                      </a:lnTo>
                      <a:lnTo>
                        <a:pt x="223" y="257"/>
                      </a:lnTo>
                      <a:lnTo>
                        <a:pt x="180" y="244"/>
                      </a:lnTo>
                      <a:lnTo>
                        <a:pt x="111" y="232"/>
                      </a:lnTo>
                      <a:lnTo>
                        <a:pt x="68" y="183"/>
                      </a:lnTo>
                      <a:lnTo>
                        <a:pt x="25" y="171"/>
                      </a:lnTo>
                      <a:lnTo>
                        <a:pt x="8" y="159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0640" cy="287640"/>
                </a:xfrm>
                <a:custGeom>
                  <a:avLst/>
                  <a:gdLst/>
                  <a:ahLst/>
                  <a:rect l="0" t="0" r="r" b="b"/>
                  <a:pathLst>
                    <a:path w="724" h="799">
                      <a:moveTo>
                        <a:pt x="180" y="0"/>
                      </a:moveTo>
                      <a:lnTo>
                        <a:pt x="352" y="12"/>
                      </a:lnTo>
                      <a:lnTo>
                        <a:pt x="517" y="12"/>
                      </a:lnTo>
                      <a:lnTo>
                        <a:pt x="603" y="0"/>
                      </a:lnTo>
                      <a:lnTo>
                        <a:pt x="724" y="73"/>
                      </a:lnTo>
                      <a:lnTo>
                        <a:pt x="646" y="98"/>
                      </a:lnTo>
                      <a:lnTo>
                        <a:pt x="603" y="135"/>
                      </a:lnTo>
                      <a:lnTo>
                        <a:pt x="577" y="159"/>
                      </a:lnTo>
                      <a:lnTo>
                        <a:pt x="560" y="184"/>
                      </a:lnTo>
                      <a:lnTo>
                        <a:pt x="560" y="208"/>
                      </a:lnTo>
                      <a:lnTo>
                        <a:pt x="560" y="245"/>
                      </a:lnTo>
                      <a:lnTo>
                        <a:pt x="508" y="270"/>
                      </a:lnTo>
                      <a:lnTo>
                        <a:pt x="465" y="270"/>
                      </a:lnTo>
                      <a:lnTo>
                        <a:pt x="448" y="282"/>
                      </a:lnTo>
                      <a:lnTo>
                        <a:pt x="405" y="282"/>
                      </a:lnTo>
                      <a:lnTo>
                        <a:pt x="388" y="245"/>
                      </a:lnTo>
                      <a:lnTo>
                        <a:pt x="352" y="196"/>
                      </a:lnTo>
                      <a:lnTo>
                        <a:pt x="318" y="159"/>
                      </a:lnTo>
                      <a:lnTo>
                        <a:pt x="249" y="159"/>
                      </a:lnTo>
                      <a:lnTo>
                        <a:pt x="232" y="159"/>
                      </a:lnTo>
                      <a:lnTo>
                        <a:pt x="215" y="221"/>
                      </a:lnTo>
                      <a:lnTo>
                        <a:pt x="223" y="282"/>
                      </a:lnTo>
                      <a:lnTo>
                        <a:pt x="223" y="319"/>
                      </a:lnTo>
                      <a:lnTo>
                        <a:pt x="232" y="356"/>
                      </a:lnTo>
                      <a:lnTo>
                        <a:pt x="266" y="343"/>
                      </a:lnTo>
                      <a:lnTo>
                        <a:pt x="318" y="306"/>
                      </a:lnTo>
                      <a:lnTo>
                        <a:pt x="352" y="306"/>
                      </a:lnTo>
                      <a:lnTo>
                        <a:pt x="379" y="331"/>
                      </a:lnTo>
                      <a:lnTo>
                        <a:pt x="379" y="356"/>
                      </a:lnTo>
                      <a:lnTo>
                        <a:pt x="361" y="406"/>
                      </a:lnTo>
                      <a:lnTo>
                        <a:pt x="352" y="430"/>
                      </a:lnTo>
                      <a:lnTo>
                        <a:pt x="352" y="455"/>
                      </a:lnTo>
                      <a:lnTo>
                        <a:pt x="344" y="492"/>
                      </a:lnTo>
                      <a:lnTo>
                        <a:pt x="361" y="529"/>
                      </a:lnTo>
                      <a:lnTo>
                        <a:pt x="397" y="578"/>
                      </a:lnTo>
                      <a:lnTo>
                        <a:pt x="405" y="565"/>
                      </a:lnTo>
                      <a:lnTo>
                        <a:pt x="405" y="614"/>
                      </a:lnTo>
                      <a:lnTo>
                        <a:pt x="388" y="651"/>
                      </a:lnTo>
                      <a:lnTo>
                        <a:pt x="371" y="688"/>
                      </a:lnTo>
                      <a:lnTo>
                        <a:pt x="361" y="750"/>
                      </a:lnTo>
                      <a:lnTo>
                        <a:pt x="327" y="774"/>
                      </a:lnTo>
                      <a:lnTo>
                        <a:pt x="301" y="774"/>
                      </a:lnTo>
                      <a:lnTo>
                        <a:pt x="275" y="774"/>
                      </a:lnTo>
                      <a:lnTo>
                        <a:pt x="275" y="725"/>
                      </a:lnTo>
                      <a:lnTo>
                        <a:pt x="266" y="639"/>
                      </a:lnTo>
                      <a:lnTo>
                        <a:pt x="241" y="614"/>
                      </a:lnTo>
                      <a:lnTo>
                        <a:pt x="232" y="578"/>
                      </a:lnTo>
                      <a:lnTo>
                        <a:pt x="241" y="504"/>
                      </a:lnTo>
                      <a:lnTo>
                        <a:pt x="215" y="479"/>
                      </a:lnTo>
                      <a:lnTo>
                        <a:pt x="154" y="504"/>
                      </a:lnTo>
                      <a:lnTo>
                        <a:pt x="129" y="479"/>
                      </a:lnTo>
                      <a:lnTo>
                        <a:pt x="103" y="516"/>
                      </a:lnTo>
                      <a:lnTo>
                        <a:pt x="129" y="541"/>
                      </a:lnTo>
                      <a:lnTo>
                        <a:pt x="172" y="565"/>
                      </a:lnTo>
                      <a:lnTo>
                        <a:pt x="180" y="590"/>
                      </a:lnTo>
                      <a:lnTo>
                        <a:pt x="206" y="639"/>
                      </a:lnTo>
                      <a:lnTo>
                        <a:pt x="206" y="676"/>
                      </a:lnTo>
                      <a:lnTo>
                        <a:pt x="180" y="737"/>
                      </a:lnTo>
                      <a:lnTo>
                        <a:pt x="146" y="786"/>
                      </a:lnTo>
                      <a:lnTo>
                        <a:pt x="129" y="799"/>
                      </a:lnTo>
                      <a:lnTo>
                        <a:pt x="129" y="762"/>
                      </a:lnTo>
                      <a:lnTo>
                        <a:pt x="129" y="725"/>
                      </a:lnTo>
                      <a:lnTo>
                        <a:pt x="137" y="676"/>
                      </a:lnTo>
                      <a:lnTo>
                        <a:pt x="94" y="639"/>
                      </a:lnTo>
                      <a:lnTo>
                        <a:pt x="51" y="602"/>
                      </a:lnTo>
                      <a:lnTo>
                        <a:pt x="43" y="565"/>
                      </a:lnTo>
                      <a:lnTo>
                        <a:pt x="0" y="541"/>
                      </a:lnTo>
                      <a:lnTo>
                        <a:pt x="8" y="479"/>
                      </a:lnTo>
                      <a:lnTo>
                        <a:pt x="43" y="443"/>
                      </a:lnTo>
                      <a:lnTo>
                        <a:pt x="68" y="380"/>
                      </a:lnTo>
                      <a:lnTo>
                        <a:pt x="94" y="319"/>
                      </a:lnTo>
                      <a:lnTo>
                        <a:pt x="103" y="257"/>
                      </a:lnTo>
                      <a:lnTo>
                        <a:pt x="94" y="196"/>
                      </a:lnTo>
                      <a:lnTo>
                        <a:pt x="111" y="171"/>
                      </a:lnTo>
                      <a:lnTo>
                        <a:pt x="129" y="147"/>
                      </a:lnTo>
                      <a:lnTo>
                        <a:pt x="103" y="9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7640" cy="394200"/>
                </a:xfrm>
                <a:custGeom>
                  <a:avLst/>
                  <a:gdLst/>
                  <a:ahLst/>
                  <a:rect l="0" t="0" r="r" b="b"/>
                  <a:pathLst>
                    <a:path w="799" h="1095">
                      <a:moveTo>
                        <a:pt x="0" y="365"/>
                      </a:moveTo>
                      <a:lnTo>
                        <a:pt x="163" y="194"/>
                      </a:lnTo>
                      <a:lnTo>
                        <a:pt x="248" y="121"/>
                      </a:lnTo>
                      <a:lnTo>
                        <a:pt x="291" y="60"/>
                      </a:lnTo>
                      <a:lnTo>
                        <a:pt x="421" y="0"/>
                      </a:lnTo>
                      <a:lnTo>
                        <a:pt x="490" y="133"/>
                      </a:lnTo>
                      <a:lnTo>
                        <a:pt x="558" y="72"/>
                      </a:lnTo>
                      <a:lnTo>
                        <a:pt x="584" y="36"/>
                      </a:lnTo>
                      <a:lnTo>
                        <a:pt x="644" y="0"/>
                      </a:lnTo>
                      <a:lnTo>
                        <a:pt x="679" y="0"/>
                      </a:lnTo>
                      <a:lnTo>
                        <a:pt x="687" y="48"/>
                      </a:lnTo>
                      <a:lnTo>
                        <a:pt x="687" y="85"/>
                      </a:lnTo>
                      <a:lnTo>
                        <a:pt x="653" y="145"/>
                      </a:lnTo>
                      <a:lnTo>
                        <a:pt x="653" y="182"/>
                      </a:lnTo>
                      <a:lnTo>
                        <a:pt x="747" y="341"/>
                      </a:lnTo>
                      <a:lnTo>
                        <a:pt x="764" y="438"/>
                      </a:lnTo>
                      <a:lnTo>
                        <a:pt x="790" y="438"/>
                      </a:lnTo>
                      <a:lnTo>
                        <a:pt x="799" y="487"/>
                      </a:lnTo>
                      <a:lnTo>
                        <a:pt x="764" y="535"/>
                      </a:lnTo>
                      <a:lnTo>
                        <a:pt x="739" y="511"/>
                      </a:lnTo>
                      <a:lnTo>
                        <a:pt x="679" y="547"/>
                      </a:lnTo>
                      <a:lnTo>
                        <a:pt x="687" y="645"/>
                      </a:lnTo>
                      <a:lnTo>
                        <a:pt x="618" y="705"/>
                      </a:lnTo>
                      <a:lnTo>
                        <a:pt x="618" y="864"/>
                      </a:lnTo>
                      <a:lnTo>
                        <a:pt x="618" y="974"/>
                      </a:lnTo>
                      <a:lnTo>
                        <a:pt x="584" y="1022"/>
                      </a:lnTo>
                      <a:lnTo>
                        <a:pt x="558" y="1095"/>
                      </a:lnTo>
                      <a:lnTo>
                        <a:pt x="524" y="1083"/>
                      </a:lnTo>
                      <a:lnTo>
                        <a:pt x="473" y="1047"/>
                      </a:lnTo>
                      <a:lnTo>
                        <a:pt x="430" y="1010"/>
                      </a:lnTo>
                      <a:lnTo>
                        <a:pt x="394" y="949"/>
                      </a:lnTo>
                      <a:lnTo>
                        <a:pt x="274" y="961"/>
                      </a:lnTo>
                      <a:lnTo>
                        <a:pt x="171" y="925"/>
                      </a:lnTo>
                      <a:lnTo>
                        <a:pt x="102" y="828"/>
                      </a:lnTo>
                      <a:lnTo>
                        <a:pt x="60" y="754"/>
                      </a:lnTo>
                      <a:lnTo>
                        <a:pt x="25" y="693"/>
                      </a:lnTo>
                      <a:lnTo>
                        <a:pt x="25" y="572"/>
                      </a:lnTo>
                      <a:lnTo>
                        <a:pt x="0" y="365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1160" cy="371880"/>
                </a:xfrm>
                <a:custGeom>
                  <a:avLst/>
                  <a:gdLst/>
                  <a:ahLst/>
                  <a:rect l="0" t="0" r="r" b="b"/>
                  <a:pathLst>
                    <a:path w="1531" h="1033">
                      <a:moveTo>
                        <a:pt x="0" y="0"/>
                      </a:moveTo>
                      <a:lnTo>
                        <a:pt x="137" y="12"/>
                      </a:lnTo>
                      <a:lnTo>
                        <a:pt x="249" y="24"/>
                      </a:lnTo>
                      <a:lnTo>
                        <a:pt x="300" y="171"/>
                      </a:lnTo>
                      <a:lnTo>
                        <a:pt x="309" y="221"/>
                      </a:lnTo>
                      <a:lnTo>
                        <a:pt x="326" y="245"/>
                      </a:lnTo>
                      <a:lnTo>
                        <a:pt x="361" y="208"/>
                      </a:lnTo>
                      <a:lnTo>
                        <a:pt x="421" y="208"/>
                      </a:lnTo>
                      <a:lnTo>
                        <a:pt x="455" y="245"/>
                      </a:lnTo>
                      <a:lnTo>
                        <a:pt x="472" y="233"/>
                      </a:lnTo>
                      <a:lnTo>
                        <a:pt x="524" y="171"/>
                      </a:lnTo>
                      <a:lnTo>
                        <a:pt x="532" y="171"/>
                      </a:lnTo>
                      <a:lnTo>
                        <a:pt x="575" y="135"/>
                      </a:lnTo>
                      <a:lnTo>
                        <a:pt x="618" y="135"/>
                      </a:lnTo>
                      <a:lnTo>
                        <a:pt x="756" y="208"/>
                      </a:lnTo>
                      <a:lnTo>
                        <a:pt x="817" y="208"/>
                      </a:lnTo>
                      <a:lnTo>
                        <a:pt x="877" y="271"/>
                      </a:lnTo>
                      <a:lnTo>
                        <a:pt x="938" y="295"/>
                      </a:lnTo>
                      <a:lnTo>
                        <a:pt x="989" y="344"/>
                      </a:lnTo>
                      <a:lnTo>
                        <a:pt x="1032" y="357"/>
                      </a:lnTo>
                      <a:lnTo>
                        <a:pt x="1144" y="406"/>
                      </a:lnTo>
                      <a:lnTo>
                        <a:pt x="1195" y="492"/>
                      </a:lnTo>
                      <a:lnTo>
                        <a:pt x="1221" y="541"/>
                      </a:lnTo>
                      <a:lnTo>
                        <a:pt x="1213" y="566"/>
                      </a:lnTo>
                      <a:lnTo>
                        <a:pt x="1256" y="615"/>
                      </a:lnTo>
                      <a:lnTo>
                        <a:pt x="1290" y="627"/>
                      </a:lnTo>
                      <a:lnTo>
                        <a:pt x="1307" y="639"/>
                      </a:lnTo>
                      <a:lnTo>
                        <a:pt x="1350" y="652"/>
                      </a:lnTo>
                      <a:lnTo>
                        <a:pt x="1419" y="725"/>
                      </a:lnTo>
                      <a:lnTo>
                        <a:pt x="1419" y="774"/>
                      </a:lnTo>
                      <a:lnTo>
                        <a:pt x="1462" y="825"/>
                      </a:lnTo>
                      <a:lnTo>
                        <a:pt x="1470" y="849"/>
                      </a:lnTo>
                      <a:lnTo>
                        <a:pt x="1531" y="947"/>
                      </a:lnTo>
                      <a:lnTo>
                        <a:pt x="1479" y="1033"/>
                      </a:lnTo>
                      <a:lnTo>
                        <a:pt x="1462" y="1033"/>
                      </a:lnTo>
                      <a:lnTo>
                        <a:pt x="1410" y="1033"/>
                      </a:lnTo>
                      <a:lnTo>
                        <a:pt x="1393" y="997"/>
                      </a:lnTo>
                      <a:lnTo>
                        <a:pt x="1367" y="997"/>
                      </a:lnTo>
                      <a:lnTo>
                        <a:pt x="1342" y="1009"/>
                      </a:lnTo>
                      <a:lnTo>
                        <a:pt x="1213" y="812"/>
                      </a:lnTo>
                      <a:lnTo>
                        <a:pt x="1135" y="825"/>
                      </a:lnTo>
                      <a:lnTo>
                        <a:pt x="1058" y="812"/>
                      </a:lnTo>
                      <a:lnTo>
                        <a:pt x="1032" y="837"/>
                      </a:lnTo>
                      <a:lnTo>
                        <a:pt x="1006" y="874"/>
                      </a:lnTo>
                      <a:lnTo>
                        <a:pt x="998" y="849"/>
                      </a:lnTo>
                      <a:lnTo>
                        <a:pt x="963" y="911"/>
                      </a:lnTo>
                      <a:lnTo>
                        <a:pt x="912" y="997"/>
                      </a:lnTo>
                      <a:lnTo>
                        <a:pt x="869" y="960"/>
                      </a:lnTo>
                      <a:lnTo>
                        <a:pt x="817" y="935"/>
                      </a:lnTo>
                      <a:lnTo>
                        <a:pt x="783" y="935"/>
                      </a:lnTo>
                      <a:lnTo>
                        <a:pt x="730" y="911"/>
                      </a:lnTo>
                      <a:lnTo>
                        <a:pt x="704" y="935"/>
                      </a:lnTo>
                      <a:lnTo>
                        <a:pt x="670" y="812"/>
                      </a:lnTo>
                      <a:lnTo>
                        <a:pt x="610" y="701"/>
                      </a:lnTo>
                      <a:lnTo>
                        <a:pt x="550" y="566"/>
                      </a:lnTo>
                      <a:lnTo>
                        <a:pt x="498" y="492"/>
                      </a:lnTo>
                      <a:lnTo>
                        <a:pt x="455" y="418"/>
                      </a:lnTo>
                      <a:lnTo>
                        <a:pt x="361" y="418"/>
                      </a:lnTo>
                      <a:lnTo>
                        <a:pt x="275" y="455"/>
                      </a:lnTo>
                      <a:lnTo>
                        <a:pt x="232" y="406"/>
                      </a:lnTo>
                      <a:lnTo>
                        <a:pt x="146" y="369"/>
                      </a:lnTo>
                      <a:lnTo>
                        <a:pt x="103" y="332"/>
                      </a:lnTo>
                      <a:lnTo>
                        <a:pt x="103" y="184"/>
                      </a:lnTo>
                      <a:lnTo>
                        <a:pt x="111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0480" cy="491040"/>
                </a:xfrm>
                <a:custGeom>
                  <a:avLst/>
                  <a:gdLst/>
                  <a:ahLst/>
                  <a:rect l="0" t="0" r="r" b="b"/>
                  <a:pathLst>
                    <a:path w="918" h="1364">
                      <a:moveTo>
                        <a:pt x="0" y="36"/>
                      </a:moveTo>
                      <a:lnTo>
                        <a:pt x="93" y="0"/>
                      </a:lnTo>
                      <a:lnTo>
                        <a:pt x="203" y="61"/>
                      </a:lnTo>
                      <a:lnTo>
                        <a:pt x="220" y="122"/>
                      </a:lnTo>
                      <a:lnTo>
                        <a:pt x="220" y="147"/>
                      </a:lnTo>
                      <a:lnTo>
                        <a:pt x="246" y="159"/>
                      </a:lnTo>
                      <a:lnTo>
                        <a:pt x="246" y="184"/>
                      </a:lnTo>
                      <a:lnTo>
                        <a:pt x="280" y="196"/>
                      </a:lnTo>
                      <a:lnTo>
                        <a:pt x="280" y="245"/>
                      </a:lnTo>
                      <a:lnTo>
                        <a:pt x="390" y="393"/>
                      </a:lnTo>
                      <a:lnTo>
                        <a:pt x="407" y="393"/>
                      </a:lnTo>
                      <a:lnTo>
                        <a:pt x="424" y="430"/>
                      </a:lnTo>
                      <a:lnTo>
                        <a:pt x="441" y="467"/>
                      </a:lnTo>
                      <a:lnTo>
                        <a:pt x="458" y="467"/>
                      </a:lnTo>
                      <a:lnTo>
                        <a:pt x="536" y="516"/>
                      </a:lnTo>
                      <a:lnTo>
                        <a:pt x="680" y="541"/>
                      </a:lnTo>
                      <a:lnTo>
                        <a:pt x="688" y="712"/>
                      </a:lnTo>
                      <a:lnTo>
                        <a:pt x="722" y="737"/>
                      </a:lnTo>
                      <a:lnTo>
                        <a:pt x="714" y="798"/>
                      </a:lnTo>
                      <a:lnTo>
                        <a:pt x="799" y="884"/>
                      </a:lnTo>
                      <a:lnTo>
                        <a:pt x="875" y="921"/>
                      </a:lnTo>
                      <a:lnTo>
                        <a:pt x="875" y="1205"/>
                      </a:lnTo>
                      <a:lnTo>
                        <a:pt x="918" y="1315"/>
                      </a:lnTo>
                      <a:lnTo>
                        <a:pt x="892" y="1352"/>
                      </a:lnTo>
                      <a:lnTo>
                        <a:pt x="841" y="1364"/>
                      </a:lnTo>
                      <a:lnTo>
                        <a:pt x="833" y="1266"/>
                      </a:lnTo>
                      <a:lnTo>
                        <a:pt x="748" y="1364"/>
                      </a:lnTo>
                      <a:lnTo>
                        <a:pt x="688" y="1217"/>
                      </a:lnTo>
                      <a:lnTo>
                        <a:pt x="654" y="1119"/>
                      </a:lnTo>
                      <a:lnTo>
                        <a:pt x="553" y="983"/>
                      </a:lnTo>
                      <a:lnTo>
                        <a:pt x="527" y="983"/>
                      </a:lnTo>
                      <a:lnTo>
                        <a:pt x="433" y="909"/>
                      </a:lnTo>
                      <a:lnTo>
                        <a:pt x="416" y="835"/>
                      </a:lnTo>
                      <a:lnTo>
                        <a:pt x="416" y="786"/>
                      </a:lnTo>
                      <a:lnTo>
                        <a:pt x="339" y="590"/>
                      </a:lnTo>
                      <a:lnTo>
                        <a:pt x="305" y="467"/>
                      </a:lnTo>
                      <a:lnTo>
                        <a:pt x="212" y="356"/>
                      </a:lnTo>
                      <a:lnTo>
                        <a:pt x="84" y="1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4360" cy="540000"/>
                </a:xfrm>
                <a:custGeom>
                  <a:avLst/>
                  <a:gdLst/>
                  <a:ahLst/>
                  <a:rect l="0" t="0" r="r" b="b"/>
                  <a:pathLst>
                    <a:path w="901" h="1500">
                      <a:moveTo>
                        <a:pt x="60" y="0"/>
                      </a:moveTo>
                      <a:lnTo>
                        <a:pt x="138" y="0"/>
                      </a:lnTo>
                      <a:lnTo>
                        <a:pt x="224" y="159"/>
                      </a:lnTo>
                      <a:lnTo>
                        <a:pt x="207" y="307"/>
                      </a:lnTo>
                      <a:lnTo>
                        <a:pt x="260" y="356"/>
                      </a:lnTo>
                      <a:lnTo>
                        <a:pt x="286" y="454"/>
                      </a:lnTo>
                      <a:lnTo>
                        <a:pt x="346" y="503"/>
                      </a:lnTo>
                      <a:lnTo>
                        <a:pt x="416" y="516"/>
                      </a:lnTo>
                      <a:lnTo>
                        <a:pt x="519" y="589"/>
                      </a:lnTo>
                      <a:lnTo>
                        <a:pt x="589" y="675"/>
                      </a:lnTo>
                      <a:lnTo>
                        <a:pt x="606" y="675"/>
                      </a:lnTo>
                      <a:lnTo>
                        <a:pt x="693" y="749"/>
                      </a:lnTo>
                      <a:lnTo>
                        <a:pt x="693" y="934"/>
                      </a:lnTo>
                      <a:lnTo>
                        <a:pt x="719" y="1021"/>
                      </a:lnTo>
                      <a:lnTo>
                        <a:pt x="745" y="1070"/>
                      </a:lnTo>
                      <a:lnTo>
                        <a:pt x="780" y="1119"/>
                      </a:lnTo>
                      <a:lnTo>
                        <a:pt x="815" y="1180"/>
                      </a:lnTo>
                      <a:lnTo>
                        <a:pt x="832" y="1254"/>
                      </a:lnTo>
                      <a:lnTo>
                        <a:pt x="901" y="1315"/>
                      </a:lnTo>
                      <a:lnTo>
                        <a:pt x="892" y="1389"/>
                      </a:lnTo>
                      <a:lnTo>
                        <a:pt x="823" y="1401"/>
                      </a:lnTo>
                      <a:lnTo>
                        <a:pt x="797" y="1340"/>
                      </a:lnTo>
                      <a:lnTo>
                        <a:pt x="745" y="1340"/>
                      </a:lnTo>
                      <a:lnTo>
                        <a:pt x="745" y="1500"/>
                      </a:lnTo>
                      <a:lnTo>
                        <a:pt x="702" y="1500"/>
                      </a:lnTo>
                      <a:lnTo>
                        <a:pt x="649" y="1426"/>
                      </a:lnTo>
                      <a:lnTo>
                        <a:pt x="615" y="1389"/>
                      </a:lnTo>
                      <a:lnTo>
                        <a:pt x="615" y="1303"/>
                      </a:lnTo>
                      <a:lnTo>
                        <a:pt x="537" y="1303"/>
                      </a:lnTo>
                      <a:lnTo>
                        <a:pt x="511" y="1389"/>
                      </a:lnTo>
                      <a:lnTo>
                        <a:pt x="485" y="1303"/>
                      </a:lnTo>
                      <a:lnTo>
                        <a:pt x="476" y="1217"/>
                      </a:lnTo>
                      <a:lnTo>
                        <a:pt x="571" y="1180"/>
                      </a:lnTo>
                      <a:lnTo>
                        <a:pt x="623" y="1205"/>
                      </a:lnTo>
                      <a:lnTo>
                        <a:pt x="632" y="1057"/>
                      </a:lnTo>
                      <a:lnTo>
                        <a:pt x="580" y="1008"/>
                      </a:lnTo>
                      <a:lnTo>
                        <a:pt x="545" y="885"/>
                      </a:lnTo>
                      <a:lnTo>
                        <a:pt x="519" y="737"/>
                      </a:lnTo>
                      <a:lnTo>
                        <a:pt x="424" y="688"/>
                      </a:lnTo>
                      <a:lnTo>
                        <a:pt x="381" y="626"/>
                      </a:lnTo>
                      <a:lnTo>
                        <a:pt x="303" y="589"/>
                      </a:lnTo>
                      <a:lnTo>
                        <a:pt x="346" y="725"/>
                      </a:lnTo>
                      <a:lnTo>
                        <a:pt x="260" y="787"/>
                      </a:lnTo>
                      <a:lnTo>
                        <a:pt x="207" y="639"/>
                      </a:lnTo>
                      <a:lnTo>
                        <a:pt x="164" y="602"/>
                      </a:lnTo>
                      <a:lnTo>
                        <a:pt x="164" y="516"/>
                      </a:lnTo>
                      <a:lnTo>
                        <a:pt x="103" y="417"/>
                      </a:lnTo>
                      <a:lnTo>
                        <a:pt x="34" y="356"/>
                      </a:lnTo>
                      <a:lnTo>
                        <a:pt x="0" y="294"/>
                      </a:lnTo>
                      <a:lnTo>
                        <a:pt x="17" y="245"/>
                      </a:lnTo>
                      <a:lnTo>
                        <a:pt x="69" y="270"/>
                      </a:lnTo>
                      <a:lnTo>
                        <a:pt x="86" y="208"/>
                      </a:lnTo>
                      <a:lnTo>
                        <a:pt x="69" y="12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6880" cy="457560"/>
                </a:xfrm>
                <a:custGeom>
                  <a:avLst/>
                  <a:gdLst/>
                  <a:ahLst/>
                  <a:rect l="0" t="0" r="r" b="b"/>
                  <a:pathLst>
                    <a:path w="658" h="1271">
                      <a:moveTo>
                        <a:pt x="136" y="0"/>
                      </a:moveTo>
                      <a:lnTo>
                        <a:pt x="264" y="86"/>
                      </a:lnTo>
                      <a:lnTo>
                        <a:pt x="342" y="160"/>
                      </a:lnTo>
                      <a:lnTo>
                        <a:pt x="393" y="271"/>
                      </a:lnTo>
                      <a:lnTo>
                        <a:pt x="436" y="271"/>
                      </a:lnTo>
                      <a:lnTo>
                        <a:pt x="427" y="346"/>
                      </a:lnTo>
                      <a:lnTo>
                        <a:pt x="478" y="395"/>
                      </a:lnTo>
                      <a:lnTo>
                        <a:pt x="512" y="469"/>
                      </a:lnTo>
                      <a:lnTo>
                        <a:pt x="598" y="617"/>
                      </a:lnTo>
                      <a:lnTo>
                        <a:pt x="658" y="790"/>
                      </a:lnTo>
                      <a:lnTo>
                        <a:pt x="547" y="777"/>
                      </a:lnTo>
                      <a:lnTo>
                        <a:pt x="461" y="753"/>
                      </a:lnTo>
                      <a:lnTo>
                        <a:pt x="521" y="876"/>
                      </a:lnTo>
                      <a:lnTo>
                        <a:pt x="521" y="950"/>
                      </a:lnTo>
                      <a:lnTo>
                        <a:pt x="521" y="1025"/>
                      </a:lnTo>
                      <a:lnTo>
                        <a:pt x="487" y="988"/>
                      </a:lnTo>
                      <a:lnTo>
                        <a:pt x="444" y="925"/>
                      </a:lnTo>
                      <a:lnTo>
                        <a:pt x="367" y="851"/>
                      </a:lnTo>
                      <a:lnTo>
                        <a:pt x="324" y="814"/>
                      </a:lnTo>
                      <a:lnTo>
                        <a:pt x="255" y="851"/>
                      </a:lnTo>
                      <a:lnTo>
                        <a:pt x="213" y="876"/>
                      </a:lnTo>
                      <a:lnTo>
                        <a:pt x="238" y="938"/>
                      </a:lnTo>
                      <a:lnTo>
                        <a:pt x="307" y="988"/>
                      </a:lnTo>
                      <a:lnTo>
                        <a:pt x="376" y="1037"/>
                      </a:lnTo>
                      <a:lnTo>
                        <a:pt x="402" y="1124"/>
                      </a:lnTo>
                      <a:lnTo>
                        <a:pt x="393" y="1235"/>
                      </a:lnTo>
                      <a:lnTo>
                        <a:pt x="393" y="1271"/>
                      </a:lnTo>
                      <a:lnTo>
                        <a:pt x="367" y="1271"/>
                      </a:lnTo>
                      <a:lnTo>
                        <a:pt x="324" y="1235"/>
                      </a:lnTo>
                      <a:lnTo>
                        <a:pt x="307" y="1222"/>
                      </a:lnTo>
                      <a:lnTo>
                        <a:pt x="281" y="1198"/>
                      </a:lnTo>
                      <a:lnTo>
                        <a:pt x="255" y="1259"/>
                      </a:lnTo>
                      <a:lnTo>
                        <a:pt x="213" y="1271"/>
                      </a:lnTo>
                      <a:lnTo>
                        <a:pt x="179" y="1222"/>
                      </a:lnTo>
                      <a:lnTo>
                        <a:pt x="179" y="1111"/>
                      </a:lnTo>
                      <a:lnTo>
                        <a:pt x="170" y="1050"/>
                      </a:lnTo>
                      <a:lnTo>
                        <a:pt x="127" y="1013"/>
                      </a:lnTo>
                      <a:lnTo>
                        <a:pt x="85" y="1074"/>
                      </a:lnTo>
                      <a:lnTo>
                        <a:pt x="17" y="1074"/>
                      </a:lnTo>
                      <a:lnTo>
                        <a:pt x="0" y="1025"/>
                      </a:lnTo>
                      <a:lnTo>
                        <a:pt x="17" y="901"/>
                      </a:lnTo>
                      <a:lnTo>
                        <a:pt x="68" y="827"/>
                      </a:lnTo>
                      <a:lnTo>
                        <a:pt x="59" y="629"/>
                      </a:lnTo>
                      <a:lnTo>
                        <a:pt x="59" y="580"/>
                      </a:lnTo>
                      <a:lnTo>
                        <a:pt x="110" y="568"/>
                      </a:lnTo>
                      <a:lnTo>
                        <a:pt x="153" y="617"/>
                      </a:lnTo>
                      <a:lnTo>
                        <a:pt x="230" y="642"/>
                      </a:lnTo>
                      <a:lnTo>
                        <a:pt x="230" y="555"/>
                      </a:lnTo>
                      <a:lnTo>
                        <a:pt x="196" y="506"/>
                      </a:lnTo>
                      <a:lnTo>
                        <a:pt x="179" y="469"/>
                      </a:lnTo>
                      <a:lnTo>
                        <a:pt x="204" y="469"/>
                      </a:lnTo>
                      <a:lnTo>
                        <a:pt x="221" y="469"/>
                      </a:lnTo>
                      <a:lnTo>
                        <a:pt x="238" y="469"/>
                      </a:lnTo>
                      <a:lnTo>
                        <a:pt x="255" y="469"/>
                      </a:lnTo>
                      <a:lnTo>
                        <a:pt x="281" y="432"/>
                      </a:lnTo>
                      <a:lnTo>
                        <a:pt x="273" y="395"/>
                      </a:lnTo>
                      <a:lnTo>
                        <a:pt x="247" y="308"/>
                      </a:lnTo>
                      <a:lnTo>
                        <a:pt x="196" y="221"/>
                      </a:lnTo>
                      <a:lnTo>
                        <a:pt x="127" y="172"/>
                      </a:lnTo>
                      <a:lnTo>
                        <a:pt x="102" y="123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0640" cy="375120"/>
                </a:xfrm>
                <a:custGeom>
                  <a:avLst/>
                  <a:gdLst/>
                  <a:ahLst/>
                  <a:rect l="0" t="0" r="r" b="b"/>
                  <a:pathLst>
                    <a:path w="724" h="1042">
                      <a:moveTo>
                        <a:pt x="0" y="0"/>
                      </a:moveTo>
                      <a:lnTo>
                        <a:pt x="68" y="0"/>
                      </a:lnTo>
                      <a:lnTo>
                        <a:pt x="94" y="73"/>
                      </a:lnTo>
                      <a:lnTo>
                        <a:pt x="189" y="183"/>
                      </a:lnTo>
                      <a:lnTo>
                        <a:pt x="232" y="307"/>
                      </a:lnTo>
                      <a:lnTo>
                        <a:pt x="301" y="319"/>
                      </a:lnTo>
                      <a:lnTo>
                        <a:pt x="352" y="343"/>
                      </a:lnTo>
                      <a:lnTo>
                        <a:pt x="397" y="392"/>
                      </a:lnTo>
                      <a:lnTo>
                        <a:pt x="448" y="392"/>
                      </a:lnTo>
                      <a:lnTo>
                        <a:pt x="508" y="466"/>
                      </a:lnTo>
                      <a:lnTo>
                        <a:pt x="560" y="527"/>
                      </a:lnTo>
                      <a:lnTo>
                        <a:pt x="620" y="564"/>
                      </a:lnTo>
                      <a:lnTo>
                        <a:pt x="612" y="600"/>
                      </a:lnTo>
                      <a:lnTo>
                        <a:pt x="577" y="625"/>
                      </a:lnTo>
                      <a:lnTo>
                        <a:pt x="543" y="625"/>
                      </a:lnTo>
                      <a:lnTo>
                        <a:pt x="526" y="662"/>
                      </a:lnTo>
                      <a:lnTo>
                        <a:pt x="595" y="735"/>
                      </a:lnTo>
                      <a:lnTo>
                        <a:pt x="646" y="810"/>
                      </a:lnTo>
                      <a:lnTo>
                        <a:pt x="724" y="883"/>
                      </a:lnTo>
                      <a:lnTo>
                        <a:pt x="672" y="969"/>
                      </a:lnTo>
                      <a:lnTo>
                        <a:pt x="629" y="993"/>
                      </a:lnTo>
                      <a:lnTo>
                        <a:pt x="638" y="1042"/>
                      </a:lnTo>
                      <a:lnTo>
                        <a:pt x="560" y="1042"/>
                      </a:lnTo>
                      <a:lnTo>
                        <a:pt x="534" y="1005"/>
                      </a:lnTo>
                      <a:lnTo>
                        <a:pt x="474" y="908"/>
                      </a:lnTo>
                      <a:lnTo>
                        <a:pt x="431" y="822"/>
                      </a:lnTo>
                      <a:lnTo>
                        <a:pt x="361" y="674"/>
                      </a:lnTo>
                      <a:lnTo>
                        <a:pt x="284" y="564"/>
                      </a:lnTo>
                      <a:lnTo>
                        <a:pt x="198" y="405"/>
                      </a:lnTo>
                      <a:lnTo>
                        <a:pt x="146" y="356"/>
                      </a:lnTo>
                      <a:lnTo>
                        <a:pt x="103" y="319"/>
                      </a:lnTo>
                      <a:lnTo>
                        <a:pt x="86" y="232"/>
                      </a:lnTo>
                      <a:lnTo>
                        <a:pt x="8" y="159"/>
                      </a:lnTo>
                      <a:lnTo>
                        <a:pt x="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8280" cy="4389840"/>
                <a:chOff x="3673440" y="979560"/>
                <a:chExt cx="3788280" cy="438984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3160" cy="2854800"/>
                </a:xfrm>
                <a:custGeom>
                  <a:avLst/>
                  <a:gdLst/>
                  <a:ahLst/>
                  <a:rect l="0" t="0" r="r" b="b"/>
                  <a:pathLst>
                    <a:path w="5231" h="7930">
                      <a:moveTo>
                        <a:pt x="3910" y="947"/>
                      </a:moveTo>
                      <a:lnTo>
                        <a:pt x="3997" y="1280"/>
                      </a:lnTo>
                      <a:lnTo>
                        <a:pt x="4160" y="1785"/>
                      </a:lnTo>
                      <a:lnTo>
                        <a:pt x="4486" y="2598"/>
                      </a:lnTo>
                      <a:lnTo>
                        <a:pt x="4606" y="2697"/>
                      </a:lnTo>
                      <a:lnTo>
                        <a:pt x="4683" y="2931"/>
                      </a:lnTo>
                      <a:lnTo>
                        <a:pt x="4940" y="2918"/>
                      </a:lnTo>
                      <a:lnTo>
                        <a:pt x="5111" y="2844"/>
                      </a:lnTo>
                      <a:lnTo>
                        <a:pt x="5231" y="2844"/>
                      </a:lnTo>
                      <a:lnTo>
                        <a:pt x="5223" y="3165"/>
                      </a:lnTo>
                      <a:lnTo>
                        <a:pt x="5180" y="3337"/>
                      </a:lnTo>
                      <a:lnTo>
                        <a:pt x="4708" y="4051"/>
                      </a:lnTo>
                      <a:lnTo>
                        <a:pt x="4280" y="4790"/>
                      </a:lnTo>
                      <a:lnTo>
                        <a:pt x="4288" y="5073"/>
                      </a:lnTo>
                      <a:lnTo>
                        <a:pt x="4408" y="5282"/>
                      </a:lnTo>
                      <a:lnTo>
                        <a:pt x="4348" y="5442"/>
                      </a:lnTo>
                      <a:lnTo>
                        <a:pt x="4383" y="5652"/>
                      </a:lnTo>
                      <a:lnTo>
                        <a:pt x="4348" y="5812"/>
                      </a:lnTo>
                      <a:lnTo>
                        <a:pt x="4245" y="5948"/>
                      </a:lnTo>
                      <a:lnTo>
                        <a:pt x="4160" y="5948"/>
                      </a:lnTo>
                      <a:lnTo>
                        <a:pt x="4014" y="6182"/>
                      </a:lnTo>
                      <a:lnTo>
                        <a:pt x="3884" y="6453"/>
                      </a:lnTo>
                      <a:lnTo>
                        <a:pt x="3910" y="6748"/>
                      </a:lnTo>
                      <a:lnTo>
                        <a:pt x="3781" y="6884"/>
                      </a:lnTo>
                      <a:lnTo>
                        <a:pt x="3661" y="7191"/>
                      </a:lnTo>
                      <a:lnTo>
                        <a:pt x="3524" y="7475"/>
                      </a:lnTo>
                      <a:lnTo>
                        <a:pt x="3447" y="7585"/>
                      </a:lnTo>
                      <a:lnTo>
                        <a:pt x="3379" y="7610"/>
                      </a:lnTo>
                      <a:lnTo>
                        <a:pt x="3258" y="7795"/>
                      </a:lnTo>
                      <a:lnTo>
                        <a:pt x="3061" y="7906"/>
                      </a:lnTo>
                      <a:lnTo>
                        <a:pt x="2813" y="7930"/>
                      </a:lnTo>
                      <a:lnTo>
                        <a:pt x="2675" y="7807"/>
                      </a:lnTo>
                      <a:lnTo>
                        <a:pt x="2658" y="7684"/>
                      </a:lnTo>
                      <a:lnTo>
                        <a:pt x="2633" y="7524"/>
                      </a:lnTo>
                      <a:lnTo>
                        <a:pt x="2538" y="7438"/>
                      </a:lnTo>
                      <a:lnTo>
                        <a:pt x="2461" y="7130"/>
                      </a:lnTo>
                      <a:lnTo>
                        <a:pt x="2435" y="6982"/>
                      </a:lnTo>
                      <a:lnTo>
                        <a:pt x="2427" y="6798"/>
                      </a:lnTo>
                      <a:lnTo>
                        <a:pt x="2384" y="6662"/>
                      </a:lnTo>
                      <a:lnTo>
                        <a:pt x="2375" y="6576"/>
                      </a:lnTo>
                      <a:lnTo>
                        <a:pt x="2298" y="6440"/>
                      </a:lnTo>
                      <a:lnTo>
                        <a:pt x="2213" y="6330"/>
                      </a:lnTo>
                      <a:lnTo>
                        <a:pt x="2152" y="6145"/>
                      </a:lnTo>
                      <a:lnTo>
                        <a:pt x="2110" y="6010"/>
                      </a:lnTo>
                      <a:lnTo>
                        <a:pt x="2127" y="5787"/>
                      </a:lnTo>
                      <a:lnTo>
                        <a:pt x="2255" y="5467"/>
                      </a:lnTo>
                      <a:lnTo>
                        <a:pt x="2281" y="5110"/>
                      </a:lnTo>
                      <a:lnTo>
                        <a:pt x="2187" y="4704"/>
                      </a:lnTo>
                      <a:lnTo>
                        <a:pt x="2050" y="4543"/>
                      </a:lnTo>
                      <a:lnTo>
                        <a:pt x="1955" y="4322"/>
                      </a:lnTo>
                      <a:lnTo>
                        <a:pt x="1990" y="3977"/>
                      </a:lnTo>
                      <a:lnTo>
                        <a:pt x="1921" y="3719"/>
                      </a:lnTo>
                      <a:lnTo>
                        <a:pt x="1758" y="3694"/>
                      </a:lnTo>
                      <a:lnTo>
                        <a:pt x="1587" y="3497"/>
                      </a:lnTo>
                      <a:lnTo>
                        <a:pt x="1372" y="3386"/>
                      </a:lnTo>
                      <a:lnTo>
                        <a:pt x="1148" y="3559"/>
                      </a:lnTo>
                      <a:lnTo>
                        <a:pt x="565" y="3509"/>
                      </a:lnTo>
                      <a:lnTo>
                        <a:pt x="248" y="3078"/>
                      </a:lnTo>
                      <a:lnTo>
                        <a:pt x="0" y="2500"/>
                      </a:lnTo>
                      <a:lnTo>
                        <a:pt x="42" y="2303"/>
                      </a:lnTo>
                      <a:lnTo>
                        <a:pt x="154" y="2155"/>
                      </a:lnTo>
                      <a:lnTo>
                        <a:pt x="205" y="1748"/>
                      </a:lnTo>
                      <a:lnTo>
                        <a:pt x="282" y="1452"/>
                      </a:lnTo>
                      <a:lnTo>
                        <a:pt x="505" y="1144"/>
                      </a:lnTo>
                      <a:lnTo>
                        <a:pt x="737" y="1009"/>
                      </a:lnTo>
                      <a:lnTo>
                        <a:pt x="951" y="689"/>
                      </a:lnTo>
                      <a:lnTo>
                        <a:pt x="1003" y="554"/>
                      </a:lnTo>
                      <a:lnTo>
                        <a:pt x="1286" y="209"/>
                      </a:lnTo>
                      <a:lnTo>
                        <a:pt x="1467" y="344"/>
                      </a:lnTo>
                      <a:lnTo>
                        <a:pt x="1595" y="332"/>
                      </a:lnTo>
                      <a:lnTo>
                        <a:pt x="1750" y="147"/>
                      </a:lnTo>
                      <a:lnTo>
                        <a:pt x="1930" y="123"/>
                      </a:lnTo>
                      <a:lnTo>
                        <a:pt x="2050" y="172"/>
                      </a:lnTo>
                      <a:lnTo>
                        <a:pt x="2161" y="24"/>
                      </a:lnTo>
                      <a:lnTo>
                        <a:pt x="2307" y="0"/>
                      </a:lnTo>
                      <a:lnTo>
                        <a:pt x="2341" y="270"/>
                      </a:lnTo>
                      <a:lnTo>
                        <a:pt x="2435" y="467"/>
                      </a:lnTo>
                      <a:lnTo>
                        <a:pt x="2701" y="664"/>
                      </a:lnTo>
                      <a:lnTo>
                        <a:pt x="2924" y="701"/>
                      </a:lnTo>
                      <a:lnTo>
                        <a:pt x="2950" y="480"/>
                      </a:lnTo>
                      <a:lnTo>
                        <a:pt x="3121" y="480"/>
                      </a:lnTo>
                      <a:lnTo>
                        <a:pt x="3327" y="615"/>
                      </a:lnTo>
                      <a:lnTo>
                        <a:pt x="3550" y="689"/>
                      </a:lnTo>
                      <a:lnTo>
                        <a:pt x="3739" y="603"/>
                      </a:lnTo>
                      <a:lnTo>
                        <a:pt x="3910" y="947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3760" cy="982800"/>
                  <a:chOff x="3801960" y="979560"/>
                  <a:chExt cx="833760" cy="98280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0640" cy="368640"/>
                    <a:chOff x="4132440" y="1593720"/>
                    <a:chExt cx="260640" cy="3686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2760" cy="208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41" h="579">
                          <a:moveTo>
                            <a:pt x="78" y="176"/>
                          </a:moveTo>
                          <a:lnTo>
                            <a:pt x="105" y="113"/>
                          </a:lnTo>
                          <a:lnTo>
                            <a:pt x="166" y="113"/>
                          </a:lnTo>
                          <a:lnTo>
                            <a:pt x="253" y="0"/>
                          </a:lnTo>
                          <a:lnTo>
                            <a:pt x="280" y="75"/>
                          </a:lnTo>
                          <a:lnTo>
                            <a:pt x="324" y="75"/>
                          </a:lnTo>
                          <a:lnTo>
                            <a:pt x="341" y="113"/>
                          </a:lnTo>
                          <a:lnTo>
                            <a:pt x="315" y="176"/>
                          </a:lnTo>
                          <a:lnTo>
                            <a:pt x="280" y="201"/>
                          </a:lnTo>
                          <a:lnTo>
                            <a:pt x="280" y="252"/>
                          </a:lnTo>
                          <a:lnTo>
                            <a:pt x="271" y="277"/>
                          </a:lnTo>
                          <a:lnTo>
                            <a:pt x="263" y="314"/>
                          </a:lnTo>
                          <a:lnTo>
                            <a:pt x="280" y="365"/>
                          </a:lnTo>
                          <a:lnTo>
                            <a:pt x="253" y="415"/>
                          </a:lnTo>
                          <a:lnTo>
                            <a:pt x="227" y="441"/>
                          </a:lnTo>
                          <a:lnTo>
                            <a:pt x="201" y="441"/>
                          </a:lnTo>
                          <a:lnTo>
                            <a:pt x="192" y="454"/>
                          </a:lnTo>
                          <a:lnTo>
                            <a:pt x="183" y="491"/>
                          </a:lnTo>
                          <a:lnTo>
                            <a:pt x="140" y="504"/>
                          </a:lnTo>
                          <a:lnTo>
                            <a:pt x="131" y="491"/>
                          </a:lnTo>
                          <a:lnTo>
                            <a:pt x="96" y="529"/>
                          </a:lnTo>
                          <a:lnTo>
                            <a:pt x="88" y="541"/>
                          </a:lnTo>
                          <a:lnTo>
                            <a:pt x="43" y="579"/>
                          </a:lnTo>
                          <a:lnTo>
                            <a:pt x="26" y="579"/>
                          </a:lnTo>
                          <a:lnTo>
                            <a:pt x="17" y="554"/>
                          </a:lnTo>
                          <a:lnTo>
                            <a:pt x="8" y="491"/>
                          </a:lnTo>
                          <a:lnTo>
                            <a:pt x="0" y="479"/>
                          </a:lnTo>
                          <a:lnTo>
                            <a:pt x="0" y="427"/>
                          </a:lnTo>
                          <a:lnTo>
                            <a:pt x="26" y="402"/>
                          </a:lnTo>
                          <a:lnTo>
                            <a:pt x="52" y="377"/>
                          </a:lnTo>
                          <a:lnTo>
                            <a:pt x="69" y="327"/>
                          </a:lnTo>
                          <a:lnTo>
                            <a:pt x="96" y="327"/>
                          </a:lnTo>
                          <a:lnTo>
                            <a:pt x="114" y="340"/>
                          </a:lnTo>
                          <a:lnTo>
                            <a:pt x="140" y="327"/>
                          </a:lnTo>
                          <a:lnTo>
                            <a:pt x="114" y="314"/>
                          </a:lnTo>
                          <a:lnTo>
                            <a:pt x="78" y="176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7960" cy="368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11" h="1024">
                          <a:moveTo>
                            <a:pt x="130" y="147"/>
                          </a:moveTo>
                          <a:lnTo>
                            <a:pt x="157" y="110"/>
                          </a:lnTo>
                          <a:lnTo>
                            <a:pt x="236" y="123"/>
                          </a:lnTo>
                          <a:lnTo>
                            <a:pt x="254" y="98"/>
                          </a:lnTo>
                          <a:lnTo>
                            <a:pt x="271" y="61"/>
                          </a:lnTo>
                          <a:lnTo>
                            <a:pt x="288" y="61"/>
                          </a:lnTo>
                          <a:lnTo>
                            <a:pt x="306" y="49"/>
                          </a:lnTo>
                          <a:lnTo>
                            <a:pt x="332" y="24"/>
                          </a:lnTo>
                          <a:lnTo>
                            <a:pt x="367" y="0"/>
                          </a:lnTo>
                          <a:lnTo>
                            <a:pt x="411" y="12"/>
                          </a:lnTo>
                          <a:lnTo>
                            <a:pt x="402" y="61"/>
                          </a:lnTo>
                          <a:lnTo>
                            <a:pt x="384" y="98"/>
                          </a:lnTo>
                          <a:lnTo>
                            <a:pt x="367" y="110"/>
                          </a:lnTo>
                          <a:lnTo>
                            <a:pt x="350" y="123"/>
                          </a:lnTo>
                          <a:lnTo>
                            <a:pt x="297" y="147"/>
                          </a:lnTo>
                          <a:lnTo>
                            <a:pt x="297" y="197"/>
                          </a:lnTo>
                          <a:lnTo>
                            <a:pt x="306" y="221"/>
                          </a:lnTo>
                          <a:lnTo>
                            <a:pt x="358" y="197"/>
                          </a:lnTo>
                          <a:lnTo>
                            <a:pt x="402" y="172"/>
                          </a:lnTo>
                          <a:lnTo>
                            <a:pt x="411" y="197"/>
                          </a:lnTo>
                          <a:lnTo>
                            <a:pt x="411" y="271"/>
                          </a:lnTo>
                          <a:lnTo>
                            <a:pt x="376" y="283"/>
                          </a:lnTo>
                          <a:lnTo>
                            <a:pt x="341" y="283"/>
                          </a:lnTo>
                          <a:lnTo>
                            <a:pt x="315" y="320"/>
                          </a:lnTo>
                          <a:lnTo>
                            <a:pt x="306" y="345"/>
                          </a:lnTo>
                          <a:lnTo>
                            <a:pt x="306" y="382"/>
                          </a:lnTo>
                          <a:lnTo>
                            <a:pt x="332" y="431"/>
                          </a:lnTo>
                          <a:lnTo>
                            <a:pt x="358" y="468"/>
                          </a:lnTo>
                          <a:lnTo>
                            <a:pt x="376" y="505"/>
                          </a:lnTo>
                          <a:lnTo>
                            <a:pt x="384" y="555"/>
                          </a:lnTo>
                          <a:lnTo>
                            <a:pt x="393" y="604"/>
                          </a:lnTo>
                          <a:lnTo>
                            <a:pt x="411" y="666"/>
                          </a:lnTo>
                          <a:lnTo>
                            <a:pt x="411" y="752"/>
                          </a:lnTo>
                          <a:lnTo>
                            <a:pt x="393" y="802"/>
                          </a:lnTo>
                          <a:lnTo>
                            <a:pt x="358" y="839"/>
                          </a:lnTo>
                          <a:lnTo>
                            <a:pt x="350" y="863"/>
                          </a:lnTo>
                          <a:lnTo>
                            <a:pt x="367" y="913"/>
                          </a:lnTo>
                          <a:lnTo>
                            <a:pt x="384" y="962"/>
                          </a:lnTo>
                          <a:lnTo>
                            <a:pt x="332" y="962"/>
                          </a:lnTo>
                          <a:lnTo>
                            <a:pt x="288" y="962"/>
                          </a:lnTo>
                          <a:lnTo>
                            <a:pt x="271" y="950"/>
                          </a:lnTo>
                          <a:lnTo>
                            <a:pt x="236" y="950"/>
                          </a:lnTo>
                          <a:lnTo>
                            <a:pt x="191" y="962"/>
                          </a:lnTo>
                          <a:lnTo>
                            <a:pt x="157" y="987"/>
                          </a:lnTo>
                          <a:lnTo>
                            <a:pt x="130" y="987"/>
                          </a:lnTo>
                          <a:lnTo>
                            <a:pt x="113" y="999"/>
                          </a:lnTo>
                          <a:lnTo>
                            <a:pt x="69" y="1024"/>
                          </a:lnTo>
                          <a:lnTo>
                            <a:pt x="61" y="1011"/>
                          </a:lnTo>
                          <a:lnTo>
                            <a:pt x="43" y="987"/>
                          </a:lnTo>
                          <a:lnTo>
                            <a:pt x="17" y="974"/>
                          </a:lnTo>
                          <a:lnTo>
                            <a:pt x="0" y="962"/>
                          </a:lnTo>
                          <a:lnTo>
                            <a:pt x="0" y="913"/>
                          </a:lnTo>
                          <a:lnTo>
                            <a:pt x="17" y="851"/>
                          </a:lnTo>
                          <a:lnTo>
                            <a:pt x="43" y="851"/>
                          </a:lnTo>
                          <a:lnTo>
                            <a:pt x="69" y="839"/>
                          </a:lnTo>
                          <a:lnTo>
                            <a:pt x="104" y="839"/>
                          </a:lnTo>
                          <a:lnTo>
                            <a:pt x="104" y="826"/>
                          </a:lnTo>
                          <a:lnTo>
                            <a:pt x="69" y="802"/>
                          </a:lnTo>
                          <a:lnTo>
                            <a:pt x="69" y="765"/>
                          </a:lnTo>
                          <a:lnTo>
                            <a:pt x="69" y="740"/>
                          </a:lnTo>
                          <a:lnTo>
                            <a:pt x="104" y="715"/>
                          </a:lnTo>
                          <a:lnTo>
                            <a:pt x="122" y="703"/>
                          </a:lnTo>
                          <a:lnTo>
                            <a:pt x="139" y="691"/>
                          </a:lnTo>
                          <a:lnTo>
                            <a:pt x="165" y="691"/>
                          </a:lnTo>
                          <a:lnTo>
                            <a:pt x="183" y="678"/>
                          </a:lnTo>
                          <a:lnTo>
                            <a:pt x="191" y="580"/>
                          </a:lnTo>
                          <a:lnTo>
                            <a:pt x="219" y="505"/>
                          </a:lnTo>
                          <a:lnTo>
                            <a:pt x="219" y="468"/>
                          </a:lnTo>
                          <a:lnTo>
                            <a:pt x="157" y="456"/>
                          </a:lnTo>
                          <a:lnTo>
                            <a:pt x="174" y="394"/>
                          </a:lnTo>
                          <a:lnTo>
                            <a:pt x="130" y="357"/>
                          </a:lnTo>
                          <a:lnTo>
                            <a:pt x="87" y="369"/>
                          </a:lnTo>
                          <a:lnTo>
                            <a:pt x="139" y="283"/>
                          </a:lnTo>
                          <a:lnTo>
                            <a:pt x="130" y="147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3760" cy="617760"/>
                  </a:xfrm>
                  <a:custGeom>
                    <a:avLst/>
                    <a:gdLst/>
                    <a:ahLst/>
                    <a:rect l="0" t="0" r="r" b="b"/>
                    <a:pathLst>
                      <a:path w="2316" h="1716">
                        <a:moveTo>
                          <a:pt x="0" y="1716"/>
                        </a:moveTo>
                        <a:lnTo>
                          <a:pt x="145" y="1679"/>
                        </a:lnTo>
                        <a:lnTo>
                          <a:pt x="197" y="1605"/>
                        </a:lnTo>
                        <a:lnTo>
                          <a:pt x="231" y="1555"/>
                        </a:lnTo>
                        <a:lnTo>
                          <a:pt x="248" y="1518"/>
                        </a:lnTo>
                        <a:lnTo>
                          <a:pt x="282" y="1518"/>
                        </a:lnTo>
                        <a:lnTo>
                          <a:pt x="317" y="1481"/>
                        </a:lnTo>
                        <a:lnTo>
                          <a:pt x="360" y="1481"/>
                        </a:lnTo>
                        <a:lnTo>
                          <a:pt x="385" y="1481"/>
                        </a:lnTo>
                        <a:lnTo>
                          <a:pt x="420" y="1481"/>
                        </a:lnTo>
                        <a:lnTo>
                          <a:pt x="437" y="1481"/>
                        </a:lnTo>
                        <a:lnTo>
                          <a:pt x="471" y="1432"/>
                        </a:lnTo>
                        <a:lnTo>
                          <a:pt x="488" y="1395"/>
                        </a:lnTo>
                        <a:lnTo>
                          <a:pt x="531" y="1358"/>
                        </a:lnTo>
                        <a:lnTo>
                          <a:pt x="565" y="1346"/>
                        </a:lnTo>
                        <a:lnTo>
                          <a:pt x="591" y="1321"/>
                        </a:lnTo>
                        <a:lnTo>
                          <a:pt x="625" y="1309"/>
                        </a:lnTo>
                        <a:lnTo>
                          <a:pt x="651" y="1284"/>
                        </a:lnTo>
                        <a:lnTo>
                          <a:pt x="685" y="1259"/>
                        </a:lnTo>
                        <a:lnTo>
                          <a:pt x="720" y="1235"/>
                        </a:lnTo>
                        <a:lnTo>
                          <a:pt x="763" y="1198"/>
                        </a:lnTo>
                        <a:lnTo>
                          <a:pt x="805" y="1210"/>
                        </a:lnTo>
                        <a:lnTo>
                          <a:pt x="874" y="1235"/>
                        </a:lnTo>
                        <a:lnTo>
                          <a:pt x="943" y="1235"/>
                        </a:lnTo>
                        <a:lnTo>
                          <a:pt x="1020" y="1198"/>
                        </a:lnTo>
                        <a:lnTo>
                          <a:pt x="1054" y="1185"/>
                        </a:lnTo>
                        <a:lnTo>
                          <a:pt x="1080" y="1111"/>
                        </a:lnTo>
                        <a:lnTo>
                          <a:pt x="1114" y="1062"/>
                        </a:lnTo>
                        <a:lnTo>
                          <a:pt x="1175" y="1000"/>
                        </a:lnTo>
                        <a:lnTo>
                          <a:pt x="1192" y="963"/>
                        </a:lnTo>
                        <a:lnTo>
                          <a:pt x="1192" y="914"/>
                        </a:lnTo>
                        <a:lnTo>
                          <a:pt x="1244" y="877"/>
                        </a:lnTo>
                        <a:lnTo>
                          <a:pt x="1270" y="839"/>
                        </a:lnTo>
                        <a:lnTo>
                          <a:pt x="1287" y="802"/>
                        </a:lnTo>
                        <a:lnTo>
                          <a:pt x="1304" y="802"/>
                        </a:lnTo>
                        <a:lnTo>
                          <a:pt x="1390" y="728"/>
                        </a:lnTo>
                        <a:lnTo>
                          <a:pt x="1390" y="802"/>
                        </a:lnTo>
                        <a:lnTo>
                          <a:pt x="1372" y="826"/>
                        </a:lnTo>
                        <a:lnTo>
                          <a:pt x="1390" y="864"/>
                        </a:lnTo>
                        <a:lnTo>
                          <a:pt x="1450" y="877"/>
                        </a:lnTo>
                        <a:lnTo>
                          <a:pt x="1484" y="877"/>
                        </a:lnTo>
                        <a:lnTo>
                          <a:pt x="1518" y="839"/>
                        </a:lnTo>
                        <a:lnTo>
                          <a:pt x="1544" y="802"/>
                        </a:lnTo>
                        <a:lnTo>
                          <a:pt x="1544" y="765"/>
                        </a:lnTo>
                        <a:lnTo>
                          <a:pt x="1570" y="728"/>
                        </a:lnTo>
                        <a:lnTo>
                          <a:pt x="1570" y="691"/>
                        </a:lnTo>
                        <a:lnTo>
                          <a:pt x="1595" y="641"/>
                        </a:lnTo>
                        <a:lnTo>
                          <a:pt x="1612" y="617"/>
                        </a:lnTo>
                        <a:lnTo>
                          <a:pt x="1655" y="617"/>
                        </a:lnTo>
                        <a:lnTo>
                          <a:pt x="1741" y="617"/>
                        </a:lnTo>
                        <a:lnTo>
                          <a:pt x="1810" y="567"/>
                        </a:lnTo>
                        <a:lnTo>
                          <a:pt x="1870" y="493"/>
                        </a:lnTo>
                        <a:lnTo>
                          <a:pt x="1938" y="468"/>
                        </a:lnTo>
                        <a:lnTo>
                          <a:pt x="1998" y="407"/>
                        </a:lnTo>
                        <a:lnTo>
                          <a:pt x="2041" y="308"/>
                        </a:lnTo>
                        <a:lnTo>
                          <a:pt x="2136" y="197"/>
                        </a:lnTo>
                        <a:lnTo>
                          <a:pt x="2196" y="148"/>
                        </a:lnTo>
                        <a:lnTo>
                          <a:pt x="2256" y="98"/>
                        </a:lnTo>
                        <a:lnTo>
                          <a:pt x="2316" y="37"/>
                        </a:lnTo>
                        <a:lnTo>
                          <a:pt x="2213" y="0"/>
                        </a:lnTo>
                        <a:lnTo>
                          <a:pt x="2110" y="0"/>
                        </a:lnTo>
                        <a:lnTo>
                          <a:pt x="2007" y="61"/>
                        </a:lnTo>
                        <a:lnTo>
                          <a:pt x="1955" y="98"/>
                        </a:lnTo>
                        <a:lnTo>
                          <a:pt x="1870" y="123"/>
                        </a:lnTo>
                        <a:lnTo>
                          <a:pt x="1775" y="135"/>
                        </a:lnTo>
                        <a:lnTo>
                          <a:pt x="1724" y="160"/>
                        </a:lnTo>
                        <a:lnTo>
                          <a:pt x="1612" y="222"/>
                        </a:lnTo>
                        <a:lnTo>
                          <a:pt x="1544" y="259"/>
                        </a:lnTo>
                        <a:lnTo>
                          <a:pt x="1475" y="296"/>
                        </a:lnTo>
                        <a:lnTo>
                          <a:pt x="1390" y="320"/>
                        </a:lnTo>
                        <a:lnTo>
                          <a:pt x="1304" y="357"/>
                        </a:lnTo>
                        <a:lnTo>
                          <a:pt x="1227" y="407"/>
                        </a:lnTo>
                        <a:lnTo>
                          <a:pt x="1167" y="468"/>
                        </a:lnTo>
                        <a:lnTo>
                          <a:pt x="1114" y="530"/>
                        </a:lnTo>
                        <a:lnTo>
                          <a:pt x="1063" y="580"/>
                        </a:lnTo>
                        <a:lnTo>
                          <a:pt x="1020" y="617"/>
                        </a:lnTo>
                        <a:lnTo>
                          <a:pt x="926" y="691"/>
                        </a:lnTo>
                        <a:lnTo>
                          <a:pt x="831" y="765"/>
                        </a:lnTo>
                        <a:lnTo>
                          <a:pt x="720" y="839"/>
                        </a:lnTo>
                        <a:lnTo>
                          <a:pt x="643" y="951"/>
                        </a:lnTo>
                        <a:lnTo>
                          <a:pt x="557" y="1037"/>
                        </a:lnTo>
                        <a:lnTo>
                          <a:pt x="480" y="1086"/>
                        </a:lnTo>
                        <a:lnTo>
                          <a:pt x="402" y="1198"/>
                        </a:lnTo>
                        <a:lnTo>
                          <a:pt x="351" y="1272"/>
                        </a:lnTo>
                        <a:lnTo>
                          <a:pt x="282" y="1346"/>
                        </a:lnTo>
                        <a:lnTo>
                          <a:pt x="214" y="1395"/>
                        </a:lnTo>
                        <a:lnTo>
                          <a:pt x="145" y="1444"/>
                        </a:lnTo>
                        <a:lnTo>
                          <a:pt x="0" y="1716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49480" cy="598680"/>
                </a:xfrm>
                <a:custGeom>
                  <a:avLst/>
                  <a:gdLst/>
                  <a:ahLst/>
                  <a:rect l="0" t="0" r="r" b="b"/>
                  <a:pathLst>
                    <a:path w="693" h="1663">
                      <a:moveTo>
                        <a:pt x="129" y="517"/>
                      </a:moveTo>
                      <a:lnTo>
                        <a:pt x="112" y="850"/>
                      </a:lnTo>
                      <a:lnTo>
                        <a:pt x="51" y="1060"/>
                      </a:lnTo>
                      <a:lnTo>
                        <a:pt x="0" y="1257"/>
                      </a:lnTo>
                      <a:lnTo>
                        <a:pt x="0" y="1404"/>
                      </a:lnTo>
                      <a:lnTo>
                        <a:pt x="17" y="1528"/>
                      </a:lnTo>
                      <a:lnTo>
                        <a:pt x="77" y="1638"/>
                      </a:lnTo>
                      <a:lnTo>
                        <a:pt x="129" y="1651"/>
                      </a:lnTo>
                      <a:lnTo>
                        <a:pt x="173" y="1651"/>
                      </a:lnTo>
                      <a:lnTo>
                        <a:pt x="225" y="1663"/>
                      </a:lnTo>
                      <a:lnTo>
                        <a:pt x="250" y="1577"/>
                      </a:lnTo>
                      <a:lnTo>
                        <a:pt x="276" y="1355"/>
                      </a:lnTo>
                      <a:lnTo>
                        <a:pt x="355" y="1207"/>
                      </a:lnTo>
                      <a:lnTo>
                        <a:pt x="373" y="986"/>
                      </a:lnTo>
                      <a:lnTo>
                        <a:pt x="407" y="899"/>
                      </a:lnTo>
                      <a:lnTo>
                        <a:pt x="442" y="838"/>
                      </a:lnTo>
                      <a:lnTo>
                        <a:pt x="468" y="677"/>
                      </a:lnTo>
                      <a:lnTo>
                        <a:pt x="520" y="578"/>
                      </a:lnTo>
                      <a:lnTo>
                        <a:pt x="554" y="504"/>
                      </a:lnTo>
                      <a:lnTo>
                        <a:pt x="589" y="443"/>
                      </a:lnTo>
                      <a:lnTo>
                        <a:pt x="589" y="406"/>
                      </a:lnTo>
                      <a:lnTo>
                        <a:pt x="667" y="320"/>
                      </a:lnTo>
                      <a:lnTo>
                        <a:pt x="676" y="184"/>
                      </a:lnTo>
                      <a:lnTo>
                        <a:pt x="693" y="98"/>
                      </a:lnTo>
                      <a:lnTo>
                        <a:pt x="624" y="61"/>
                      </a:lnTo>
                      <a:lnTo>
                        <a:pt x="580" y="0"/>
                      </a:lnTo>
                      <a:lnTo>
                        <a:pt x="520" y="61"/>
                      </a:lnTo>
                      <a:lnTo>
                        <a:pt x="468" y="209"/>
                      </a:lnTo>
                      <a:lnTo>
                        <a:pt x="407" y="307"/>
                      </a:lnTo>
                      <a:lnTo>
                        <a:pt x="355" y="394"/>
                      </a:lnTo>
                      <a:lnTo>
                        <a:pt x="328" y="394"/>
                      </a:lnTo>
                      <a:lnTo>
                        <a:pt x="276" y="443"/>
                      </a:lnTo>
                      <a:lnTo>
                        <a:pt x="250" y="492"/>
                      </a:lnTo>
                      <a:lnTo>
                        <a:pt x="129" y="517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3920" cy="2838960"/>
                </a:xfrm>
                <a:custGeom>
                  <a:avLst/>
                  <a:gdLst/>
                  <a:ahLst/>
                  <a:rect l="0" t="0" r="r" b="b"/>
                  <a:pathLst>
                    <a:path w="9372" h="7886">
                      <a:moveTo>
                        <a:pt x="0" y="3543"/>
                      </a:moveTo>
                      <a:lnTo>
                        <a:pt x="85" y="3432"/>
                      </a:lnTo>
                      <a:lnTo>
                        <a:pt x="137" y="3346"/>
                      </a:lnTo>
                      <a:lnTo>
                        <a:pt x="248" y="3346"/>
                      </a:lnTo>
                      <a:lnTo>
                        <a:pt x="368" y="3371"/>
                      </a:lnTo>
                      <a:lnTo>
                        <a:pt x="454" y="3322"/>
                      </a:lnTo>
                      <a:lnTo>
                        <a:pt x="548" y="3309"/>
                      </a:lnTo>
                      <a:lnTo>
                        <a:pt x="557" y="3162"/>
                      </a:lnTo>
                      <a:lnTo>
                        <a:pt x="608" y="3063"/>
                      </a:lnTo>
                      <a:lnTo>
                        <a:pt x="480" y="2953"/>
                      </a:lnTo>
                      <a:lnTo>
                        <a:pt x="462" y="2867"/>
                      </a:lnTo>
                      <a:lnTo>
                        <a:pt x="471" y="2743"/>
                      </a:lnTo>
                      <a:lnTo>
                        <a:pt x="565" y="2743"/>
                      </a:lnTo>
                      <a:lnTo>
                        <a:pt x="625" y="2731"/>
                      </a:lnTo>
                      <a:lnTo>
                        <a:pt x="634" y="2743"/>
                      </a:lnTo>
                      <a:lnTo>
                        <a:pt x="703" y="2670"/>
                      </a:lnTo>
                      <a:lnTo>
                        <a:pt x="771" y="2633"/>
                      </a:lnTo>
                      <a:lnTo>
                        <a:pt x="797" y="2633"/>
                      </a:lnTo>
                      <a:lnTo>
                        <a:pt x="840" y="2559"/>
                      </a:lnTo>
                      <a:lnTo>
                        <a:pt x="891" y="2534"/>
                      </a:lnTo>
                      <a:lnTo>
                        <a:pt x="943" y="2399"/>
                      </a:lnTo>
                      <a:lnTo>
                        <a:pt x="977" y="2436"/>
                      </a:lnTo>
                      <a:lnTo>
                        <a:pt x="1045" y="2350"/>
                      </a:lnTo>
                      <a:lnTo>
                        <a:pt x="1054" y="2350"/>
                      </a:lnTo>
                      <a:lnTo>
                        <a:pt x="1140" y="2251"/>
                      </a:lnTo>
                      <a:lnTo>
                        <a:pt x="1191" y="2239"/>
                      </a:lnTo>
                      <a:lnTo>
                        <a:pt x="1260" y="2239"/>
                      </a:lnTo>
                      <a:lnTo>
                        <a:pt x="1303" y="2239"/>
                      </a:lnTo>
                      <a:lnTo>
                        <a:pt x="1268" y="2116"/>
                      </a:lnTo>
                      <a:lnTo>
                        <a:pt x="1251" y="2018"/>
                      </a:lnTo>
                      <a:lnTo>
                        <a:pt x="1234" y="1808"/>
                      </a:lnTo>
                      <a:lnTo>
                        <a:pt x="1337" y="1795"/>
                      </a:lnTo>
                      <a:lnTo>
                        <a:pt x="1388" y="1758"/>
                      </a:lnTo>
                      <a:lnTo>
                        <a:pt x="1363" y="1845"/>
                      </a:lnTo>
                      <a:lnTo>
                        <a:pt x="1406" y="1906"/>
                      </a:lnTo>
                      <a:lnTo>
                        <a:pt x="1448" y="1981"/>
                      </a:lnTo>
                      <a:lnTo>
                        <a:pt x="1474" y="2030"/>
                      </a:lnTo>
                      <a:lnTo>
                        <a:pt x="1594" y="2018"/>
                      </a:lnTo>
                      <a:lnTo>
                        <a:pt x="1697" y="1832"/>
                      </a:lnTo>
                      <a:lnTo>
                        <a:pt x="1774" y="1746"/>
                      </a:lnTo>
                      <a:lnTo>
                        <a:pt x="1817" y="1685"/>
                      </a:lnTo>
                      <a:lnTo>
                        <a:pt x="1868" y="1611"/>
                      </a:lnTo>
                      <a:lnTo>
                        <a:pt x="1920" y="1512"/>
                      </a:lnTo>
                      <a:lnTo>
                        <a:pt x="1963" y="1549"/>
                      </a:lnTo>
                      <a:lnTo>
                        <a:pt x="1963" y="1488"/>
                      </a:lnTo>
                      <a:lnTo>
                        <a:pt x="1989" y="1451"/>
                      </a:lnTo>
                      <a:lnTo>
                        <a:pt x="2066" y="1476"/>
                      </a:lnTo>
                      <a:lnTo>
                        <a:pt x="2194" y="1635"/>
                      </a:lnTo>
                      <a:lnTo>
                        <a:pt x="2169" y="1193"/>
                      </a:lnTo>
                      <a:lnTo>
                        <a:pt x="2057" y="1389"/>
                      </a:lnTo>
                      <a:lnTo>
                        <a:pt x="1971" y="1377"/>
                      </a:lnTo>
                      <a:lnTo>
                        <a:pt x="1946" y="1254"/>
                      </a:lnTo>
                      <a:lnTo>
                        <a:pt x="1946" y="1193"/>
                      </a:lnTo>
                      <a:lnTo>
                        <a:pt x="1920" y="1156"/>
                      </a:lnTo>
                      <a:lnTo>
                        <a:pt x="1989" y="1057"/>
                      </a:lnTo>
                      <a:lnTo>
                        <a:pt x="2031" y="984"/>
                      </a:lnTo>
                      <a:lnTo>
                        <a:pt x="2074" y="959"/>
                      </a:lnTo>
                      <a:lnTo>
                        <a:pt x="2109" y="947"/>
                      </a:lnTo>
                      <a:lnTo>
                        <a:pt x="2134" y="885"/>
                      </a:lnTo>
                      <a:lnTo>
                        <a:pt x="2169" y="873"/>
                      </a:lnTo>
                      <a:lnTo>
                        <a:pt x="2211" y="873"/>
                      </a:lnTo>
                      <a:lnTo>
                        <a:pt x="2134" y="762"/>
                      </a:lnTo>
                      <a:lnTo>
                        <a:pt x="2057" y="787"/>
                      </a:lnTo>
                      <a:lnTo>
                        <a:pt x="2006" y="787"/>
                      </a:lnTo>
                      <a:lnTo>
                        <a:pt x="1963" y="750"/>
                      </a:lnTo>
                      <a:lnTo>
                        <a:pt x="1963" y="824"/>
                      </a:lnTo>
                      <a:lnTo>
                        <a:pt x="1920" y="897"/>
                      </a:lnTo>
                      <a:lnTo>
                        <a:pt x="1860" y="1020"/>
                      </a:lnTo>
                      <a:lnTo>
                        <a:pt x="1800" y="1070"/>
                      </a:lnTo>
                      <a:lnTo>
                        <a:pt x="1757" y="1070"/>
                      </a:lnTo>
                      <a:lnTo>
                        <a:pt x="1740" y="1156"/>
                      </a:lnTo>
                      <a:lnTo>
                        <a:pt x="1740" y="1193"/>
                      </a:lnTo>
                      <a:lnTo>
                        <a:pt x="1706" y="1230"/>
                      </a:lnTo>
                      <a:lnTo>
                        <a:pt x="1748" y="1377"/>
                      </a:lnTo>
                      <a:lnTo>
                        <a:pt x="1774" y="1451"/>
                      </a:lnTo>
                      <a:lnTo>
                        <a:pt x="1723" y="1562"/>
                      </a:lnTo>
                      <a:lnTo>
                        <a:pt x="1663" y="1635"/>
                      </a:lnTo>
                      <a:lnTo>
                        <a:pt x="1646" y="1746"/>
                      </a:lnTo>
                      <a:lnTo>
                        <a:pt x="1611" y="1832"/>
                      </a:lnTo>
                      <a:lnTo>
                        <a:pt x="1577" y="1832"/>
                      </a:lnTo>
                      <a:lnTo>
                        <a:pt x="1526" y="1845"/>
                      </a:lnTo>
                      <a:lnTo>
                        <a:pt x="1474" y="1881"/>
                      </a:lnTo>
                      <a:lnTo>
                        <a:pt x="1457" y="1869"/>
                      </a:lnTo>
                      <a:lnTo>
                        <a:pt x="1457" y="1808"/>
                      </a:lnTo>
                      <a:lnTo>
                        <a:pt x="1448" y="1709"/>
                      </a:lnTo>
                      <a:lnTo>
                        <a:pt x="1406" y="1709"/>
                      </a:lnTo>
                      <a:lnTo>
                        <a:pt x="1380" y="1648"/>
                      </a:lnTo>
                      <a:lnTo>
                        <a:pt x="1388" y="1562"/>
                      </a:lnTo>
                      <a:lnTo>
                        <a:pt x="1397" y="1512"/>
                      </a:lnTo>
                      <a:lnTo>
                        <a:pt x="1388" y="1488"/>
                      </a:lnTo>
                      <a:lnTo>
                        <a:pt x="1354" y="1512"/>
                      </a:lnTo>
                      <a:lnTo>
                        <a:pt x="1337" y="1512"/>
                      </a:lnTo>
                      <a:lnTo>
                        <a:pt x="1311" y="1500"/>
                      </a:lnTo>
                      <a:lnTo>
                        <a:pt x="1294" y="1488"/>
                      </a:lnTo>
                      <a:lnTo>
                        <a:pt x="1251" y="1537"/>
                      </a:lnTo>
                      <a:lnTo>
                        <a:pt x="1208" y="1599"/>
                      </a:lnTo>
                      <a:lnTo>
                        <a:pt x="1165" y="1660"/>
                      </a:lnTo>
                      <a:lnTo>
                        <a:pt x="1071" y="1648"/>
                      </a:lnTo>
                      <a:lnTo>
                        <a:pt x="1011" y="1635"/>
                      </a:lnTo>
                      <a:lnTo>
                        <a:pt x="968" y="1574"/>
                      </a:lnTo>
                      <a:lnTo>
                        <a:pt x="968" y="1537"/>
                      </a:lnTo>
                      <a:lnTo>
                        <a:pt x="994" y="1488"/>
                      </a:lnTo>
                      <a:lnTo>
                        <a:pt x="1028" y="1451"/>
                      </a:lnTo>
                      <a:lnTo>
                        <a:pt x="1054" y="1402"/>
                      </a:lnTo>
                      <a:lnTo>
                        <a:pt x="994" y="1426"/>
                      </a:lnTo>
                      <a:lnTo>
                        <a:pt x="968" y="1365"/>
                      </a:lnTo>
                      <a:lnTo>
                        <a:pt x="968" y="1328"/>
                      </a:lnTo>
                      <a:lnTo>
                        <a:pt x="1054" y="1316"/>
                      </a:lnTo>
                      <a:lnTo>
                        <a:pt x="1131" y="1303"/>
                      </a:lnTo>
                      <a:lnTo>
                        <a:pt x="1080" y="1266"/>
                      </a:lnTo>
                      <a:lnTo>
                        <a:pt x="1003" y="1279"/>
                      </a:lnTo>
                      <a:lnTo>
                        <a:pt x="1003" y="1205"/>
                      </a:lnTo>
                      <a:lnTo>
                        <a:pt x="1037" y="1156"/>
                      </a:lnTo>
                      <a:lnTo>
                        <a:pt x="1114" y="1107"/>
                      </a:lnTo>
                      <a:lnTo>
                        <a:pt x="1140" y="1057"/>
                      </a:lnTo>
                      <a:lnTo>
                        <a:pt x="1165" y="1033"/>
                      </a:lnTo>
                      <a:lnTo>
                        <a:pt x="1225" y="1020"/>
                      </a:lnTo>
                      <a:lnTo>
                        <a:pt x="1277" y="1033"/>
                      </a:lnTo>
                      <a:lnTo>
                        <a:pt x="1303" y="1057"/>
                      </a:lnTo>
                      <a:lnTo>
                        <a:pt x="1346" y="1020"/>
                      </a:lnTo>
                      <a:lnTo>
                        <a:pt x="1303" y="1008"/>
                      </a:lnTo>
                      <a:lnTo>
                        <a:pt x="1303" y="910"/>
                      </a:lnTo>
                      <a:lnTo>
                        <a:pt x="1414" y="799"/>
                      </a:lnTo>
                      <a:lnTo>
                        <a:pt x="1474" y="725"/>
                      </a:lnTo>
                      <a:lnTo>
                        <a:pt x="1508" y="713"/>
                      </a:lnTo>
                      <a:lnTo>
                        <a:pt x="1500" y="676"/>
                      </a:lnTo>
                      <a:lnTo>
                        <a:pt x="1551" y="602"/>
                      </a:lnTo>
                      <a:lnTo>
                        <a:pt x="1611" y="492"/>
                      </a:lnTo>
                      <a:lnTo>
                        <a:pt x="1680" y="442"/>
                      </a:lnTo>
                      <a:lnTo>
                        <a:pt x="1628" y="393"/>
                      </a:lnTo>
                      <a:lnTo>
                        <a:pt x="1766" y="282"/>
                      </a:lnTo>
                      <a:lnTo>
                        <a:pt x="1826" y="295"/>
                      </a:lnTo>
                      <a:lnTo>
                        <a:pt x="1817" y="233"/>
                      </a:lnTo>
                      <a:lnTo>
                        <a:pt x="1937" y="221"/>
                      </a:lnTo>
                      <a:lnTo>
                        <a:pt x="2160" y="24"/>
                      </a:lnTo>
                      <a:lnTo>
                        <a:pt x="2194" y="0"/>
                      </a:lnTo>
                      <a:lnTo>
                        <a:pt x="2151" y="147"/>
                      </a:lnTo>
                      <a:lnTo>
                        <a:pt x="2203" y="73"/>
                      </a:lnTo>
                      <a:lnTo>
                        <a:pt x="2263" y="49"/>
                      </a:lnTo>
                      <a:lnTo>
                        <a:pt x="2254" y="110"/>
                      </a:lnTo>
                      <a:lnTo>
                        <a:pt x="2427" y="36"/>
                      </a:lnTo>
                      <a:lnTo>
                        <a:pt x="2504" y="98"/>
                      </a:lnTo>
                      <a:lnTo>
                        <a:pt x="2392" y="159"/>
                      </a:lnTo>
                      <a:lnTo>
                        <a:pt x="2435" y="233"/>
                      </a:lnTo>
                      <a:lnTo>
                        <a:pt x="2598" y="221"/>
                      </a:lnTo>
                      <a:lnTo>
                        <a:pt x="2847" y="332"/>
                      </a:lnTo>
                      <a:lnTo>
                        <a:pt x="2830" y="455"/>
                      </a:lnTo>
                      <a:lnTo>
                        <a:pt x="2727" y="565"/>
                      </a:lnTo>
                      <a:lnTo>
                        <a:pt x="2573" y="627"/>
                      </a:lnTo>
                      <a:lnTo>
                        <a:pt x="2547" y="750"/>
                      </a:lnTo>
                      <a:lnTo>
                        <a:pt x="2555" y="873"/>
                      </a:lnTo>
                      <a:lnTo>
                        <a:pt x="2598" y="897"/>
                      </a:lnTo>
                      <a:lnTo>
                        <a:pt x="2607" y="959"/>
                      </a:lnTo>
                      <a:lnTo>
                        <a:pt x="2624" y="984"/>
                      </a:lnTo>
                      <a:lnTo>
                        <a:pt x="2658" y="1008"/>
                      </a:lnTo>
                      <a:lnTo>
                        <a:pt x="2667" y="1082"/>
                      </a:lnTo>
                      <a:lnTo>
                        <a:pt x="2718" y="1168"/>
                      </a:lnTo>
                      <a:lnTo>
                        <a:pt x="2718" y="1205"/>
                      </a:lnTo>
                      <a:lnTo>
                        <a:pt x="2770" y="1205"/>
                      </a:lnTo>
                      <a:lnTo>
                        <a:pt x="2787" y="1230"/>
                      </a:lnTo>
                      <a:lnTo>
                        <a:pt x="2830" y="1254"/>
                      </a:lnTo>
                      <a:lnTo>
                        <a:pt x="2855" y="1217"/>
                      </a:lnTo>
                      <a:lnTo>
                        <a:pt x="2881" y="1156"/>
                      </a:lnTo>
                      <a:lnTo>
                        <a:pt x="2898" y="1119"/>
                      </a:lnTo>
                      <a:lnTo>
                        <a:pt x="2941" y="1143"/>
                      </a:lnTo>
                      <a:lnTo>
                        <a:pt x="2993" y="1057"/>
                      </a:lnTo>
                      <a:lnTo>
                        <a:pt x="2993" y="996"/>
                      </a:lnTo>
                      <a:lnTo>
                        <a:pt x="3010" y="947"/>
                      </a:lnTo>
                      <a:lnTo>
                        <a:pt x="3018" y="910"/>
                      </a:lnTo>
                      <a:lnTo>
                        <a:pt x="3121" y="873"/>
                      </a:lnTo>
                      <a:lnTo>
                        <a:pt x="3207" y="836"/>
                      </a:lnTo>
                      <a:lnTo>
                        <a:pt x="3318" y="787"/>
                      </a:lnTo>
                      <a:lnTo>
                        <a:pt x="3447" y="824"/>
                      </a:lnTo>
                      <a:lnTo>
                        <a:pt x="3576" y="824"/>
                      </a:lnTo>
                      <a:lnTo>
                        <a:pt x="3790" y="824"/>
                      </a:lnTo>
                      <a:lnTo>
                        <a:pt x="3824" y="528"/>
                      </a:lnTo>
                      <a:lnTo>
                        <a:pt x="3944" y="541"/>
                      </a:lnTo>
                      <a:lnTo>
                        <a:pt x="4030" y="762"/>
                      </a:lnTo>
                      <a:lnTo>
                        <a:pt x="4047" y="578"/>
                      </a:lnTo>
                      <a:lnTo>
                        <a:pt x="4441" y="36"/>
                      </a:lnTo>
                      <a:lnTo>
                        <a:pt x="4596" y="36"/>
                      </a:lnTo>
                      <a:lnTo>
                        <a:pt x="4733" y="147"/>
                      </a:lnTo>
                      <a:lnTo>
                        <a:pt x="4913" y="135"/>
                      </a:lnTo>
                      <a:lnTo>
                        <a:pt x="5153" y="332"/>
                      </a:lnTo>
                      <a:lnTo>
                        <a:pt x="5427" y="442"/>
                      </a:lnTo>
                      <a:lnTo>
                        <a:pt x="5625" y="418"/>
                      </a:lnTo>
                      <a:lnTo>
                        <a:pt x="5882" y="541"/>
                      </a:lnTo>
                      <a:lnTo>
                        <a:pt x="6096" y="541"/>
                      </a:lnTo>
                      <a:lnTo>
                        <a:pt x="6199" y="455"/>
                      </a:lnTo>
                      <a:lnTo>
                        <a:pt x="6439" y="455"/>
                      </a:lnTo>
                      <a:lnTo>
                        <a:pt x="6568" y="553"/>
                      </a:lnTo>
                      <a:lnTo>
                        <a:pt x="6893" y="553"/>
                      </a:lnTo>
                      <a:lnTo>
                        <a:pt x="7169" y="713"/>
                      </a:lnTo>
                      <a:lnTo>
                        <a:pt x="7657" y="688"/>
                      </a:lnTo>
                      <a:lnTo>
                        <a:pt x="8455" y="762"/>
                      </a:lnTo>
                      <a:lnTo>
                        <a:pt x="8841" y="996"/>
                      </a:lnTo>
                      <a:lnTo>
                        <a:pt x="9166" y="1143"/>
                      </a:lnTo>
                      <a:lnTo>
                        <a:pt x="9372" y="1266"/>
                      </a:lnTo>
                      <a:lnTo>
                        <a:pt x="9312" y="1303"/>
                      </a:lnTo>
                      <a:lnTo>
                        <a:pt x="9166" y="1205"/>
                      </a:lnTo>
                      <a:lnTo>
                        <a:pt x="8832" y="1168"/>
                      </a:lnTo>
                      <a:lnTo>
                        <a:pt x="8926" y="1266"/>
                      </a:lnTo>
                      <a:lnTo>
                        <a:pt x="9072" y="1316"/>
                      </a:lnTo>
                      <a:lnTo>
                        <a:pt x="9029" y="1476"/>
                      </a:lnTo>
                      <a:lnTo>
                        <a:pt x="8875" y="1574"/>
                      </a:lnTo>
                      <a:lnTo>
                        <a:pt x="8823" y="1734"/>
                      </a:lnTo>
                      <a:lnTo>
                        <a:pt x="9029" y="1881"/>
                      </a:lnTo>
                      <a:lnTo>
                        <a:pt x="9175" y="2079"/>
                      </a:lnTo>
                      <a:lnTo>
                        <a:pt x="9252" y="2362"/>
                      </a:lnTo>
                      <a:lnTo>
                        <a:pt x="9158" y="2387"/>
                      </a:lnTo>
                      <a:lnTo>
                        <a:pt x="8952" y="2301"/>
                      </a:lnTo>
                      <a:lnTo>
                        <a:pt x="8738" y="2092"/>
                      </a:lnTo>
                      <a:lnTo>
                        <a:pt x="8652" y="1981"/>
                      </a:lnTo>
                      <a:lnTo>
                        <a:pt x="8601" y="1832"/>
                      </a:lnTo>
                      <a:lnTo>
                        <a:pt x="8549" y="1611"/>
                      </a:lnTo>
                      <a:lnTo>
                        <a:pt x="8463" y="1537"/>
                      </a:lnTo>
                      <a:lnTo>
                        <a:pt x="8386" y="1525"/>
                      </a:lnTo>
                      <a:lnTo>
                        <a:pt x="8318" y="1549"/>
                      </a:lnTo>
                      <a:lnTo>
                        <a:pt x="8395" y="1722"/>
                      </a:lnTo>
                      <a:lnTo>
                        <a:pt x="8189" y="1746"/>
                      </a:lnTo>
                      <a:lnTo>
                        <a:pt x="8095" y="1660"/>
                      </a:lnTo>
                      <a:lnTo>
                        <a:pt x="7915" y="1709"/>
                      </a:lnTo>
                      <a:lnTo>
                        <a:pt x="7778" y="1845"/>
                      </a:lnTo>
                      <a:lnTo>
                        <a:pt x="7778" y="1918"/>
                      </a:lnTo>
                      <a:lnTo>
                        <a:pt x="7829" y="2042"/>
                      </a:lnTo>
                      <a:lnTo>
                        <a:pt x="8043" y="2079"/>
                      </a:lnTo>
                      <a:lnTo>
                        <a:pt x="8215" y="2227"/>
                      </a:lnTo>
                      <a:lnTo>
                        <a:pt x="8506" y="2633"/>
                      </a:lnTo>
                      <a:lnTo>
                        <a:pt x="8626" y="2903"/>
                      </a:lnTo>
                      <a:lnTo>
                        <a:pt x="8643" y="3186"/>
                      </a:lnTo>
                      <a:lnTo>
                        <a:pt x="8618" y="3420"/>
                      </a:lnTo>
                      <a:lnTo>
                        <a:pt x="8549" y="3420"/>
                      </a:lnTo>
                      <a:lnTo>
                        <a:pt x="8472" y="3334"/>
                      </a:lnTo>
                      <a:lnTo>
                        <a:pt x="8361" y="3445"/>
                      </a:lnTo>
                      <a:lnTo>
                        <a:pt x="8249" y="3543"/>
                      </a:lnTo>
                      <a:lnTo>
                        <a:pt x="8232" y="3703"/>
                      </a:lnTo>
                      <a:lnTo>
                        <a:pt x="8352" y="3900"/>
                      </a:lnTo>
                      <a:lnTo>
                        <a:pt x="8275" y="4060"/>
                      </a:lnTo>
                      <a:lnTo>
                        <a:pt x="8249" y="4330"/>
                      </a:lnTo>
                      <a:lnTo>
                        <a:pt x="8395" y="4502"/>
                      </a:lnTo>
                      <a:lnTo>
                        <a:pt x="8558" y="4552"/>
                      </a:lnTo>
                      <a:lnTo>
                        <a:pt x="8729" y="4736"/>
                      </a:lnTo>
                      <a:lnTo>
                        <a:pt x="8875" y="4982"/>
                      </a:lnTo>
                      <a:lnTo>
                        <a:pt x="8883" y="5351"/>
                      </a:lnTo>
                      <a:lnTo>
                        <a:pt x="8832" y="5523"/>
                      </a:lnTo>
                      <a:lnTo>
                        <a:pt x="8678" y="5671"/>
                      </a:lnTo>
                      <a:lnTo>
                        <a:pt x="8489" y="5745"/>
                      </a:lnTo>
                      <a:lnTo>
                        <a:pt x="8369" y="5856"/>
                      </a:lnTo>
                      <a:lnTo>
                        <a:pt x="8300" y="5794"/>
                      </a:lnTo>
                      <a:lnTo>
                        <a:pt x="8240" y="5856"/>
                      </a:lnTo>
                      <a:lnTo>
                        <a:pt x="8223" y="6127"/>
                      </a:lnTo>
                      <a:lnTo>
                        <a:pt x="8266" y="6287"/>
                      </a:lnTo>
                      <a:lnTo>
                        <a:pt x="8455" y="6472"/>
                      </a:lnTo>
                      <a:lnTo>
                        <a:pt x="8532" y="6656"/>
                      </a:lnTo>
                      <a:lnTo>
                        <a:pt x="8592" y="6754"/>
                      </a:lnTo>
                      <a:lnTo>
                        <a:pt x="8575" y="6951"/>
                      </a:lnTo>
                      <a:lnTo>
                        <a:pt x="8455" y="7111"/>
                      </a:lnTo>
                      <a:lnTo>
                        <a:pt x="8326" y="7111"/>
                      </a:lnTo>
                      <a:lnTo>
                        <a:pt x="8120" y="6877"/>
                      </a:lnTo>
                      <a:lnTo>
                        <a:pt x="7975" y="6791"/>
                      </a:lnTo>
                      <a:lnTo>
                        <a:pt x="7915" y="6742"/>
                      </a:lnTo>
                      <a:lnTo>
                        <a:pt x="7855" y="6865"/>
                      </a:lnTo>
                      <a:lnTo>
                        <a:pt x="7872" y="7037"/>
                      </a:lnTo>
                      <a:lnTo>
                        <a:pt x="7923" y="7173"/>
                      </a:lnTo>
                      <a:lnTo>
                        <a:pt x="7958" y="7382"/>
                      </a:lnTo>
                      <a:lnTo>
                        <a:pt x="8086" y="7456"/>
                      </a:lnTo>
                      <a:lnTo>
                        <a:pt x="8043" y="7566"/>
                      </a:lnTo>
                      <a:lnTo>
                        <a:pt x="8052" y="7726"/>
                      </a:lnTo>
                      <a:lnTo>
                        <a:pt x="8095" y="7886"/>
                      </a:lnTo>
                      <a:lnTo>
                        <a:pt x="8009" y="7874"/>
                      </a:lnTo>
                      <a:lnTo>
                        <a:pt x="7915" y="7689"/>
                      </a:lnTo>
                      <a:lnTo>
                        <a:pt x="7923" y="7492"/>
                      </a:lnTo>
                      <a:lnTo>
                        <a:pt x="7889" y="7431"/>
                      </a:lnTo>
                      <a:lnTo>
                        <a:pt x="7855" y="7210"/>
                      </a:lnTo>
                      <a:lnTo>
                        <a:pt x="7812" y="7148"/>
                      </a:lnTo>
                      <a:lnTo>
                        <a:pt x="7795" y="6841"/>
                      </a:lnTo>
                      <a:lnTo>
                        <a:pt x="7735" y="6656"/>
                      </a:lnTo>
                      <a:lnTo>
                        <a:pt x="7632" y="6484"/>
                      </a:lnTo>
                      <a:lnTo>
                        <a:pt x="7443" y="6385"/>
                      </a:lnTo>
                      <a:lnTo>
                        <a:pt x="7315" y="6226"/>
                      </a:lnTo>
                      <a:lnTo>
                        <a:pt x="7263" y="6103"/>
                      </a:lnTo>
                      <a:lnTo>
                        <a:pt x="7169" y="5967"/>
                      </a:lnTo>
                      <a:lnTo>
                        <a:pt x="7022" y="5659"/>
                      </a:lnTo>
                      <a:lnTo>
                        <a:pt x="6893" y="5683"/>
                      </a:lnTo>
                      <a:lnTo>
                        <a:pt x="6722" y="5831"/>
                      </a:lnTo>
                      <a:lnTo>
                        <a:pt x="6645" y="5955"/>
                      </a:lnTo>
                      <a:lnTo>
                        <a:pt x="6491" y="6189"/>
                      </a:lnTo>
                      <a:lnTo>
                        <a:pt x="6379" y="6435"/>
                      </a:lnTo>
                      <a:lnTo>
                        <a:pt x="6336" y="6521"/>
                      </a:lnTo>
                      <a:lnTo>
                        <a:pt x="6379" y="6804"/>
                      </a:lnTo>
                      <a:lnTo>
                        <a:pt x="6370" y="7087"/>
                      </a:lnTo>
                      <a:lnTo>
                        <a:pt x="6233" y="7283"/>
                      </a:lnTo>
                      <a:lnTo>
                        <a:pt x="6156" y="7296"/>
                      </a:lnTo>
                      <a:lnTo>
                        <a:pt x="5993" y="6890"/>
                      </a:lnTo>
                      <a:lnTo>
                        <a:pt x="5865" y="6607"/>
                      </a:lnTo>
                      <a:lnTo>
                        <a:pt x="5607" y="6066"/>
                      </a:lnTo>
                      <a:lnTo>
                        <a:pt x="5599" y="5856"/>
                      </a:lnTo>
                      <a:lnTo>
                        <a:pt x="5539" y="5757"/>
                      </a:lnTo>
                      <a:lnTo>
                        <a:pt x="5496" y="5892"/>
                      </a:lnTo>
                      <a:lnTo>
                        <a:pt x="5273" y="5585"/>
                      </a:lnTo>
                      <a:lnTo>
                        <a:pt x="4973" y="5351"/>
                      </a:lnTo>
                      <a:lnTo>
                        <a:pt x="4784" y="5400"/>
                      </a:lnTo>
                      <a:lnTo>
                        <a:pt x="4510" y="5376"/>
                      </a:lnTo>
                      <a:lnTo>
                        <a:pt x="4381" y="5204"/>
                      </a:lnTo>
                      <a:lnTo>
                        <a:pt x="4236" y="5228"/>
                      </a:lnTo>
                      <a:lnTo>
                        <a:pt x="4030" y="5154"/>
                      </a:lnTo>
                      <a:lnTo>
                        <a:pt x="3601" y="4576"/>
                      </a:lnTo>
                      <a:lnTo>
                        <a:pt x="3627" y="4810"/>
                      </a:lnTo>
                      <a:lnTo>
                        <a:pt x="3756" y="5142"/>
                      </a:lnTo>
                      <a:lnTo>
                        <a:pt x="3901" y="5376"/>
                      </a:lnTo>
                      <a:lnTo>
                        <a:pt x="4056" y="5499"/>
                      </a:lnTo>
                      <a:lnTo>
                        <a:pt x="4227" y="5400"/>
                      </a:lnTo>
                      <a:lnTo>
                        <a:pt x="4364" y="5400"/>
                      </a:lnTo>
                      <a:lnTo>
                        <a:pt x="4544" y="5610"/>
                      </a:lnTo>
                      <a:lnTo>
                        <a:pt x="4647" y="5769"/>
                      </a:lnTo>
                      <a:lnTo>
                        <a:pt x="4630" y="5868"/>
                      </a:lnTo>
                      <a:lnTo>
                        <a:pt x="4321" y="6324"/>
                      </a:lnTo>
                      <a:lnTo>
                        <a:pt x="4116" y="6496"/>
                      </a:lnTo>
                      <a:lnTo>
                        <a:pt x="3687" y="6718"/>
                      </a:lnTo>
                      <a:lnTo>
                        <a:pt x="3558" y="6791"/>
                      </a:lnTo>
                      <a:lnTo>
                        <a:pt x="3481" y="6718"/>
                      </a:lnTo>
                      <a:lnTo>
                        <a:pt x="3456" y="6631"/>
                      </a:lnTo>
                      <a:lnTo>
                        <a:pt x="3447" y="6496"/>
                      </a:lnTo>
                      <a:lnTo>
                        <a:pt x="3413" y="6361"/>
                      </a:lnTo>
                      <a:lnTo>
                        <a:pt x="3353" y="6250"/>
                      </a:lnTo>
                      <a:lnTo>
                        <a:pt x="3301" y="6152"/>
                      </a:lnTo>
                      <a:lnTo>
                        <a:pt x="3224" y="6016"/>
                      </a:lnTo>
                      <a:lnTo>
                        <a:pt x="3181" y="5930"/>
                      </a:lnTo>
                      <a:lnTo>
                        <a:pt x="3147" y="5819"/>
                      </a:lnTo>
                      <a:lnTo>
                        <a:pt x="3087" y="5720"/>
                      </a:lnTo>
                      <a:lnTo>
                        <a:pt x="2993" y="5474"/>
                      </a:lnTo>
                      <a:lnTo>
                        <a:pt x="2941" y="5376"/>
                      </a:lnTo>
                      <a:lnTo>
                        <a:pt x="2873" y="5240"/>
                      </a:lnTo>
                      <a:lnTo>
                        <a:pt x="2761" y="5056"/>
                      </a:lnTo>
                      <a:lnTo>
                        <a:pt x="2701" y="4945"/>
                      </a:lnTo>
                      <a:lnTo>
                        <a:pt x="2650" y="4871"/>
                      </a:lnTo>
                      <a:lnTo>
                        <a:pt x="2590" y="4712"/>
                      </a:lnTo>
                      <a:lnTo>
                        <a:pt x="2770" y="4564"/>
                      </a:lnTo>
                      <a:lnTo>
                        <a:pt x="2847" y="4244"/>
                      </a:lnTo>
                      <a:lnTo>
                        <a:pt x="2675" y="4158"/>
                      </a:lnTo>
                      <a:lnTo>
                        <a:pt x="2444" y="4207"/>
                      </a:lnTo>
                      <a:lnTo>
                        <a:pt x="2392" y="4170"/>
                      </a:lnTo>
                      <a:lnTo>
                        <a:pt x="2367" y="4170"/>
                      </a:lnTo>
                      <a:lnTo>
                        <a:pt x="2331" y="4170"/>
                      </a:lnTo>
                      <a:lnTo>
                        <a:pt x="2306" y="4170"/>
                      </a:lnTo>
                      <a:lnTo>
                        <a:pt x="2297" y="4109"/>
                      </a:lnTo>
                      <a:lnTo>
                        <a:pt x="2280" y="4060"/>
                      </a:lnTo>
                      <a:lnTo>
                        <a:pt x="2280" y="3961"/>
                      </a:lnTo>
                      <a:lnTo>
                        <a:pt x="2237" y="3912"/>
                      </a:lnTo>
                      <a:lnTo>
                        <a:pt x="2229" y="3851"/>
                      </a:lnTo>
                      <a:lnTo>
                        <a:pt x="2203" y="3838"/>
                      </a:lnTo>
                      <a:lnTo>
                        <a:pt x="2177" y="3789"/>
                      </a:lnTo>
                      <a:lnTo>
                        <a:pt x="2169" y="3740"/>
                      </a:lnTo>
                      <a:lnTo>
                        <a:pt x="2151" y="3691"/>
                      </a:lnTo>
                      <a:lnTo>
                        <a:pt x="2134" y="3666"/>
                      </a:lnTo>
                      <a:lnTo>
                        <a:pt x="2083" y="3666"/>
                      </a:lnTo>
                      <a:lnTo>
                        <a:pt x="2049" y="3666"/>
                      </a:lnTo>
                      <a:lnTo>
                        <a:pt x="2031" y="3666"/>
                      </a:lnTo>
                      <a:lnTo>
                        <a:pt x="2023" y="3728"/>
                      </a:lnTo>
                      <a:lnTo>
                        <a:pt x="2023" y="3789"/>
                      </a:lnTo>
                      <a:lnTo>
                        <a:pt x="2023" y="3863"/>
                      </a:lnTo>
                      <a:lnTo>
                        <a:pt x="2023" y="3937"/>
                      </a:lnTo>
                      <a:lnTo>
                        <a:pt x="2023" y="3986"/>
                      </a:lnTo>
                      <a:lnTo>
                        <a:pt x="1980" y="4010"/>
                      </a:lnTo>
                      <a:lnTo>
                        <a:pt x="1946" y="4060"/>
                      </a:lnTo>
                      <a:lnTo>
                        <a:pt x="1894" y="3986"/>
                      </a:lnTo>
                      <a:lnTo>
                        <a:pt x="1860" y="3887"/>
                      </a:lnTo>
                      <a:lnTo>
                        <a:pt x="1868" y="3777"/>
                      </a:lnTo>
                      <a:lnTo>
                        <a:pt x="1817" y="3629"/>
                      </a:lnTo>
                      <a:lnTo>
                        <a:pt x="1791" y="3531"/>
                      </a:lnTo>
                      <a:lnTo>
                        <a:pt x="1731" y="3469"/>
                      </a:lnTo>
                      <a:lnTo>
                        <a:pt x="1663" y="3408"/>
                      </a:lnTo>
                      <a:lnTo>
                        <a:pt x="1628" y="3322"/>
                      </a:lnTo>
                      <a:lnTo>
                        <a:pt x="1603" y="3260"/>
                      </a:lnTo>
                      <a:lnTo>
                        <a:pt x="1543" y="3248"/>
                      </a:lnTo>
                      <a:lnTo>
                        <a:pt x="1526" y="3211"/>
                      </a:lnTo>
                      <a:lnTo>
                        <a:pt x="1483" y="3211"/>
                      </a:lnTo>
                      <a:lnTo>
                        <a:pt x="1448" y="3272"/>
                      </a:lnTo>
                      <a:lnTo>
                        <a:pt x="1414" y="3322"/>
                      </a:lnTo>
                      <a:lnTo>
                        <a:pt x="1491" y="3383"/>
                      </a:lnTo>
                      <a:lnTo>
                        <a:pt x="1534" y="3469"/>
                      </a:lnTo>
                      <a:lnTo>
                        <a:pt x="1611" y="3580"/>
                      </a:lnTo>
                      <a:lnTo>
                        <a:pt x="1646" y="3629"/>
                      </a:lnTo>
                      <a:lnTo>
                        <a:pt x="1706" y="3666"/>
                      </a:lnTo>
                      <a:lnTo>
                        <a:pt x="1748" y="3740"/>
                      </a:lnTo>
                      <a:lnTo>
                        <a:pt x="1697" y="3826"/>
                      </a:lnTo>
                      <a:lnTo>
                        <a:pt x="1688" y="3789"/>
                      </a:lnTo>
                      <a:lnTo>
                        <a:pt x="1688" y="3740"/>
                      </a:lnTo>
                      <a:lnTo>
                        <a:pt x="1663" y="3851"/>
                      </a:lnTo>
                      <a:lnTo>
                        <a:pt x="1654" y="3949"/>
                      </a:lnTo>
                      <a:lnTo>
                        <a:pt x="1603" y="3974"/>
                      </a:lnTo>
                      <a:lnTo>
                        <a:pt x="1620" y="3851"/>
                      </a:lnTo>
                      <a:lnTo>
                        <a:pt x="1611" y="3789"/>
                      </a:lnTo>
                      <a:lnTo>
                        <a:pt x="1551" y="3752"/>
                      </a:lnTo>
                      <a:lnTo>
                        <a:pt x="1526" y="3728"/>
                      </a:lnTo>
                      <a:lnTo>
                        <a:pt x="1500" y="3678"/>
                      </a:lnTo>
                      <a:lnTo>
                        <a:pt x="1448" y="3654"/>
                      </a:lnTo>
                      <a:lnTo>
                        <a:pt x="1414" y="3617"/>
                      </a:lnTo>
                      <a:lnTo>
                        <a:pt x="1380" y="3543"/>
                      </a:lnTo>
                      <a:lnTo>
                        <a:pt x="1337" y="3506"/>
                      </a:lnTo>
                      <a:lnTo>
                        <a:pt x="1311" y="3432"/>
                      </a:lnTo>
                      <a:lnTo>
                        <a:pt x="1303" y="3371"/>
                      </a:lnTo>
                      <a:lnTo>
                        <a:pt x="1268" y="3346"/>
                      </a:lnTo>
                      <a:lnTo>
                        <a:pt x="1234" y="3309"/>
                      </a:lnTo>
                      <a:lnTo>
                        <a:pt x="1165" y="3309"/>
                      </a:lnTo>
                      <a:lnTo>
                        <a:pt x="1105" y="3322"/>
                      </a:lnTo>
                      <a:lnTo>
                        <a:pt x="1037" y="3309"/>
                      </a:lnTo>
                      <a:lnTo>
                        <a:pt x="917" y="3322"/>
                      </a:lnTo>
                      <a:lnTo>
                        <a:pt x="831" y="3334"/>
                      </a:lnTo>
                      <a:lnTo>
                        <a:pt x="805" y="3359"/>
                      </a:lnTo>
                      <a:lnTo>
                        <a:pt x="797" y="3432"/>
                      </a:lnTo>
                      <a:lnTo>
                        <a:pt x="797" y="3518"/>
                      </a:lnTo>
                      <a:lnTo>
                        <a:pt x="745" y="3605"/>
                      </a:lnTo>
                      <a:lnTo>
                        <a:pt x="711" y="3641"/>
                      </a:lnTo>
                      <a:lnTo>
                        <a:pt x="694" y="3666"/>
                      </a:lnTo>
                      <a:lnTo>
                        <a:pt x="668" y="3728"/>
                      </a:lnTo>
                      <a:lnTo>
                        <a:pt x="651" y="3777"/>
                      </a:lnTo>
                      <a:lnTo>
                        <a:pt x="677" y="3814"/>
                      </a:lnTo>
                      <a:lnTo>
                        <a:pt x="677" y="3887"/>
                      </a:lnTo>
                      <a:lnTo>
                        <a:pt x="668" y="3924"/>
                      </a:lnTo>
                      <a:lnTo>
                        <a:pt x="651" y="3974"/>
                      </a:lnTo>
                      <a:lnTo>
                        <a:pt x="608" y="4060"/>
                      </a:lnTo>
                      <a:lnTo>
                        <a:pt x="582" y="4023"/>
                      </a:lnTo>
                      <a:lnTo>
                        <a:pt x="557" y="4047"/>
                      </a:lnTo>
                      <a:lnTo>
                        <a:pt x="522" y="4084"/>
                      </a:lnTo>
                      <a:lnTo>
                        <a:pt x="471" y="4097"/>
                      </a:lnTo>
                      <a:lnTo>
                        <a:pt x="420" y="4158"/>
                      </a:lnTo>
                      <a:lnTo>
                        <a:pt x="368" y="4170"/>
                      </a:lnTo>
                      <a:lnTo>
                        <a:pt x="317" y="4170"/>
                      </a:lnTo>
                      <a:lnTo>
                        <a:pt x="265" y="4170"/>
                      </a:lnTo>
                      <a:lnTo>
                        <a:pt x="154" y="4207"/>
                      </a:lnTo>
                      <a:lnTo>
                        <a:pt x="102" y="4207"/>
                      </a:lnTo>
                      <a:lnTo>
                        <a:pt x="77" y="4121"/>
                      </a:lnTo>
                      <a:lnTo>
                        <a:pt x="51" y="4010"/>
                      </a:lnTo>
                      <a:lnTo>
                        <a:pt x="34" y="3912"/>
                      </a:lnTo>
                      <a:lnTo>
                        <a:pt x="25" y="3814"/>
                      </a:lnTo>
                      <a:lnTo>
                        <a:pt x="25" y="3691"/>
                      </a:lnTo>
                      <a:lnTo>
                        <a:pt x="0" y="3543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59200" cy="5254920"/>
              <a:chOff x="146160" y="976320"/>
              <a:chExt cx="2959200" cy="525492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2320" cy="2459520"/>
              </a:xfrm>
              <a:custGeom>
                <a:avLst/>
                <a:gdLst/>
                <a:ahLst/>
                <a:rect l="0" t="0" r="r" b="b"/>
                <a:pathLst>
                  <a:path w="5562" h="6832">
                    <a:moveTo>
                      <a:pt x="0" y="1757"/>
                    </a:moveTo>
                    <a:lnTo>
                      <a:pt x="265" y="1523"/>
                    </a:lnTo>
                    <a:lnTo>
                      <a:pt x="419" y="1425"/>
                    </a:lnTo>
                    <a:lnTo>
                      <a:pt x="445" y="1277"/>
                    </a:lnTo>
                    <a:lnTo>
                      <a:pt x="325" y="1191"/>
                    </a:lnTo>
                    <a:lnTo>
                      <a:pt x="317" y="1019"/>
                    </a:lnTo>
                    <a:lnTo>
                      <a:pt x="368" y="970"/>
                    </a:lnTo>
                    <a:lnTo>
                      <a:pt x="359" y="896"/>
                    </a:lnTo>
                    <a:lnTo>
                      <a:pt x="565" y="872"/>
                    </a:lnTo>
                    <a:lnTo>
                      <a:pt x="616" y="737"/>
                    </a:lnTo>
                    <a:lnTo>
                      <a:pt x="625" y="614"/>
                    </a:lnTo>
                    <a:lnTo>
                      <a:pt x="796" y="577"/>
                    </a:lnTo>
                    <a:lnTo>
                      <a:pt x="813" y="454"/>
                    </a:lnTo>
                    <a:lnTo>
                      <a:pt x="651" y="417"/>
                    </a:lnTo>
                    <a:lnTo>
                      <a:pt x="728" y="331"/>
                    </a:lnTo>
                    <a:lnTo>
                      <a:pt x="993" y="331"/>
                    </a:lnTo>
                    <a:lnTo>
                      <a:pt x="1071" y="233"/>
                    </a:lnTo>
                    <a:lnTo>
                      <a:pt x="1182" y="221"/>
                    </a:lnTo>
                    <a:lnTo>
                      <a:pt x="1250" y="147"/>
                    </a:lnTo>
                    <a:lnTo>
                      <a:pt x="1336" y="282"/>
                    </a:lnTo>
                    <a:lnTo>
                      <a:pt x="1671" y="257"/>
                    </a:lnTo>
                    <a:lnTo>
                      <a:pt x="1825" y="405"/>
                    </a:lnTo>
                    <a:lnTo>
                      <a:pt x="2322" y="368"/>
                    </a:lnTo>
                    <a:lnTo>
                      <a:pt x="2400" y="294"/>
                    </a:lnTo>
                    <a:lnTo>
                      <a:pt x="2588" y="417"/>
                    </a:lnTo>
                    <a:lnTo>
                      <a:pt x="2785" y="528"/>
                    </a:lnTo>
                    <a:lnTo>
                      <a:pt x="2879" y="479"/>
                    </a:lnTo>
                    <a:lnTo>
                      <a:pt x="2939" y="417"/>
                    </a:lnTo>
                    <a:lnTo>
                      <a:pt x="3102" y="454"/>
                    </a:lnTo>
                    <a:lnTo>
                      <a:pt x="2991" y="368"/>
                    </a:lnTo>
                    <a:lnTo>
                      <a:pt x="2888" y="380"/>
                    </a:lnTo>
                    <a:lnTo>
                      <a:pt x="2734" y="405"/>
                    </a:lnTo>
                    <a:lnTo>
                      <a:pt x="2657" y="282"/>
                    </a:lnTo>
                    <a:lnTo>
                      <a:pt x="2571" y="221"/>
                    </a:lnTo>
                    <a:lnTo>
                      <a:pt x="2571" y="122"/>
                    </a:lnTo>
                    <a:lnTo>
                      <a:pt x="2597" y="12"/>
                    </a:lnTo>
                    <a:lnTo>
                      <a:pt x="2665" y="0"/>
                    </a:lnTo>
                    <a:lnTo>
                      <a:pt x="2759" y="98"/>
                    </a:lnTo>
                    <a:lnTo>
                      <a:pt x="2785" y="49"/>
                    </a:lnTo>
                    <a:lnTo>
                      <a:pt x="2862" y="0"/>
                    </a:lnTo>
                    <a:lnTo>
                      <a:pt x="2956" y="73"/>
                    </a:lnTo>
                    <a:lnTo>
                      <a:pt x="3008" y="12"/>
                    </a:lnTo>
                    <a:lnTo>
                      <a:pt x="3059" y="110"/>
                    </a:lnTo>
                    <a:lnTo>
                      <a:pt x="3068" y="171"/>
                    </a:lnTo>
                    <a:lnTo>
                      <a:pt x="3205" y="257"/>
                    </a:lnTo>
                    <a:lnTo>
                      <a:pt x="3154" y="331"/>
                    </a:lnTo>
                    <a:lnTo>
                      <a:pt x="3154" y="429"/>
                    </a:lnTo>
                    <a:lnTo>
                      <a:pt x="3385" y="454"/>
                    </a:lnTo>
                    <a:lnTo>
                      <a:pt x="3445" y="331"/>
                    </a:lnTo>
                    <a:lnTo>
                      <a:pt x="3402" y="270"/>
                    </a:lnTo>
                    <a:lnTo>
                      <a:pt x="3299" y="282"/>
                    </a:lnTo>
                    <a:lnTo>
                      <a:pt x="3325" y="147"/>
                    </a:lnTo>
                    <a:lnTo>
                      <a:pt x="3531" y="221"/>
                    </a:lnTo>
                    <a:lnTo>
                      <a:pt x="3573" y="319"/>
                    </a:lnTo>
                    <a:lnTo>
                      <a:pt x="3745" y="319"/>
                    </a:lnTo>
                    <a:lnTo>
                      <a:pt x="3899" y="442"/>
                    </a:lnTo>
                    <a:lnTo>
                      <a:pt x="3985" y="417"/>
                    </a:lnTo>
                    <a:lnTo>
                      <a:pt x="4079" y="528"/>
                    </a:lnTo>
                    <a:lnTo>
                      <a:pt x="3985" y="675"/>
                    </a:lnTo>
                    <a:lnTo>
                      <a:pt x="3908" y="565"/>
                    </a:lnTo>
                    <a:lnTo>
                      <a:pt x="3856" y="601"/>
                    </a:lnTo>
                    <a:lnTo>
                      <a:pt x="3788" y="687"/>
                    </a:lnTo>
                    <a:lnTo>
                      <a:pt x="3676" y="761"/>
                    </a:lnTo>
                    <a:lnTo>
                      <a:pt x="3736" y="872"/>
                    </a:lnTo>
                    <a:lnTo>
                      <a:pt x="3633" y="884"/>
                    </a:lnTo>
                    <a:lnTo>
                      <a:pt x="3548" y="1031"/>
                    </a:lnTo>
                    <a:lnTo>
                      <a:pt x="3462" y="1216"/>
                    </a:lnTo>
                    <a:lnTo>
                      <a:pt x="3591" y="1375"/>
                    </a:lnTo>
                    <a:lnTo>
                      <a:pt x="3693" y="1560"/>
                    </a:lnTo>
                    <a:lnTo>
                      <a:pt x="3873" y="1584"/>
                    </a:lnTo>
                    <a:lnTo>
                      <a:pt x="4045" y="1560"/>
                    </a:lnTo>
                    <a:lnTo>
                      <a:pt x="4122" y="1658"/>
                    </a:lnTo>
                    <a:lnTo>
                      <a:pt x="4087" y="1707"/>
                    </a:lnTo>
                    <a:lnTo>
                      <a:pt x="4036" y="1806"/>
                    </a:lnTo>
                    <a:lnTo>
                      <a:pt x="4113" y="1978"/>
                    </a:lnTo>
                    <a:lnTo>
                      <a:pt x="4139" y="2101"/>
                    </a:lnTo>
                    <a:lnTo>
                      <a:pt x="4234" y="2163"/>
                    </a:lnTo>
                    <a:lnTo>
                      <a:pt x="4363" y="2052"/>
                    </a:lnTo>
                    <a:lnTo>
                      <a:pt x="4328" y="1892"/>
                    </a:lnTo>
                    <a:lnTo>
                      <a:pt x="4217" y="1757"/>
                    </a:lnTo>
                    <a:lnTo>
                      <a:pt x="4345" y="1597"/>
                    </a:lnTo>
                    <a:lnTo>
                      <a:pt x="4234" y="1326"/>
                    </a:lnTo>
                    <a:lnTo>
                      <a:pt x="4130" y="1216"/>
                    </a:lnTo>
                    <a:lnTo>
                      <a:pt x="4217" y="1117"/>
                    </a:lnTo>
                    <a:lnTo>
                      <a:pt x="4200" y="970"/>
                    </a:lnTo>
                    <a:lnTo>
                      <a:pt x="4260" y="884"/>
                    </a:lnTo>
                    <a:lnTo>
                      <a:pt x="4363" y="970"/>
                    </a:lnTo>
                    <a:lnTo>
                      <a:pt x="4603" y="1289"/>
                    </a:lnTo>
                    <a:lnTo>
                      <a:pt x="4748" y="1339"/>
                    </a:lnTo>
                    <a:lnTo>
                      <a:pt x="4791" y="1253"/>
                    </a:lnTo>
                    <a:lnTo>
                      <a:pt x="4757" y="1081"/>
                    </a:lnTo>
                    <a:lnTo>
                      <a:pt x="4842" y="1105"/>
                    </a:lnTo>
                    <a:lnTo>
                      <a:pt x="4988" y="1302"/>
                    </a:lnTo>
                    <a:lnTo>
                      <a:pt x="5014" y="1412"/>
                    </a:lnTo>
                    <a:lnTo>
                      <a:pt x="5099" y="1486"/>
                    </a:lnTo>
                    <a:lnTo>
                      <a:pt x="5271" y="1572"/>
                    </a:lnTo>
                    <a:lnTo>
                      <a:pt x="5357" y="1733"/>
                    </a:lnTo>
                    <a:lnTo>
                      <a:pt x="5485" y="1843"/>
                    </a:lnTo>
                    <a:lnTo>
                      <a:pt x="5554" y="1880"/>
                    </a:lnTo>
                    <a:lnTo>
                      <a:pt x="5562" y="1978"/>
                    </a:lnTo>
                    <a:lnTo>
                      <a:pt x="5459" y="2040"/>
                    </a:lnTo>
                    <a:lnTo>
                      <a:pt x="5399" y="1966"/>
                    </a:lnTo>
                    <a:lnTo>
                      <a:pt x="5348" y="1978"/>
                    </a:lnTo>
                    <a:lnTo>
                      <a:pt x="5331" y="2138"/>
                    </a:lnTo>
                    <a:lnTo>
                      <a:pt x="5245" y="2175"/>
                    </a:lnTo>
                    <a:lnTo>
                      <a:pt x="5151" y="2089"/>
                    </a:lnTo>
                    <a:lnTo>
                      <a:pt x="4954" y="2089"/>
                    </a:lnTo>
                    <a:lnTo>
                      <a:pt x="4928" y="2273"/>
                    </a:lnTo>
                    <a:lnTo>
                      <a:pt x="4980" y="2384"/>
                    </a:lnTo>
                    <a:lnTo>
                      <a:pt x="5057" y="2322"/>
                    </a:lnTo>
                    <a:lnTo>
                      <a:pt x="5134" y="2298"/>
                    </a:lnTo>
                    <a:lnTo>
                      <a:pt x="5211" y="2359"/>
                    </a:lnTo>
                    <a:lnTo>
                      <a:pt x="5108" y="2494"/>
                    </a:lnTo>
                    <a:lnTo>
                      <a:pt x="5211" y="2617"/>
                    </a:lnTo>
                    <a:lnTo>
                      <a:pt x="5348" y="2654"/>
                    </a:lnTo>
                    <a:lnTo>
                      <a:pt x="5331" y="2728"/>
                    </a:lnTo>
                    <a:lnTo>
                      <a:pt x="5279" y="2740"/>
                    </a:lnTo>
                    <a:lnTo>
                      <a:pt x="5151" y="3158"/>
                    </a:lnTo>
                    <a:lnTo>
                      <a:pt x="5159" y="2888"/>
                    </a:lnTo>
                    <a:lnTo>
                      <a:pt x="5219" y="2752"/>
                    </a:lnTo>
                    <a:lnTo>
                      <a:pt x="5151" y="2691"/>
                    </a:lnTo>
                    <a:lnTo>
                      <a:pt x="5074" y="2777"/>
                    </a:lnTo>
                    <a:lnTo>
                      <a:pt x="5117" y="2851"/>
                    </a:lnTo>
                    <a:lnTo>
                      <a:pt x="5057" y="2900"/>
                    </a:lnTo>
                    <a:lnTo>
                      <a:pt x="4997" y="2961"/>
                    </a:lnTo>
                    <a:lnTo>
                      <a:pt x="5005" y="3146"/>
                    </a:lnTo>
                    <a:lnTo>
                      <a:pt x="4920" y="3207"/>
                    </a:lnTo>
                    <a:lnTo>
                      <a:pt x="4800" y="3219"/>
                    </a:lnTo>
                    <a:lnTo>
                      <a:pt x="4842" y="3318"/>
                    </a:lnTo>
                    <a:lnTo>
                      <a:pt x="4800" y="3428"/>
                    </a:lnTo>
                    <a:lnTo>
                      <a:pt x="4842" y="3514"/>
                    </a:lnTo>
                    <a:lnTo>
                      <a:pt x="4774" y="3698"/>
                    </a:lnTo>
                    <a:lnTo>
                      <a:pt x="4748" y="3870"/>
                    </a:lnTo>
                    <a:lnTo>
                      <a:pt x="4645" y="3969"/>
                    </a:lnTo>
                    <a:lnTo>
                      <a:pt x="4517" y="4239"/>
                    </a:lnTo>
                    <a:lnTo>
                      <a:pt x="4500" y="4423"/>
                    </a:lnTo>
                    <a:lnTo>
                      <a:pt x="4543" y="4571"/>
                    </a:lnTo>
                    <a:lnTo>
                      <a:pt x="4603" y="4755"/>
                    </a:lnTo>
                    <a:lnTo>
                      <a:pt x="4637" y="4952"/>
                    </a:lnTo>
                    <a:lnTo>
                      <a:pt x="4577" y="5037"/>
                    </a:lnTo>
                    <a:lnTo>
                      <a:pt x="4500" y="4976"/>
                    </a:lnTo>
                    <a:lnTo>
                      <a:pt x="4517" y="4878"/>
                    </a:lnTo>
                    <a:lnTo>
                      <a:pt x="4474" y="4657"/>
                    </a:lnTo>
                    <a:lnTo>
                      <a:pt x="4423" y="4620"/>
                    </a:lnTo>
                    <a:lnTo>
                      <a:pt x="4388" y="4485"/>
                    </a:lnTo>
                    <a:lnTo>
                      <a:pt x="4320" y="4485"/>
                    </a:lnTo>
                    <a:lnTo>
                      <a:pt x="4243" y="4411"/>
                    </a:lnTo>
                    <a:lnTo>
                      <a:pt x="4156" y="4436"/>
                    </a:lnTo>
                    <a:lnTo>
                      <a:pt x="4079" y="4386"/>
                    </a:lnTo>
                    <a:lnTo>
                      <a:pt x="3985" y="4448"/>
                    </a:lnTo>
                    <a:lnTo>
                      <a:pt x="3813" y="4399"/>
                    </a:lnTo>
                    <a:lnTo>
                      <a:pt x="3925" y="4558"/>
                    </a:lnTo>
                    <a:lnTo>
                      <a:pt x="3788" y="4546"/>
                    </a:lnTo>
                    <a:lnTo>
                      <a:pt x="3693" y="4423"/>
                    </a:lnTo>
                    <a:lnTo>
                      <a:pt x="3522" y="4423"/>
                    </a:lnTo>
                    <a:lnTo>
                      <a:pt x="3548" y="4620"/>
                    </a:lnTo>
                    <a:lnTo>
                      <a:pt x="3419" y="4558"/>
                    </a:lnTo>
                    <a:lnTo>
                      <a:pt x="3351" y="4755"/>
                    </a:lnTo>
                    <a:lnTo>
                      <a:pt x="3402" y="4841"/>
                    </a:lnTo>
                    <a:lnTo>
                      <a:pt x="3351" y="5074"/>
                    </a:lnTo>
                    <a:lnTo>
                      <a:pt x="3411" y="5346"/>
                    </a:lnTo>
                    <a:lnTo>
                      <a:pt x="3479" y="5530"/>
                    </a:lnTo>
                    <a:lnTo>
                      <a:pt x="3556" y="5702"/>
                    </a:lnTo>
                    <a:lnTo>
                      <a:pt x="3788" y="5690"/>
                    </a:lnTo>
                    <a:lnTo>
                      <a:pt x="3882" y="5653"/>
                    </a:lnTo>
                    <a:lnTo>
                      <a:pt x="3899" y="5530"/>
                    </a:lnTo>
                    <a:lnTo>
                      <a:pt x="3848" y="5432"/>
                    </a:lnTo>
                    <a:lnTo>
                      <a:pt x="3856" y="5346"/>
                    </a:lnTo>
                    <a:lnTo>
                      <a:pt x="4002" y="5370"/>
                    </a:lnTo>
                    <a:lnTo>
                      <a:pt x="4147" y="5321"/>
                    </a:lnTo>
                    <a:lnTo>
                      <a:pt x="4147" y="5432"/>
                    </a:lnTo>
                    <a:lnTo>
                      <a:pt x="4105" y="5591"/>
                    </a:lnTo>
                    <a:lnTo>
                      <a:pt x="4036" y="5714"/>
                    </a:lnTo>
                    <a:lnTo>
                      <a:pt x="4019" y="5886"/>
                    </a:lnTo>
                    <a:lnTo>
                      <a:pt x="4113" y="5960"/>
                    </a:lnTo>
                    <a:lnTo>
                      <a:pt x="4243" y="5935"/>
                    </a:lnTo>
                    <a:lnTo>
                      <a:pt x="4320" y="5997"/>
                    </a:lnTo>
                    <a:lnTo>
                      <a:pt x="4388" y="5972"/>
                    </a:lnTo>
                    <a:lnTo>
                      <a:pt x="4414" y="6083"/>
                    </a:lnTo>
                    <a:lnTo>
                      <a:pt x="4354" y="6242"/>
                    </a:lnTo>
                    <a:lnTo>
                      <a:pt x="4405" y="6341"/>
                    </a:lnTo>
                    <a:lnTo>
                      <a:pt x="4414" y="6537"/>
                    </a:lnTo>
                    <a:lnTo>
                      <a:pt x="4500" y="6672"/>
                    </a:lnTo>
                    <a:lnTo>
                      <a:pt x="4611" y="6709"/>
                    </a:lnTo>
                    <a:lnTo>
                      <a:pt x="4688" y="6672"/>
                    </a:lnTo>
                    <a:lnTo>
                      <a:pt x="4722" y="6685"/>
                    </a:lnTo>
                    <a:lnTo>
                      <a:pt x="4868" y="6685"/>
                    </a:lnTo>
                    <a:lnTo>
                      <a:pt x="4997" y="6697"/>
                    </a:lnTo>
                    <a:lnTo>
                      <a:pt x="5031" y="6611"/>
                    </a:lnTo>
                    <a:lnTo>
                      <a:pt x="4920" y="6758"/>
                    </a:lnTo>
                    <a:lnTo>
                      <a:pt x="4842" y="6746"/>
                    </a:lnTo>
                    <a:lnTo>
                      <a:pt x="4765" y="6758"/>
                    </a:lnTo>
                    <a:lnTo>
                      <a:pt x="4611" y="6832"/>
                    </a:lnTo>
                    <a:lnTo>
                      <a:pt x="4483" y="6734"/>
                    </a:lnTo>
                    <a:lnTo>
                      <a:pt x="4363" y="6672"/>
                    </a:lnTo>
                    <a:lnTo>
                      <a:pt x="4311" y="6685"/>
                    </a:lnTo>
                    <a:lnTo>
                      <a:pt x="4320" y="6599"/>
                    </a:lnTo>
                    <a:lnTo>
                      <a:pt x="4311" y="6464"/>
                    </a:lnTo>
                    <a:lnTo>
                      <a:pt x="4208" y="6341"/>
                    </a:lnTo>
                    <a:lnTo>
                      <a:pt x="3993" y="6267"/>
                    </a:lnTo>
                    <a:lnTo>
                      <a:pt x="3959" y="6218"/>
                    </a:lnTo>
                    <a:lnTo>
                      <a:pt x="3899" y="6230"/>
                    </a:lnTo>
                    <a:lnTo>
                      <a:pt x="3839" y="6169"/>
                    </a:lnTo>
                    <a:lnTo>
                      <a:pt x="3762" y="6107"/>
                    </a:lnTo>
                    <a:lnTo>
                      <a:pt x="3659" y="5935"/>
                    </a:lnTo>
                    <a:lnTo>
                      <a:pt x="3539" y="5886"/>
                    </a:lnTo>
                    <a:lnTo>
                      <a:pt x="3471" y="5997"/>
                    </a:lnTo>
                    <a:lnTo>
                      <a:pt x="3393" y="5911"/>
                    </a:lnTo>
                    <a:lnTo>
                      <a:pt x="3299" y="5911"/>
                    </a:lnTo>
                    <a:lnTo>
                      <a:pt x="3111" y="5849"/>
                    </a:lnTo>
                    <a:lnTo>
                      <a:pt x="2768" y="5554"/>
                    </a:lnTo>
                    <a:lnTo>
                      <a:pt x="2742" y="5247"/>
                    </a:lnTo>
                    <a:lnTo>
                      <a:pt x="2708" y="5123"/>
                    </a:lnTo>
                    <a:lnTo>
                      <a:pt x="2648" y="5037"/>
                    </a:lnTo>
                    <a:lnTo>
                      <a:pt x="2571" y="4866"/>
                    </a:lnTo>
                    <a:lnTo>
                      <a:pt x="2211" y="4276"/>
                    </a:lnTo>
                    <a:lnTo>
                      <a:pt x="2211" y="4497"/>
                    </a:lnTo>
                    <a:lnTo>
                      <a:pt x="2434" y="4890"/>
                    </a:lnTo>
                    <a:lnTo>
                      <a:pt x="2528" y="5223"/>
                    </a:lnTo>
                    <a:lnTo>
                      <a:pt x="2391" y="5149"/>
                    </a:lnTo>
                    <a:lnTo>
                      <a:pt x="2365" y="4952"/>
                    </a:lnTo>
                    <a:lnTo>
                      <a:pt x="2185" y="4829"/>
                    </a:lnTo>
                    <a:lnTo>
                      <a:pt x="2288" y="4755"/>
                    </a:lnTo>
                    <a:lnTo>
                      <a:pt x="2048" y="4546"/>
                    </a:lnTo>
                    <a:lnTo>
                      <a:pt x="2143" y="4423"/>
                    </a:lnTo>
                    <a:lnTo>
                      <a:pt x="2057" y="4178"/>
                    </a:lnTo>
                    <a:lnTo>
                      <a:pt x="1766" y="3662"/>
                    </a:lnTo>
                    <a:lnTo>
                      <a:pt x="1731" y="3367"/>
                    </a:lnTo>
                    <a:lnTo>
                      <a:pt x="1748" y="3146"/>
                    </a:lnTo>
                    <a:lnTo>
                      <a:pt x="1825" y="2900"/>
                    </a:lnTo>
                    <a:lnTo>
                      <a:pt x="1825" y="2654"/>
                    </a:lnTo>
                    <a:lnTo>
                      <a:pt x="1766" y="2507"/>
                    </a:lnTo>
                    <a:lnTo>
                      <a:pt x="1928" y="2458"/>
                    </a:lnTo>
                    <a:lnTo>
                      <a:pt x="1731" y="2163"/>
                    </a:lnTo>
                    <a:lnTo>
                      <a:pt x="1740" y="2028"/>
                    </a:lnTo>
                    <a:lnTo>
                      <a:pt x="1654" y="1843"/>
                    </a:lnTo>
                    <a:lnTo>
                      <a:pt x="1688" y="1733"/>
                    </a:lnTo>
                    <a:lnTo>
                      <a:pt x="1628" y="1670"/>
                    </a:lnTo>
                    <a:lnTo>
                      <a:pt x="1620" y="1547"/>
                    </a:lnTo>
                    <a:lnTo>
                      <a:pt x="1560" y="1449"/>
                    </a:lnTo>
                    <a:lnTo>
                      <a:pt x="1628" y="1363"/>
                    </a:lnTo>
                    <a:lnTo>
                      <a:pt x="1534" y="1302"/>
                    </a:lnTo>
                    <a:lnTo>
                      <a:pt x="1457" y="1388"/>
                    </a:lnTo>
                    <a:lnTo>
                      <a:pt x="1345" y="1216"/>
                    </a:lnTo>
                    <a:lnTo>
                      <a:pt x="1225" y="1167"/>
                    </a:lnTo>
                    <a:lnTo>
                      <a:pt x="1053" y="1167"/>
                    </a:lnTo>
                    <a:lnTo>
                      <a:pt x="942" y="1326"/>
                    </a:lnTo>
                    <a:lnTo>
                      <a:pt x="891" y="1277"/>
                    </a:lnTo>
                    <a:lnTo>
                      <a:pt x="985" y="1068"/>
                    </a:lnTo>
                    <a:lnTo>
                      <a:pt x="899" y="1105"/>
                    </a:lnTo>
                    <a:lnTo>
                      <a:pt x="728" y="1326"/>
                    </a:lnTo>
                    <a:lnTo>
                      <a:pt x="548" y="1523"/>
                    </a:lnTo>
                    <a:lnTo>
                      <a:pt x="385" y="1572"/>
                    </a:lnTo>
                    <a:lnTo>
                      <a:pt x="111" y="1770"/>
                    </a:lnTo>
                    <a:lnTo>
                      <a:pt x="0" y="1757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79680" cy="646560"/>
              </a:xfrm>
              <a:custGeom>
                <a:avLst/>
                <a:gdLst/>
                <a:ahLst/>
                <a:rect l="0" t="0" r="r" b="b"/>
                <a:pathLst>
                  <a:path w="1888" h="1796">
                    <a:moveTo>
                      <a:pt x="0" y="368"/>
                    </a:moveTo>
                    <a:lnTo>
                      <a:pt x="42" y="233"/>
                    </a:lnTo>
                    <a:lnTo>
                      <a:pt x="42" y="135"/>
                    </a:lnTo>
                    <a:lnTo>
                      <a:pt x="111" y="0"/>
                    </a:lnTo>
                    <a:lnTo>
                      <a:pt x="452" y="86"/>
                    </a:lnTo>
                    <a:lnTo>
                      <a:pt x="1042" y="245"/>
                    </a:lnTo>
                    <a:lnTo>
                      <a:pt x="1273" y="381"/>
                    </a:lnTo>
                    <a:lnTo>
                      <a:pt x="1580" y="505"/>
                    </a:lnTo>
                    <a:lnTo>
                      <a:pt x="1734" y="738"/>
                    </a:lnTo>
                    <a:lnTo>
                      <a:pt x="1888" y="849"/>
                    </a:lnTo>
                    <a:lnTo>
                      <a:pt x="1828" y="935"/>
                    </a:lnTo>
                    <a:lnTo>
                      <a:pt x="1828" y="1045"/>
                    </a:lnTo>
                    <a:lnTo>
                      <a:pt x="1768" y="1070"/>
                    </a:lnTo>
                    <a:lnTo>
                      <a:pt x="1717" y="1168"/>
                    </a:lnTo>
                    <a:lnTo>
                      <a:pt x="1768" y="1267"/>
                    </a:lnTo>
                    <a:lnTo>
                      <a:pt x="1760" y="1340"/>
                    </a:lnTo>
                    <a:lnTo>
                      <a:pt x="1700" y="1440"/>
                    </a:lnTo>
                    <a:lnTo>
                      <a:pt x="1709" y="1538"/>
                    </a:lnTo>
                    <a:lnTo>
                      <a:pt x="1811" y="1636"/>
                    </a:lnTo>
                    <a:lnTo>
                      <a:pt x="1820" y="1735"/>
                    </a:lnTo>
                    <a:lnTo>
                      <a:pt x="1794" y="1784"/>
                    </a:lnTo>
                    <a:lnTo>
                      <a:pt x="1691" y="1796"/>
                    </a:lnTo>
                    <a:lnTo>
                      <a:pt x="1615" y="1747"/>
                    </a:lnTo>
                    <a:lnTo>
                      <a:pt x="1529" y="1624"/>
                    </a:lnTo>
                    <a:lnTo>
                      <a:pt x="1495" y="1624"/>
                    </a:lnTo>
                    <a:lnTo>
                      <a:pt x="1452" y="1575"/>
                    </a:lnTo>
                    <a:lnTo>
                      <a:pt x="1410" y="1427"/>
                    </a:lnTo>
                    <a:lnTo>
                      <a:pt x="1358" y="1378"/>
                    </a:lnTo>
                    <a:lnTo>
                      <a:pt x="1247" y="1304"/>
                    </a:lnTo>
                    <a:lnTo>
                      <a:pt x="1153" y="1254"/>
                    </a:lnTo>
                    <a:lnTo>
                      <a:pt x="1017" y="1119"/>
                    </a:lnTo>
                    <a:lnTo>
                      <a:pt x="957" y="1021"/>
                    </a:lnTo>
                    <a:lnTo>
                      <a:pt x="966" y="947"/>
                    </a:lnTo>
                    <a:lnTo>
                      <a:pt x="1025" y="886"/>
                    </a:lnTo>
                    <a:lnTo>
                      <a:pt x="974" y="812"/>
                    </a:lnTo>
                    <a:lnTo>
                      <a:pt x="922" y="849"/>
                    </a:lnTo>
                    <a:lnTo>
                      <a:pt x="836" y="738"/>
                    </a:lnTo>
                    <a:lnTo>
                      <a:pt x="819" y="800"/>
                    </a:lnTo>
                    <a:lnTo>
                      <a:pt x="742" y="800"/>
                    </a:lnTo>
                    <a:lnTo>
                      <a:pt x="725" y="750"/>
                    </a:lnTo>
                    <a:lnTo>
                      <a:pt x="725" y="664"/>
                    </a:lnTo>
                    <a:lnTo>
                      <a:pt x="691" y="615"/>
                    </a:lnTo>
                    <a:lnTo>
                      <a:pt x="640" y="627"/>
                    </a:lnTo>
                    <a:lnTo>
                      <a:pt x="572" y="492"/>
                    </a:lnTo>
                    <a:lnTo>
                      <a:pt x="520" y="480"/>
                    </a:lnTo>
                    <a:lnTo>
                      <a:pt x="444" y="417"/>
                    </a:lnTo>
                    <a:lnTo>
                      <a:pt x="281" y="430"/>
                    </a:lnTo>
                    <a:lnTo>
                      <a:pt x="119" y="417"/>
                    </a:lnTo>
                    <a:lnTo>
                      <a:pt x="0" y="368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3800" cy="332280"/>
              </a:xfrm>
              <a:custGeom>
                <a:avLst/>
                <a:gdLst/>
                <a:ahLst/>
                <a:rect l="0" t="0" r="r" b="b"/>
                <a:pathLst>
                  <a:path w="1205" h="923">
                    <a:moveTo>
                      <a:pt x="42" y="0"/>
                    </a:moveTo>
                    <a:lnTo>
                      <a:pt x="0" y="73"/>
                    </a:lnTo>
                    <a:lnTo>
                      <a:pt x="0" y="159"/>
                    </a:lnTo>
                    <a:lnTo>
                      <a:pt x="84" y="246"/>
                    </a:lnTo>
                    <a:lnTo>
                      <a:pt x="135" y="221"/>
                    </a:lnTo>
                    <a:lnTo>
                      <a:pt x="152" y="259"/>
                    </a:lnTo>
                    <a:lnTo>
                      <a:pt x="203" y="271"/>
                    </a:lnTo>
                    <a:lnTo>
                      <a:pt x="237" y="208"/>
                    </a:lnTo>
                    <a:lnTo>
                      <a:pt x="357" y="221"/>
                    </a:lnTo>
                    <a:lnTo>
                      <a:pt x="374" y="283"/>
                    </a:lnTo>
                    <a:lnTo>
                      <a:pt x="416" y="308"/>
                    </a:lnTo>
                    <a:lnTo>
                      <a:pt x="518" y="295"/>
                    </a:lnTo>
                    <a:lnTo>
                      <a:pt x="552" y="332"/>
                    </a:lnTo>
                    <a:lnTo>
                      <a:pt x="602" y="369"/>
                    </a:lnTo>
                    <a:lnTo>
                      <a:pt x="645" y="443"/>
                    </a:lnTo>
                    <a:lnTo>
                      <a:pt x="645" y="541"/>
                    </a:lnTo>
                    <a:lnTo>
                      <a:pt x="611" y="566"/>
                    </a:lnTo>
                    <a:lnTo>
                      <a:pt x="628" y="603"/>
                    </a:lnTo>
                    <a:lnTo>
                      <a:pt x="577" y="664"/>
                    </a:lnTo>
                    <a:lnTo>
                      <a:pt x="577" y="751"/>
                    </a:lnTo>
                    <a:lnTo>
                      <a:pt x="653" y="763"/>
                    </a:lnTo>
                    <a:lnTo>
                      <a:pt x="696" y="739"/>
                    </a:lnTo>
                    <a:lnTo>
                      <a:pt x="713" y="702"/>
                    </a:lnTo>
                    <a:lnTo>
                      <a:pt x="738" y="739"/>
                    </a:lnTo>
                    <a:lnTo>
                      <a:pt x="780" y="714"/>
                    </a:lnTo>
                    <a:lnTo>
                      <a:pt x="874" y="763"/>
                    </a:lnTo>
                    <a:lnTo>
                      <a:pt x="934" y="849"/>
                    </a:lnTo>
                    <a:lnTo>
                      <a:pt x="951" y="849"/>
                    </a:lnTo>
                    <a:lnTo>
                      <a:pt x="959" y="899"/>
                    </a:lnTo>
                    <a:lnTo>
                      <a:pt x="1019" y="923"/>
                    </a:lnTo>
                    <a:lnTo>
                      <a:pt x="1087" y="923"/>
                    </a:lnTo>
                    <a:lnTo>
                      <a:pt x="1044" y="874"/>
                    </a:lnTo>
                    <a:lnTo>
                      <a:pt x="1061" y="825"/>
                    </a:lnTo>
                    <a:lnTo>
                      <a:pt x="1112" y="874"/>
                    </a:lnTo>
                    <a:lnTo>
                      <a:pt x="1171" y="886"/>
                    </a:lnTo>
                    <a:lnTo>
                      <a:pt x="1180" y="813"/>
                    </a:lnTo>
                    <a:lnTo>
                      <a:pt x="1121" y="751"/>
                    </a:lnTo>
                    <a:lnTo>
                      <a:pt x="1078" y="751"/>
                    </a:lnTo>
                    <a:lnTo>
                      <a:pt x="1019" y="689"/>
                    </a:lnTo>
                    <a:lnTo>
                      <a:pt x="1078" y="689"/>
                    </a:lnTo>
                    <a:lnTo>
                      <a:pt x="1121" y="727"/>
                    </a:lnTo>
                    <a:lnTo>
                      <a:pt x="1205" y="727"/>
                    </a:lnTo>
                    <a:lnTo>
                      <a:pt x="1188" y="652"/>
                    </a:lnTo>
                    <a:lnTo>
                      <a:pt x="1112" y="578"/>
                    </a:lnTo>
                    <a:lnTo>
                      <a:pt x="1061" y="566"/>
                    </a:lnTo>
                    <a:lnTo>
                      <a:pt x="985" y="480"/>
                    </a:lnTo>
                    <a:lnTo>
                      <a:pt x="891" y="455"/>
                    </a:lnTo>
                    <a:lnTo>
                      <a:pt x="814" y="418"/>
                    </a:lnTo>
                    <a:lnTo>
                      <a:pt x="755" y="308"/>
                    </a:lnTo>
                    <a:lnTo>
                      <a:pt x="713" y="172"/>
                    </a:lnTo>
                    <a:lnTo>
                      <a:pt x="653" y="172"/>
                    </a:lnTo>
                    <a:lnTo>
                      <a:pt x="636" y="135"/>
                    </a:lnTo>
                    <a:lnTo>
                      <a:pt x="602" y="147"/>
                    </a:lnTo>
                    <a:lnTo>
                      <a:pt x="543" y="86"/>
                    </a:lnTo>
                    <a:lnTo>
                      <a:pt x="441" y="61"/>
                    </a:lnTo>
                    <a:lnTo>
                      <a:pt x="399" y="98"/>
                    </a:lnTo>
                    <a:lnTo>
                      <a:pt x="306" y="61"/>
                    </a:lnTo>
                    <a:lnTo>
                      <a:pt x="245" y="61"/>
                    </a:lnTo>
                    <a:lnTo>
                      <a:pt x="220" y="12"/>
                    </a:lnTo>
                    <a:lnTo>
                      <a:pt x="194" y="0"/>
                    </a:lnTo>
                    <a:lnTo>
                      <a:pt x="15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8160" cy="154440"/>
              </a:xfrm>
              <a:custGeom>
                <a:avLst/>
                <a:gdLst/>
                <a:ahLst/>
                <a:rect l="0" t="0" r="r" b="b"/>
                <a:pathLst>
                  <a:path w="856" h="429">
                    <a:moveTo>
                      <a:pt x="0" y="214"/>
                    </a:moveTo>
                    <a:lnTo>
                      <a:pt x="76" y="88"/>
                    </a:lnTo>
                    <a:lnTo>
                      <a:pt x="110" y="88"/>
                    </a:lnTo>
                    <a:lnTo>
                      <a:pt x="169" y="25"/>
                    </a:lnTo>
                    <a:lnTo>
                      <a:pt x="237" y="25"/>
                    </a:lnTo>
                    <a:lnTo>
                      <a:pt x="254" y="12"/>
                    </a:lnTo>
                    <a:lnTo>
                      <a:pt x="279" y="0"/>
                    </a:lnTo>
                    <a:lnTo>
                      <a:pt x="364" y="75"/>
                    </a:lnTo>
                    <a:lnTo>
                      <a:pt x="389" y="126"/>
                    </a:lnTo>
                    <a:lnTo>
                      <a:pt x="406" y="100"/>
                    </a:lnTo>
                    <a:lnTo>
                      <a:pt x="475" y="151"/>
                    </a:lnTo>
                    <a:lnTo>
                      <a:pt x="517" y="151"/>
                    </a:lnTo>
                    <a:lnTo>
                      <a:pt x="551" y="189"/>
                    </a:lnTo>
                    <a:lnTo>
                      <a:pt x="610" y="214"/>
                    </a:lnTo>
                    <a:lnTo>
                      <a:pt x="610" y="277"/>
                    </a:lnTo>
                    <a:lnTo>
                      <a:pt x="720" y="277"/>
                    </a:lnTo>
                    <a:lnTo>
                      <a:pt x="746" y="341"/>
                    </a:lnTo>
                    <a:lnTo>
                      <a:pt x="814" y="341"/>
                    </a:lnTo>
                    <a:lnTo>
                      <a:pt x="856" y="417"/>
                    </a:lnTo>
                    <a:lnTo>
                      <a:pt x="831" y="429"/>
                    </a:lnTo>
                    <a:lnTo>
                      <a:pt x="814" y="404"/>
                    </a:lnTo>
                    <a:lnTo>
                      <a:pt x="805" y="392"/>
                    </a:lnTo>
                    <a:lnTo>
                      <a:pt x="746" y="404"/>
                    </a:lnTo>
                    <a:lnTo>
                      <a:pt x="729" y="417"/>
                    </a:lnTo>
                    <a:lnTo>
                      <a:pt x="678" y="429"/>
                    </a:lnTo>
                    <a:lnTo>
                      <a:pt x="602" y="429"/>
                    </a:lnTo>
                    <a:lnTo>
                      <a:pt x="551" y="429"/>
                    </a:lnTo>
                    <a:lnTo>
                      <a:pt x="551" y="392"/>
                    </a:lnTo>
                    <a:lnTo>
                      <a:pt x="475" y="290"/>
                    </a:lnTo>
                    <a:lnTo>
                      <a:pt x="475" y="227"/>
                    </a:lnTo>
                    <a:lnTo>
                      <a:pt x="389" y="227"/>
                    </a:lnTo>
                    <a:lnTo>
                      <a:pt x="355" y="189"/>
                    </a:lnTo>
                    <a:lnTo>
                      <a:pt x="330" y="227"/>
                    </a:lnTo>
                    <a:lnTo>
                      <a:pt x="304" y="177"/>
                    </a:lnTo>
                    <a:lnTo>
                      <a:pt x="279" y="177"/>
                    </a:lnTo>
                    <a:lnTo>
                      <a:pt x="279" y="114"/>
                    </a:lnTo>
                    <a:lnTo>
                      <a:pt x="254" y="88"/>
                    </a:lnTo>
                    <a:lnTo>
                      <a:pt x="177" y="100"/>
                    </a:lnTo>
                    <a:lnTo>
                      <a:pt x="127" y="177"/>
                    </a:lnTo>
                    <a:lnTo>
                      <a:pt x="67" y="189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3400" cy="130680"/>
              </a:xfrm>
              <a:custGeom>
                <a:avLst/>
                <a:gdLst/>
                <a:ahLst/>
                <a:rect l="0" t="0" r="r" b="b"/>
                <a:pathLst>
                  <a:path w="565" h="363">
                    <a:moveTo>
                      <a:pt x="0" y="276"/>
                    </a:moveTo>
                    <a:lnTo>
                      <a:pt x="52" y="288"/>
                    </a:lnTo>
                    <a:lnTo>
                      <a:pt x="176" y="276"/>
                    </a:lnTo>
                    <a:lnTo>
                      <a:pt x="229" y="351"/>
                    </a:lnTo>
                    <a:lnTo>
                      <a:pt x="300" y="363"/>
                    </a:lnTo>
                    <a:lnTo>
                      <a:pt x="336" y="276"/>
                    </a:lnTo>
                    <a:lnTo>
                      <a:pt x="318" y="250"/>
                    </a:lnTo>
                    <a:lnTo>
                      <a:pt x="353" y="212"/>
                    </a:lnTo>
                    <a:lnTo>
                      <a:pt x="424" y="276"/>
                    </a:lnTo>
                    <a:lnTo>
                      <a:pt x="477" y="276"/>
                    </a:lnTo>
                    <a:lnTo>
                      <a:pt x="477" y="237"/>
                    </a:lnTo>
                    <a:lnTo>
                      <a:pt x="512" y="237"/>
                    </a:lnTo>
                    <a:lnTo>
                      <a:pt x="565" y="175"/>
                    </a:lnTo>
                    <a:lnTo>
                      <a:pt x="530" y="163"/>
                    </a:lnTo>
                    <a:lnTo>
                      <a:pt x="530" y="100"/>
                    </a:lnTo>
                    <a:lnTo>
                      <a:pt x="530" y="49"/>
                    </a:lnTo>
                    <a:lnTo>
                      <a:pt x="450" y="37"/>
                    </a:lnTo>
                    <a:lnTo>
                      <a:pt x="389" y="49"/>
                    </a:lnTo>
                    <a:lnTo>
                      <a:pt x="336" y="49"/>
                    </a:lnTo>
                    <a:lnTo>
                      <a:pt x="255" y="37"/>
                    </a:lnTo>
                    <a:lnTo>
                      <a:pt x="194" y="0"/>
                    </a:lnTo>
                    <a:lnTo>
                      <a:pt x="176" y="37"/>
                    </a:lnTo>
                    <a:lnTo>
                      <a:pt x="167" y="113"/>
                    </a:lnTo>
                    <a:lnTo>
                      <a:pt x="105" y="113"/>
                    </a:lnTo>
                    <a:lnTo>
                      <a:pt x="88" y="175"/>
                    </a:lnTo>
                    <a:lnTo>
                      <a:pt x="52" y="20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1880" cy="2694240"/>
              </a:xfrm>
              <a:custGeom>
                <a:avLst/>
                <a:gdLst/>
                <a:ahLst/>
                <a:rect l="0" t="0" r="r" b="b"/>
                <a:pathLst>
                  <a:path w="3533" h="7484">
                    <a:moveTo>
                      <a:pt x="275" y="332"/>
                    </a:moveTo>
                    <a:lnTo>
                      <a:pt x="317" y="246"/>
                    </a:lnTo>
                    <a:lnTo>
                      <a:pt x="403" y="123"/>
                    </a:lnTo>
                    <a:lnTo>
                      <a:pt x="532" y="49"/>
                    </a:lnTo>
                    <a:lnTo>
                      <a:pt x="601" y="0"/>
                    </a:lnTo>
                    <a:lnTo>
                      <a:pt x="670" y="12"/>
                    </a:lnTo>
                    <a:lnTo>
                      <a:pt x="653" y="73"/>
                    </a:lnTo>
                    <a:lnTo>
                      <a:pt x="575" y="135"/>
                    </a:lnTo>
                    <a:lnTo>
                      <a:pt x="558" y="258"/>
                    </a:lnTo>
                    <a:lnTo>
                      <a:pt x="575" y="356"/>
                    </a:lnTo>
                    <a:lnTo>
                      <a:pt x="644" y="356"/>
                    </a:lnTo>
                    <a:lnTo>
                      <a:pt x="670" y="246"/>
                    </a:lnTo>
                    <a:lnTo>
                      <a:pt x="687" y="135"/>
                    </a:lnTo>
                    <a:lnTo>
                      <a:pt x="730" y="172"/>
                    </a:lnTo>
                    <a:lnTo>
                      <a:pt x="782" y="233"/>
                    </a:lnTo>
                    <a:lnTo>
                      <a:pt x="868" y="209"/>
                    </a:lnTo>
                    <a:lnTo>
                      <a:pt x="919" y="258"/>
                    </a:lnTo>
                    <a:lnTo>
                      <a:pt x="936" y="320"/>
                    </a:lnTo>
                    <a:lnTo>
                      <a:pt x="1065" y="295"/>
                    </a:lnTo>
                    <a:lnTo>
                      <a:pt x="1323" y="258"/>
                    </a:lnTo>
                    <a:lnTo>
                      <a:pt x="1418" y="455"/>
                    </a:lnTo>
                    <a:lnTo>
                      <a:pt x="1581" y="553"/>
                    </a:lnTo>
                    <a:lnTo>
                      <a:pt x="1572" y="640"/>
                    </a:lnTo>
                    <a:lnTo>
                      <a:pt x="1641" y="590"/>
                    </a:lnTo>
                    <a:lnTo>
                      <a:pt x="1718" y="590"/>
                    </a:lnTo>
                    <a:lnTo>
                      <a:pt x="1814" y="676"/>
                    </a:lnTo>
                    <a:lnTo>
                      <a:pt x="1926" y="664"/>
                    </a:lnTo>
                    <a:lnTo>
                      <a:pt x="2020" y="676"/>
                    </a:lnTo>
                    <a:lnTo>
                      <a:pt x="2175" y="836"/>
                    </a:lnTo>
                    <a:lnTo>
                      <a:pt x="2338" y="1033"/>
                    </a:lnTo>
                    <a:lnTo>
                      <a:pt x="2407" y="1255"/>
                    </a:lnTo>
                    <a:lnTo>
                      <a:pt x="2364" y="1427"/>
                    </a:lnTo>
                    <a:lnTo>
                      <a:pt x="2562" y="1489"/>
                    </a:lnTo>
                    <a:lnTo>
                      <a:pt x="2888" y="1575"/>
                    </a:lnTo>
                    <a:lnTo>
                      <a:pt x="3223" y="1673"/>
                    </a:lnTo>
                    <a:lnTo>
                      <a:pt x="3438" y="1870"/>
                    </a:lnTo>
                    <a:lnTo>
                      <a:pt x="3533" y="2055"/>
                    </a:lnTo>
                    <a:lnTo>
                      <a:pt x="3533" y="2289"/>
                    </a:lnTo>
                    <a:lnTo>
                      <a:pt x="3447" y="2498"/>
                    </a:lnTo>
                    <a:lnTo>
                      <a:pt x="3352" y="2609"/>
                    </a:lnTo>
                    <a:lnTo>
                      <a:pt x="3292" y="2683"/>
                    </a:lnTo>
                    <a:lnTo>
                      <a:pt x="3223" y="2830"/>
                    </a:lnTo>
                    <a:lnTo>
                      <a:pt x="3215" y="2966"/>
                    </a:lnTo>
                    <a:lnTo>
                      <a:pt x="3223" y="3138"/>
                    </a:lnTo>
                    <a:lnTo>
                      <a:pt x="3189" y="3310"/>
                    </a:lnTo>
                    <a:lnTo>
                      <a:pt x="3137" y="3347"/>
                    </a:lnTo>
                    <a:lnTo>
                      <a:pt x="3120" y="3446"/>
                    </a:lnTo>
                    <a:lnTo>
                      <a:pt x="3060" y="3520"/>
                    </a:lnTo>
                    <a:lnTo>
                      <a:pt x="3051" y="3606"/>
                    </a:lnTo>
                    <a:lnTo>
                      <a:pt x="2974" y="3704"/>
                    </a:lnTo>
                    <a:lnTo>
                      <a:pt x="2854" y="3878"/>
                    </a:lnTo>
                    <a:lnTo>
                      <a:pt x="2751" y="3927"/>
                    </a:lnTo>
                    <a:lnTo>
                      <a:pt x="2682" y="3914"/>
                    </a:lnTo>
                    <a:lnTo>
                      <a:pt x="2553" y="4001"/>
                    </a:lnTo>
                    <a:lnTo>
                      <a:pt x="2424" y="4198"/>
                    </a:lnTo>
                    <a:lnTo>
                      <a:pt x="2398" y="4271"/>
                    </a:lnTo>
                    <a:lnTo>
                      <a:pt x="2398" y="4370"/>
                    </a:lnTo>
                    <a:lnTo>
                      <a:pt x="2424" y="4481"/>
                    </a:lnTo>
                    <a:lnTo>
                      <a:pt x="2364" y="4591"/>
                    </a:lnTo>
                    <a:lnTo>
                      <a:pt x="2364" y="4678"/>
                    </a:lnTo>
                    <a:lnTo>
                      <a:pt x="2261" y="4776"/>
                    </a:lnTo>
                    <a:lnTo>
                      <a:pt x="2183" y="4850"/>
                    </a:lnTo>
                    <a:lnTo>
                      <a:pt x="2123" y="4961"/>
                    </a:lnTo>
                    <a:lnTo>
                      <a:pt x="2097" y="5071"/>
                    </a:lnTo>
                    <a:lnTo>
                      <a:pt x="2012" y="5207"/>
                    </a:lnTo>
                    <a:lnTo>
                      <a:pt x="1977" y="5182"/>
                    </a:lnTo>
                    <a:lnTo>
                      <a:pt x="1908" y="5182"/>
                    </a:lnTo>
                    <a:lnTo>
                      <a:pt x="1822" y="5231"/>
                    </a:lnTo>
                    <a:lnTo>
                      <a:pt x="1883" y="5293"/>
                    </a:lnTo>
                    <a:lnTo>
                      <a:pt x="1883" y="5416"/>
                    </a:lnTo>
                    <a:lnTo>
                      <a:pt x="1874" y="5515"/>
                    </a:lnTo>
                    <a:lnTo>
                      <a:pt x="1831" y="5588"/>
                    </a:lnTo>
                    <a:lnTo>
                      <a:pt x="1718" y="5601"/>
                    </a:lnTo>
                    <a:lnTo>
                      <a:pt x="1632" y="5638"/>
                    </a:lnTo>
                    <a:lnTo>
                      <a:pt x="1589" y="5711"/>
                    </a:lnTo>
                    <a:lnTo>
                      <a:pt x="1589" y="5835"/>
                    </a:lnTo>
                    <a:lnTo>
                      <a:pt x="1486" y="5847"/>
                    </a:lnTo>
                    <a:lnTo>
                      <a:pt x="1400" y="5835"/>
                    </a:lnTo>
                    <a:lnTo>
                      <a:pt x="1375" y="5884"/>
                    </a:lnTo>
                    <a:lnTo>
                      <a:pt x="1418" y="5933"/>
                    </a:lnTo>
                    <a:lnTo>
                      <a:pt x="1392" y="6118"/>
                    </a:lnTo>
                    <a:lnTo>
                      <a:pt x="1357" y="6278"/>
                    </a:lnTo>
                    <a:lnTo>
                      <a:pt x="1246" y="6278"/>
                    </a:lnTo>
                    <a:lnTo>
                      <a:pt x="1211" y="6339"/>
                    </a:lnTo>
                    <a:lnTo>
                      <a:pt x="1220" y="6462"/>
                    </a:lnTo>
                    <a:lnTo>
                      <a:pt x="1280" y="6462"/>
                    </a:lnTo>
                    <a:lnTo>
                      <a:pt x="1323" y="6536"/>
                    </a:lnTo>
                    <a:lnTo>
                      <a:pt x="1297" y="6659"/>
                    </a:lnTo>
                    <a:lnTo>
                      <a:pt x="1237" y="6671"/>
                    </a:lnTo>
                    <a:lnTo>
                      <a:pt x="1143" y="6721"/>
                    </a:lnTo>
                    <a:lnTo>
                      <a:pt x="1117" y="6819"/>
                    </a:lnTo>
                    <a:lnTo>
                      <a:pt x="1108" y="6967"/>
                    </a:lnTo>
                    <a:lnTo>
                      <a:pt x="1048" y="7041"/>
                    </a:lnTo>
                    <a:lnTo>
                      <a:pt x="1263" y="7287"/>
                    </a:lnTo>
                    <a:lnTo>
                      <a:pt x="1323" y="7410"/>
                    </a:lnTo>
                    <a:lnTo>
                      <a:pt x="1289" y="7484"/>
                    </a:lnTo>
                    <a:lnTo>
                      <a:pt x="1194" y="7435"/>
                    </a:lnTo>
                    <a:lnTo>
                      <a:pt x="1117" y="7336"/>
                    </a:lnTo>
                    <a:lnTo>
                      <a:pt x="1005" y="7262"/>
                    </a:lnTo>
                    <a:lnTo>
                      <a:pt x="902" y="7139"/>
                    </a:lnTo>
                    <a:lnTo>
                      <a:pt x="833" y="6991"/>
                    </a:lnTo>
                    <a:lnTo>
                      <a:pt x="825" y="6868"/>
                    </a:lnTo>
                    <a:lnTo>
                      <a:pt x="842" y="6770"/>
                    </a:lnTo>
                    <a:lnTo>
                      <a:pt x="833" y="5970"/>
                    </a:lnTo>
                    <a:lnTo>
                      <a:pt x="807" y="5835"/>
                    </a:lnTo>
                    <a:lnTo>
                      <a:pt x="730" y="5687"/>
                    </a:lnTo>
                    <a:lnTo>
                      <a:pt x="730" y="5551"/>
                    </a:lnTo>
                    <a:lnTo>
                      <a:pt x="782" y="5391"/>
                    </a:lnTo>
                    <a:lnTo>
                      <a:pt x="825" y="5195"/>
                    </a:lnTo>
                    <a:lnTo>
                      <a:pt x="807" y="4998"/>
                    </a:lnTo>
                    <a:lnTo>
                      <a:pt x="799" y="4911"/>
                    </a:lnTo>
                    <a:lnTo>
                      <a:pt x="790" y="4801"/>
                    </a:lnTo>
                    <a:lnTo>
                      <a:pt x="816" y="4751"/>
                    </a:lnTo>
                    <a:lnTo>
                      <a:pt x="833" y="4530"/>
                    </a:lnTo>
                    <a:lnTo>
                      <a:pt x="816" y="4419"/>
                    </a:lnTo>
                    <a:lnTo>
                      <a:pt x="850" y="4148"/>
                    </a:lnTo>
                    <a:lnTo>
                      <a:pt x="816" y="3914"/>
                    </a:lnTo>
                    <a:lnTo>
                      <a:pt x="842" y="3791"/>
                    </a:lnTo>
                    <a:lnTo>
                      <a:pt x="885" y="3557"/>
                    </a:lnTo>
                    <a:lnTo>
                      <a:pt x="842" y="3409"/>
                    </a:lnTo>
                    <a:lnTo>
                      <a:pt x="756" y="3298"/>
                    </a:lnTo>
                    <a:lnTo>
                      <a:pt x="730" y="3175"/>
                    </a:lnTo>
                    <a:lnTo>
                      <a:pt x="635" y="3064"/>
                    </a:lnTo>
                    <a:lnTo>
                      <a:pt x="532" y="2990"/>
                    </a:lnTo>
                    <a:lnTo>
                      <a:pt x="386" y="2953"/>
                    </a:lnTo>
                    <a:lnTo>
                      <a:pt x="317" y="2793"/>
                    </a:lnTo>
                    <a:lnTo>
                      <a:pt x="223" y="2633"/>
                    </a:lnTo>
                    <a:lnTo>
                      <a:pt x="214" y="2498"/>
                    </a:lnTo>
                    <a:lnTo>
                      <a:pt x="206" y="2375"/>
                    </a:lnTo>
                    <a:lnTo>
                      <a:pt x="180" y="2289"/>
                    </a:lnTo>
                    <a:lnTo>
                      <a:pt x="128" y="2190"/>
                    </a:lnTo>
                    <a:lnTo>
                      <a:pt x="60" y="2141"/>
                    </a:lnTo>
                    <a:lnTo>
                      <a:pt x="8" y="2043"/>
                    </a:lnTo>
                    <a:lnTo>
                      <a:pt x="68" y="1956"/>
                    </a:lnTo>
                    <a:lnTo>
                      <a:pt x="68" y="1747"/>
                    </a:lnTo>
                    <a:lnTo>
                      <a:pt x="34" y="1636"/>
                    </a:lnTo>
                    <a:lnTo>
                      <a:pt x="0" y="1526"/>
                    </a:lnTo>
                    <a:lnTo>
                      <a:pt x="34" y="1366"/>
                    </a:lnTo>
                    <a:lnTo>
                      <a:pt x="171" y="972"/>
                    </a:lnTo>
                    <a:lnTo>
                      <a:pt x="180" y="800"/>
                    </a:lnTo>
                    <a:lnTo>
                      <a:pt x="257" y="615"/>
                    </a:lnTo>
                    <a:lnTo>
                      <a:pt x="257" y="516"/>
                    </a:lnTo>
                    <a:lnTo>
                      <a:pt x="275" y="332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"/>
          <p:cNvSpPr txBox="1"/>
          <p:nvPr/>
        </p:nvSpPr>
        <p:spPr>
          <a:xfrm>
            <a:off x="-52560" y="6670800"/>
            <a:ext cx="1739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Company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38240" y="3733920"/>
            <a:ext cx="702936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, Products &amp; Content 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8920" y="272880"/>
            <a:ext cx="836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tapult: Secure Internet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01640" y="1751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: Connecting to the Internet is a risky proposition in today’s business community, but strongly desired. Dependency on TCP/IP prohibits connectivity for many corpo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: Very difficult problem to solve generically. The more generic, the less secure (e.g., packet fil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Integration of OLE, RPC and Windows Sockets technologies to minimize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423280" y="7920"/>
            <a:ext cx="708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76440" y="1542960"/>
            <a:ext cx="7981920" cy="3714840"/>
          </a:xfrm>
          <a:prstGeom prst="rect">
            <a:avLst/>
          </a:prstGeom>
          <a:solidFill>
            <a:srgbClr val="f7f7f7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77880" y="272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aditional Internet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8720" y="2066760"/>
            <a:ext cx="2733840" cy="2470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7137360" y="2936880"/>
            <a:ext cx="143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70280" y="2913120"/>
            <a:ext cx="1625760" cy="69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3295800"/>
            <a:ext cx="10764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15120" y="3286080"/>
            <a:ext cx="9716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75160" y="3394080"/>
            <a:ext cx="844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Sockets over TCP/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60400" y="5680080"/>
            <a:ext cx="391176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, powerful (as long as you have TCP/IP w/ Internet-compatible addres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latform depend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99080" y="5584680"/>
            <a:ext cx="409248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TCP/IP in the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user-level policy control (e.g., Jeff has FTP, Jane has Gopher ac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ktops effectively on the Internet w/ simple port-based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60240" y="541332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441680" y="5394240"/>
            <a:ext cx="560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423280" y="7920"/>
            <a:ext cx="708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880400" y="4927680"/>
            <a:ext cx="747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477120" y="1542960"/>
            <a:ext cx="2654280" cy="3162240"/>
          </a:xfrm>
          <a:prstGeom prst="rect">
            <a:avLst/>
          </a:prstGeom>
          <a:solidFill>
            <a:srgbClr val="f7f7f7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5400" y="1542960"/>
            <a:ext cx="6324480" cy="3162240"/>
          </a:xfrm>
          <a:prstGeom prst="rect">
            <a:avLst/>
          </a:prstGeom>
          <a:solidFill>
            <a:srgbClr val="f7f7f7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39720" y="272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tapult Internet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76120" y="1714680"/>
            <a:ext cx="2787480" cy="2419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7873920" y="3525840"/>
            <a:ext cx="1257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18240" y="2965320"/>
            <a:ext cx="1501920" cy="69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74760" y="5156280"/>
            <a:ext cx="448164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solution with this flexibility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tentable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ains customers’ infrastructure investment (e.g. IP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erformance, leveraging NT’s caching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components can run locally for traditional or dia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s user-level policy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secure - no native packets are ro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175360" y="5251320"/>
            <a:ext cx="363528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only for Windows 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modification of client software to use the Microsoft O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ed support only for FTP, Gopher,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03040" y="495612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37040" y="4965840"/>
            <a:ext cx="560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736800" y="2546280"/>
            <a:ext cx="1609560" cy="36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.O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76560" y="2724120"/>
            <a:ext cx="62856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91080" y="2905200"/>
            <a:ext cx="1114560" cy="399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3029040"/>
            <a:ext cx="838440" cy="7617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715160" y="3137040"/>
            <a:ext cx="1168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Sockets over TCP/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165560" y="3117960"/>
            <a:ext cx="14382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R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any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13200" y="241308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74760" y="4232160"/>
            <a:ext cx="2593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ny Catapult-compatible view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423280" y="7920"/>
            <a:ext cx="708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556320" y="2641680"/>
            <a:ext cx="1579680" cy="36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3680" y="1546200"/>
            <a:ext cx="747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211720" y="1565280"/>
            <a:ext cx="1216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0" y="27288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rporate Conten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01640" y="1751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d content policy documents for FTP, Gopher and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(hardware) up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high-capacity systems for new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 up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pher and Web added to FTP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285040" y="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272880"/>
            <a:ext cx="9088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opher Access to Knowledge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8760" y="1768320"/>
            <a:ext cx="4552920" cy="1943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16120" y="3206880"/>
            <a:ext cx="3838680" cy="1447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349280" y="4140360"/>
            <a:ext cx="4971960" cy="1943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5165640" y="2035080"/>
            <a:ext cx="3905280" cy="4048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0" y="2506680"/>
            <a:ext cx="412920" cy="42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3811680"/>
            <a:ext cx="412920" cy="42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791240" y="2563920"/>
            <a:ext cx="412920" cy="42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4897440"/>
            <a:ext cx="412920" cy="42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85040" y="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77880" y="272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SDN on 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2560" y="1598760"/>
            <a:ext cx="77724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ach a broader audience with MSDN, more timely communications with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info &amp; existing base of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 for as much as possible/where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ed in MSDN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 updates to increase frequent brow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links to CD content, marke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DN News, technical articles and samples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library of product, developer doc by year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 news server via list server by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85040" y="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77880" y="272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SDN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58840" y="2190600"/>
            <a:ext cx="1038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ML to HTML Filter comple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17840" y="2190600"/>
            <a:ext cx="103824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DN Marketing On-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wnloa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e dem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213680" y="2190600"/>
            <a:ext cx="10382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DN Library goes on-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397160" y="2190600"/>
            <a:ext cx="1038240" cy="822960"/>
            <a:chOff x="1397160" y="2190600"/>
            <a:chExt cx="1038240" cy="822960"/>
          </a:xfrm>
        </p:grpSpPr>
        <p:grpSp>
          <p:nvGrpSpPr>
            <p:cNvPr id="240" name=""/>
            <p:cNvGrpSpPr/>
            <p:nvPr/>
          </p:nvGrpSpPr>
          <p:grpSpPr>
            <a:xfrm>
              <a:off x="1474920" y="2611440"/>
              <a:ext cx="616320" cy="402120"/>
              <a:chOff x="1474920" y="2611440"/>
              <a:chExt cx="616320" cy="4021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1474920" y="2611440"/>
                <a:ext cx="616320" cy="402120"/>
                <a:chOff x="1474920" y="2611440"/>
                <a:chExt cx="616320" cy="4021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474920" y="2611440"/>
                  <a:ext cx="616320" cy="402120"/>
                </a:xfrm>
                <a:custGeom>
                  <a:avLst/>
                  <a:gdLst/>
                  <a:ahLst/>
                  <a:rect l="0" t="0" r="r" b="b"/>
                  <a:pathLst>
                    <a:path w="1712" h="1117">
                      <a:moveTo>
                        <a:pt x="140" y="756"/>
                      </a:moveTo>
                      <a:lnTo>
                        <a:pt x="130" y="763"/>
                      </a:lnTo>
                      <a:lnTo>
                        <a:pt x="126" y="774"/>
                      </a:lnTo>
                      <a:lnTo>
                        <a:pt x="123" y="786"/>
                      </a:lnTo>
                      <a:lnTo>
                        <a:pt x="126" y="799"/>
                      </a:lnTo>
                      <a:lnTo>
                        <a:pt x="130" y="810"/>
                      </a:lnTo>
                      <a:lnTo>
                        <a:pt x="138" y="821"/>
                      </a:lnTo>
                      <a:lnTo>
                        <a:pt x="146" y="828"/>
                      </a:lnTo>
                      <a:lnTo>
                        <a:pt x="159" y="833"/>
                      </a:lnTo>
                      <a:lnTo>
                        <a:pt x="173" y="837"/>
                      </a:lnTo>
                      <a:lnTo>
                        <a:pt x="206" y="849"/>
                      </a:lnTo>
                      <a:lnTo>
                        <a:pt x="256" y="865"/>
                      </a:lnTo>
                      <a:lnTo>
                        <a:pt x="318" y="883"/>
                      </a:lnTo>
                      <a:lnTo>
                        <a:pt x="388" y="906"/>
                      </a:lnTo>
                      <a:lnTo>
                        <a:pt x="472" y="933"/>
                      </a:lnTo>
                      <a:lnTo>
                        <a:pt x="554" y="957"/>
                      </a:lnTo>
                      <a:lnTo>
                        <a:pt x="643" y="987"/>
                      </a:lnTo>
                      <a:lnTo>
                        <a:pt x="730" y="1011"/>
                      </a:lnTo>
                      <a:lnTo>
                        <a:pt x="815" y="1038"/>
                      </a:lnTo>
                      <a:lnTo>
                        <a:pt x="893" y="1061"/>
                      </a:lnTo>
                      <a:lnTo>
                        <a:pt x="966" y="1083"/>
                      </a:lnTo>
                      <a:lnTo>
                        <a:pt x="1030" y="1097"/>
                      </a:lnTo>
                      <a:lnTo>
                        <a:pt x="1077" y="1110"/>
                      </a:lnTo>
                      <a:lnTo>
                        <a:pt x="1112" y="1117"/>
                      </a:lnTo>
                      <a:lnTo>
                        <a:pt x="1127" y="1117"/>
                      </a:lnTo>
                      <a:lnTo>
                        <a:pt x="1137" y="1110"/>
                      </a:lnTo>
                      <a:lnTo>
                        <a:pt x="1151" y="1099"/>
                      </a:lnTo>
                      <a:lnTo>
                        <a:pt x="1170" y="1083"/>
                      </a:lnTo>
                      <a:lnTo>
                        <a:pt x="1193" y="1065"/>
                      </a:lnTo>
                      <a:lnTo>
                        <a:pt x="1218" y="1043"/>
                      </a:lnTo>
                      <a:lnTo>
                        <a:pt x="1247" y="1016"/>
                      </a:lnTo>
                      <a:lnTo>
                        <a:pt x="1275" y="991"/>
                      </a:lnTo>
                      <a:lnTo>
                        <a:pt x="1307" y="962"/>
                      </a:lnTo>
                      <a:lnTo>
                        <a:pt x="1338" y="933"/>
                      </a:lnTo>
                      <a:lnTo>
                        <a:pt x="1369" y="903"/>
                      </a:lnTo>
                      <a:lnTo>
                        <a:pt x="1398" y="872"/>
                      </a:lnTo>
                      <a:lnTo>
                        <a:pt x="1429" y="845"/>
                      </a:lnTo>
                      <a:lnTo>
                        <a:pt x="1454" y="815"/>
                      </a:lnTo>
                      <a:lnTo>
                        <a:pt x="1481" y="788"/>
                      </a:lnTo>
                      <a:lnTo>
                        <a:pt x="1502" y="765"/>
                      </a:lnTo>
                      <a:lnTo>
                        <a:pt x="1516" y="745"/>
                      </a:lnTo>
                      <a:lnTo>
                        <a:pt x="1549" y="707"/>
                      </a:lnTo>
                      <a:lnTo>
                        <a:pt x="1582" y="669"/>
                      </a:lnTo>
                      <a:lnTo>
                        <a:pt x="1619" y="630"/>
                      </a:lnTo>
                      <a:lnTo>
                        <a:pt x="1655" y="592"/>
                      </a:lnTo>
                      <a:lnTo>
                        <a:pt x="1684" y="558"/>
                      </a:lnTo>
                      <a:lnTo>
                        <a:pt x="1704" y="525"/>
                      </a:lnTo>
                      <a:lnTo>
                        <a:pt x="1712" y="495"/>
                      </a:lnTo>
                      <a:lnTo>
                        <a:pt x="1704" y="471"/>
                      </a:lnTo>
                      <a:lnTo>
                        <a:pt x="1692" y="462"/>
                      </a:lnTo>
                      <a:lnTo>
                        <a:pt x="1665" y="446"/>
                      </a:lnTo>
                      <a:lnTo>
                        <a:pt x="1624" y="423"/>
                      </a:lnTo>
                      <a:lnTo>
                        <a:pt x="1572" y="394"/>
                      </a:lnTo>
                      <a:lnTo>
                        <a:pt x="1512" y="358"/>
                      </a:lnTo>
                      <a:lnTo>
                        <a:pt x="1444" y="322"/>
                      </a:lnTo>
                      <a:lnTo>
                        <a:pt x="1372" y="282"/>
                      </a:lnTo>
                      <a:lnTo>
                        <a:pt x="1295" y="240"/>
                      </a:lnTo>
                      <a:lnTo>
                        <a:pt x="1218" y="200"/>
                      </a:lnTo>
                      <a:lnTo>
                        <a:pt x="1145" y="159"/>
                      </a:lnTo>
                      <a:lnTo>
                        <a:pt x="1075" y="121"/>
                      </a:lnTo>
                      <a:lnTo>
                        <a:pt x="1011" y="87"/>
                      </a:lnTo>
                      <a:lnTo>
                        <a:pt x="957" y="58"/>
                      </a:lnTo>
                      <a:lnTo>
                        <a:pt x="914" y="35"/>
                      </a:lnTo>
                      <a:lnTo>
                        <a:pt x="883" y="20"/>
                      </a:lnTo>
                      <a:lnTo>
                        <a:pt x="866" y="11"/>
                      </a:lnTo>
                      <a:lnTo>
                        <a:pt x="854" y="4"/>
                      </a:lnTo>
                      <a:lnTo>
                        <a:pt x="839" y="2"/>
                      </a:lnTo>
                      <a:lnTo>
                        <a:pt x="823" y="0"/>
                      </a:lnTo>
                      <a:lnTo>
                        <a:pt x="808" y="0"/>
                      </a:lnTo>
                      <a:lnTo>
                        <a:pt x="792" y="2"/>
                      </a:lnTo>
                      <a:lnTo>
                        <a:pt x="775" y="8"/>
                      </a:lnTo>
                      <a:lnTo>
                        <a:pt x="759" y="15"/>
                      </a:lnTo>
                      <a:lnTo>
                        <a:pt x="740" y="29"/>
                      </a:lnTo>
                      <a:lnTo>
                        <a:pt x="691" y="67"/>
                      </a:lnTo>
                      <a:lnTo>
                        <a:pt x="639" y="103"/>
                      </a:lnTo>
                      <a:lnTo>
                        <a:pt x="587" y="139"/>
                      </a:lnTo>
                      <a:lnTo>
                        <a:pt x="538" y="175"/>
                      </a:lnTo>
                      <a:lnTo>
                        <a:pt x="486" y="211"/>
                      </a:lnTo>
                      <a:lnTo>
                        <a:pt x="437" y="247"/>
                      </a:lnTo>
                      <a:lnTo>
                        <a:pt x="386" y="284"/>
                      </a:lnTo>
                      <a:lnTo>
                        <a:pt x="338" y="320"/>
                      </a:lnTo>
                      <a:lnTo>
                        <a:pt x="291" y="354"/>
                      </a:lnTo>
                      <a:lnTo>
                        <a:pt x="245" y="387"/>
                      </a:lnTo>
                      <a:lnTo>
                        <a:pt x="202" y="423"/>
                      </a:lnTo>
                      <a:lnTo>
                        <a:pt x="161" y="457"/>
                      </a:lnTo>
                      <a:lnTo>
                        <a:pt x="121" y="491"/>
                      </a:lnTo>
                      <a:lnTo>
                        <a:pt x="84" y="525"/>
                      </a:lnTo>
                      <a:lnTo>
                        <a:pt x="49" y="558"/>
                      </a:lnTo>
                      <a:lnTo>
                        <a:pt x="20" y="592"/>
                      </a:lnTo>
                      <a:lnTo>
                        <a:pt x="4" y="617"/>
                      </a:lnTo>
                      <a:lnTo>
                        <a:pt x="0" y="639"/>
                      </a:lnTo>
                      <a:lnTo>
                        <a:pt x="2" y="662"/>
                      </a:lnTo>
                      <a:lnTo>
                        <a:pt x="12" y="680"/>
                      </a:lnTo>
                      <a:lnTo>
                        <a:pt x="28" y="698"/>
                      </a:lnTo>
                      <a:lnTo>
                        <a:pt x="47" y="714"/>
                      </a:lnTo>
                      <a:lnTo>
                        <a:pt x="70" y="725"/>
                      </a:lnTo>
                      <a:lnTo>
                        <a:pt x="92" y="734"/>
                      </a:lnTo>
                      <a:lnTo>
                        <a:pt x="97" y="736"/>
                      </a:lnTo>
                      <a:lnTo>
                        <a:pt x="101" y="736"/>
                      </a:lnTo>
                      <a:lnTo>
                        <a:pt x="105" y="741"/>
                      </a:lnTo>
                      <a:lnTo>
                        <a:pt x="111" y="743"/>
                      </a:lnTo>
                      <a:lnTo>
                        <a:pt x="117" y="747"/>
                      </a:lnTo>
                      <a:lnTo>
                        <a:pt x="126" y="750"/>
                      </a:lnTo>
                      <a:lnTo>
                        <a:pt x="132" y="752"/>
                      </a:lnTo>
                      <a:lnTo>
                        <a:pt x="140" y="756"/>
                      </a:lnTo>
                      <a:close/>
                    </a:path>
                  </a:pathLst>
                </a:custGeom>
                <a:solidFill>
                  <a:srgbClr val="ebebe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523880" y="2787480"/>
                  <a:ext cx="540000" cy="203400"/>
                </a:xfrm>
                <a:custGeom>
                  <a:avLst/>
                  <a:gdLst/>
                  <a:ahLst/>
                  <a:rect l="0" t="0" r="r" b="b"/>
                  <a:pathLst>
                    <a:path fill="none" w="1500" h="565">
                      <a:moveTo>
                        <a:pt x="1500" y="0"/>
                      </a:moveTo>
                      <a:lnTo>
                        <a:pt x="1479" y="9"/>
                      </a:lnTo>
                      <a:lnTo>
                        <a:pt x="1454" y="29"/>
                      </a:lnTo>
                      <a:lnTo>
                        <a:pt x="1423" y="54"/>
                      </a:lnTo>
                      <a:lnTo>
                        <a:pt x="1390" y="83"/>
                      </a:lnTo>
                      <a:lnTo>
                        <a:pt x="1351" y="120"/>
                      </a:lnTo>
                      <a:lnTo>
                        <a:pt x="1310" y="160"/>
                      </a:lnTo>
                      <a:lnTo>
                        <a:pt x="1268" y="204"/>
                      </a:lnTo>
                      <a:lnTo>
                        <a:pt x="1225" y="247"/>
                      </a:lnTo>
                      <a:lnTo>
                        <a:pt x="1181" y="293"/>
                      </a:lnTo>
                      <a:lnTo>
                        <a:pt x="1138" y="341"/>
                      </a:lnTo>
                      <a:lnTo>
                        <a:pt x="1099" y="386"/>
                      </a:lnTo>
                      <a:lnTo>
                        <a:pt x="1061" y="427"/>
                      </a:lnTo>
                      <a:lnTo>
                        <a:pt x="1026" y="470"/>
                      </a:lnTo>
                      <a:lnTo>
                        <a:pt x="995" y="506"/>
                      </a:lnTo>
                      <a:lnTo>
                        <a:pt x="970" y="538"/>
                      </a:lnTo>
                      <a:lnTo>
                        <a:pt x="952" y="565"/>
                      </a:lnTo>
                      <a:lnTo>
                        <a:pt x="906" y="549"/>
                      </a:lnTo>
                      <a:lnTo>
                        <a:pt x="850" y="531"/>
                      </a:lnTo>
                      <a:lnTo>
                        <a:pt x="788" y="508"/>
                      </a:lnTo>
                      <a:lnTo>
                        <a:pt x="717" y="483"/>
                      </a:lnTo>
                      <a:lnTo>
                        <a:pt x="645" y="458"/>
                      </a:lnTo>
                      <a:lnTo>
                        <a:pt x="568" y="433"/>
                      </a:lnTo>
                      <a:lnTo>
                        <a:pt x="490" y="406"/>
                      </a:lnTo>
                      <a:lnTo>
                        <a:pt x="413" y="379"/>
                      </a:lnTo>
                      <a:lnTo>
                        <a:pt x="339" y="354"/>
                      </a:lnTo>
                      <a:lnTo>
                        <a:pt x="264" y="329"/>
                      </a:lnTo>
                      <a:lnTo>
                        <a:pt x="200" y="307"/>
                      </a:lnTo>
                      <a:lnTo>
                        <a:pt x="140" y="286"/>
                      </a:lnTo>
                      <a:lnTo>
                        <a:pt x="86" y="269"/>
                      </a:lnTo>
                      <a:lnTo>
                        <a:pt x="47" y="253"/>
                      </a:lnTo>
                      <a:lnTo>
                        <a:pt x="16" y="244"/>
                      </a:lnTo>
                      <a:lnTo>
                        <a:pt x="0" y="24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490760" y="2766960"/>
                  <a:ext cx="586080" cy="217800"/>
                </a:xfrm>
                <a:custGeom>
                  <a:avLst/>
                  <a:gdLst/>
                  <a:ahLst/>
                  <a:rect l="0" t="0" r="r" b="b"/>
                  <a:pathLst>
                    <a:path fill="none" w="1628" h="605">
                      <a:moveTo>
                        <a:pt x="1058" y="571"/>
                      </a:moveTo>
                      <a:lnTo>
                        <a:pt x="1037" y="562"/>
                      </a:lnTo>
                      <a:lnTo>
                        <a:pt x="1014" y="553"/>
                      </a:lnTo>
                      <a:lnTo>
                        <a:pt x="992" y="539"/>
                      </a:lnTo>
                      <a:lnTo>
                        <a:pt x="965" y="528"/>
                      </a:lnTo>
                      <a:lnTo>
                        <a:pt x="938" y="514"/>
                      </a:lnTo>
                      <a:lnTo>
                        <a:pt x="911" y="501"/>
                      </a:lnTo>
                      <a:lnTo>
                        <a:pt x="880" y="485"/>
                      </a:lnTo>
                      <a:lnTo>
                        <a:pt x="849" y="471"/>
                      </a:lnTo>
                      <a:lnTo>
                        <a:pt x="816" y="455"/>
                      </a:lnTo>
                      <a:lnTo>
                        <a:pt x="782" y="439"/>
                      </a:lnTo>
                      <a:lnTo>
                        <a:pt x="747" y="426"/>
                      </a:lnTo>
                      <a:lnTo>
                        <a:pt x="714" y="410"/>
                      </a:lnTo>
                      <a:lnTo>
                        <a:pt x="679" y="392"/>
                      </a:lnTo>
                      <a:lnTo>
                        <a:pt x="642" y="376"/>
                      </a:lnTo>
                      <a:lnTo>
                        <a:pt x="605" y="360"/>
                      </a:lnTo>
                      <a:lnTo>
                        <a:pt x="569" y="344"/>
                      </a:lnTo>
                      <a:lnTo>
                        <a:pt x="530" y="329"/>
                      </a:lnTo>
                      <a:lnTo>
                        <a:pt x="495" y="313"/>
                      </a:lnTo>
                      <a:lnTo>
                        <a:pt x="456" y="298"/>
                      </a:lnTo>
                      <a:lnTo>
                        <a:pt x="419" y="285"/>
                      </a:lnTo>
                      <a:lnTo>
                        <a:pt x="382" y="269"/>
                      </a:lnTo>
                      <a:lnTo>
                        <a:pt x="344" y="255"/>
                      </a:lnTo>
                      <a:lnTo>
                        <a:pt x="307" y="244"/>
                      </a:lnTo>
                      <a:lnTo>
                        <a:pt x="270" y="233"/>
                      </a:lnTo>
                      <a:lnTo>
                        <a:pt x="237" y="221"/>
                      </a:lnTo>
                      <a:lnTo>
                        <a:pt x="202" y="212"/>
                      </a:lnTo>
                      <a:lnTo>
                        <a:pt x="167" y="203"/>
                      </a:lnTo>
                      <a:lnTo>
                        <a:pt x="134" y="196"/>
                      </a:lnTo>
                      <a:lnTo>
                        <a:pt x="101" y="190"/>
                      </a:lnTo>
                      <a:lnTo>
                        <a:pt x="70" y="187"/>
                      </a:lnTo>
                      <a:lnTo>
                        <a:pt x="39" y="183"/>
                      </a:lnTo>
                      <a:lnTo>
                        <a:pt x="12" y="181"/>
                      </a:lnTo>
                      <a:lnTo>
                        <a:pt x="4" y="187"/>
                      </a:lnTo>
                      <a:lnTo>
                        <a:pt x="0" y="194"/>
                      </a:lnTo>
                      <a:lnTo>
                        <a:pt x="0" y="201"/>
                      </a:lnTo>
                      <a:lnTo>
                        <a:pt x="2" y="210"/>
                      </a:lnTo>
                      <a:lnTo>
                        <a:pt x="6" y="217"/>
                      </a:lnTo>
                      <a:lnTo>
                        <a:pt x="12" y="219"/>
                      </a:lnTo>
                      <a:lnTo>
                        <a:pt x="22" y="224"/>
                      </a:lnTo>
                      <a:lnTo>
                        <a:pt x="33" y="226"/>
                      </a:lnTo>
                      <a:lnTo>
                        <a:pt x="49" y="233"/>
                      </a:lnTo>
                      <a:lnTo>
                        <a:pt x="84" y="244"/>
                      </a:lnTo>
                      <a:lnTo>
                        <a:pt x="134" y="262"/>
                      </a:lnTo>
                      <a:lnTo>
                        <a:pt x="200" y="285"/>
                      </a:lnTo>
                      <a:lnTo>
                        <a:pt x="274" y="313"/>
                      </a:lnTo>
                      <a:lnTo>
                        <a:pt x="357" y="344"/>
                      </a:lnTo>
                      <a:lnTo>
                        <a:pt x="446" y="378"/>
                      </a:lnTo>
                      <a:lnTo>
                        <a:pt x="536" y="412"/>
                      </a:lnTo>
                      <a:lnTo>
                        <a:pt x="627" y="449"/>
                      </a:lnTo>
                      <a:lnTo>
                        <a:pt x="714" y="480"/>
                      </a:lnTo>
                      <a:lnTo>
                        <a:pt x="799" y="512"/>
                      </a:lnTo>
                      <a:lnTo>
                        <a:pt x="874" y="541"/>
                      </a:lnTo>
                      <a:lnTo>
                        <a:pt x="938" y="566"/>
                      </a:lnTo>
                      <a:lnTo>
                        <a:pt x="988" y="584"/>
                      </a:lnTo>
                      <a:lnTo>
                        <a:pt x="1023" y="598"/>
                      </a:lnTo>
                      <a:lnTo>
                        <a:pt x="1039" y="605"/>
                      </a:lnTo>
                      <a:lnTo>
                        <a:pt x="1047" y="589"/>
                      </a:lnTo>
                      <a:lnTo>
                        <a:pt x="1062" y="566"/>
                      </a:lnTo>
                      <a:lnTo>
                        <a:pt x="1085" y="532"/>
                      </a:lnTo>
                      <a:lnTo>
                        <a:pt x="1111" y="494"/>
                      </a:lnTo>
                      <a:lnTo>
                        <a:pt x="1142" y="449"/>
                      </a:lnTo>
                      <a:lnTo>
                        <a:pt x="1180" y="401"/>
                      </a:lnTo>
                      <a:lnTo>
                        <a:pt x="1221" y="351"/>
                      </a:lnTo>
                      <a:lnTo>
                        <a:pt x="1264" y="298"/>
                      </a:lnTo>
                      <a:lnTo>
                        <a:pt x="1308" y="246"/>
                      </a:lnTo>
                      <a:lnTo>
                        <a:pt x="1355" y="194"/>
                      </a:lnTo>
                      <a:lnTo>
                        <a:pt x="1403" y="147"/>
                      </a:lnTo>
                      <a:lnTo>
                        <a:pt x="1450" y="104"/>
                      </a:lnTo>
                      <a:lnTo>
                        <a:pt x="1498" y="65"/>
                      </a:lnTo>
                      <a:lnTo>
                        <a:pt x="1543" y="36"/>
                      </a:lnTo>
                      <a:lnTo>
                        <a:pt x="1586" y="13"/>
                      </a:lnTo>
                      <a:lnTo>
                        <a:pt x="1628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641600" y="2658960"/>
                  <a:ext cx="192600" cy="116280"/>
                </a:xfrm>
                <a:custGeom>
                  <a:avLst/>
                  <a:gdLst/>
                  <a:ahLst/>
                  <a:rect l="0" t="0" r="r" b="b"/>
                  <a:pathLst>
                    <a:path w="535" h="323">
                      <a:moveTo>
                        <a:pt x="247" y="0"/>
                      </a:moveTo>
                      <a:lnTo>
                        <a:pt x="0" y="177"/>
                      </a:lnTo>
                      <a:lnTo>
                        <a:pt x="313" y="323"/>
                      </a:lnTo>
                      <a:lnTo>
                        <a:pt x="331" y="305"/>
                      </a:lnTo>
                      <a:lnTo>
                        <a:pt x="361" y="280"/>
                      </a:lnTo>
                      <a:lnTo>
                        <a:pt x="397" y="251"/>
                      </a:lnTo>
                      <a:lnTo>
                        <a:pt x="436" y="219"/>
                      </a:lnTo>
                      <a:lnTo>
                        <a:pt x="471" y="192"/>
                      </a:lnTo>
                      <a:lnTo>
                        <a:pt x="503" y="167"/>
                      </a:lnTo>
                      <a:lnTo>
                        <a:pt x="527" y="150"/>
                      </a:lnTo>
                      <a:lnTo>
                        <a:pt x="535" y="144"/>
                      </a:lnTo>
                      <a:lnTo>
                        <a:pt x="247" y="0"/>
                      </a:lnTo>
                      <a:close/>
                    </a:path>
                  </a:pathLst>
                </a:custGeom>
                <a:solidFill>
                  <a:srgbClr val="c2c2a4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1525680" y="2649600"/>
                <a:ext cx="551160" cy="339840"/>
                <a:chOff x="1525680" y="2649600"/>
                <a:chExt cx="551160" cy="3398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536840" y="2793960"/>
                  <a:ext cx="540000" cy="195480"/>
                </a:xfrm>
                <a:custGeom>
                  <a:avLst/>
                  <a:gdLst/>
                  <a:ahLst/>
                  <a:rect l="0" t="0" r="r" b="b"/>
                  <a:pathLst>
                    <a:path fill="none" w="1500" h="543">
                      <a:moveTo>
                        <a:pt x="1471" y="4"/>
                      </a:moveTo>
                      <a:lnTo>
                        <a:pt x="1481" y="2"/>
                      </a:lnTo>
                      <a:lnTo>
                        <a:pt x="1487" y="0"/>
                      </a:lnTo>
                      <a:lnTo>
                        <a:pt x="1489" y="0"/>
                      </a:lnTo>
                      <a:lnTo>
                        <a:pt x="1492" y="2"/>
                      </a:lnTo>
                      <a:lnTo>
                        <a:pt x="1496" y="4"/>
                      </a:lnTo>
                      <a:lnTo>
                        <a:pt x="1500" y="12"/>
                      </a:lnTo>
                      <a:lnTo>
                        <a:pt x="1498" y="20"/>
                      </a:lnTo>
                      <a:lnTo>
                        <a:pt x="939" y="543"/>
                      </a:lnTo>
                      <a:lnTo>
                        <a:pt x="0" y="262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525680" y="2782800"/>
                  <a:ext cx="330480" cy="135360"/>
                </a:xfrm>
                <a:custGeom>
                  <a:avLst/>
                  <a:gdLst/>
                  <a:ahLst/>
                  <a:rect l="0" t="0" r="r" b="b"/>
                  <a:pathLst>
                    <a:path w="918" h="376">
                      <a:moveTo>
                        <a:pt x="0" y="81"/>
                      </a:moveTo>
                      <a:lnTo>
                        <a:pt x="18" y="83"/>
                      </a:lnTo>
                      <a:lnTo>
                        <a:pt x="50" y="89"/>
                      </a:lnTo>
                      <a:lnTo>
                        <a:pt x="91" y="102"/>
                      </a:lnTo>
                      <a:lnTo>
                        <a:pt x="137" y="116"/>
                      </a:lnTo>
                      <a:lnTo>
                        <a:pt x="194" y="129"/>
                      </a:lnTo>
                      <a:lnTo>
                        <a:pt x="255" y="149"/>
                      </a:lnTo>
                      <a:lnTo>
                        <a:pt x="321" y="168"/>
                      </a:lnTo>
                      <a:lnTo>
                        <a:pt x="388" y="190"/>
                      </a:lnTo>
                      <a:lnTo>
                        <a:pt x="457" y="213"/>
                      </a:lnTo>
                      <a:lnTo>
                        <a:pt x="527" y="237"/>
                      </a:lnTo>
                      <a:lnTo>
                        <a:pt x="592" y="260"/>
                      </a:lnTo>
                      <a:lnTo>
                        <a:pt x="657" y="285"/>
                      </a:lnTo>
                      <a:lnTo>
                        <a:pt x="713" y="310"/>
                      </a:lnTo>
                      <a:lnTo>
                        <a:pt x="766" y="333"/>
                      </a:lnTo>
                      <a:lnTo>
                        <a:pt x="806" y="355"/>
                      </a:lnTo>
                      <a:lnTo>
                        <a:pt x="841" y="376"/>
                      </a:lnTo>
                      <a:lnTo>
                        <a:pt x="847" y="365"/>
                      </a:lnTo>
                      <a:lnTo>
                        <a:pt x="857" y="353"/>
                      </a:lnTo>
                      <a:lnTo>
                        <a:pt x="867" y="339"/>
                      </a:lnTo>
                      <a:lnTo>
                        <a:pt x="877" y="326"/>
                      </a:lnTo>
                      <a:lnTo>
                        <a:pt x="891" y="312"/>
                      </a:lnTo>
                      <a:lnTo>
                        <a:pt x="902" y="302"/>
                      </a:lnTo>
                      <a:lnTo>
                        <a:pt x="912" y="292"/>
                      </a:lnTo>
                      <a:lnTo>
                        <a:pt x="918" y="288"/>
                      </a:lnTo>
                      <a:lnTo>
                        <a:pt x="873" y="266"/>
                      </a:lnTo>
                      <a:lnTo>
                        <a:pt x="823" y="245"/>
                      </a:lnTo>
                      <a:lnTo>
                        <a:pt x="768" y="221"/>
                      </a:lnTo>
                      <a:lnTo>
                        <a:pt x="707" y="198"/>
                      </a:lnTo>
                      <a:lnTo>
                        <a:pt x="644" y="174"/>
                      </a:lnTo>
                      <a:lnTo>
                        <a:pt x="582" y="151"/>
                      </a:lnTo>
                      <a:lnTo>
                        <a:pt x="519" y="127"/>
                      </a:lnTo>
                      <a:lnTo>
                        <a:pt x="453" y="104"/>
                      </a:lnTo>
                      <a:lnTo>
                        <a:pt x="390" y="83"/>
                      </a:lnTo>
                      <a:lnTo>
                        <a:pt x="334" y="64"/>
                      </a:lnTo>
                      <a:lnTo>
                        <a:pt x="279" y="44"/>
                      </a:lnTo>
                      <a:lnTo>
                        <a:pt x="230" y="31"/>
                      </a:lnTo>
                      <a:lnTo>
                        <a:pt x="186" y="19"/>
                      </a:lnTo>
                      <a:lnTo>
                        <a:pt x="151" y="9"/>
                      </a:lnTo>
                      <a:lnTo>
                        <a:pt x="125" y="3"/>
                      </a:lnTo>
                      <a:lnTo>
                        <a:pt x="109" y="0"/>
                      </a:lnTo>
                      <a:lnTo>
                        <a:pt x="95" y="9"/>
                      </a:lnTo>
                      <a:lnTo>
                        <a:pt x="78" y="19"/>
                      </a:lnTo>
                      <a:lnTo>
                        <a:pt x="64" y="33"/>
                      </a:lnTo>
                      <a:lnTo>
                        <a:pt x="48" y="44"/>
                      </a:lnTo>
                      <a:lnTo>
                        <a:pt x="34" y="56"/>
                      </a:lnTo>
                      <a:lnTo>
                        <a:pt x="20" y="66"/>
                      </a:lnTo>
                      <a:lnTo>
                        <a:pt x="10" y="76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00348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95520" y="2763720"/>
                  <a:ext cx="128880" cy="46440"/>
                </a:xfrm>
                <a:custGeom>
                  <a:avLst/>
                  <a:gdLst/>
                  <a:ahLst/>
                  <a:rect l="0" t="0" r="r" b="b"/>
                  <a:pathLst>
                    <a:path fill="none" w="358" h="12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8" y="4"/>
                      </a:lnTo>
                      <a:lnTo>
                        <a:pt x="30" y="8"/>
                      </a:lnTo>
                      <a:lnTo>
                        <a:pt x="47" y="12"/>
                      </a:lnTo>
                      <a:lnTo>
                        <a:pt x="64" y="20"/>
                      </a:lnTo>
                      <a:lnTo>
                        <a:pt x="82" y="26"/>
                      </a:lnTo>
                      <a:lnTo>
                        <a:pt x="105" y="36"/>
                      </a:lnTo>
                      <a:lnTo>
                        <a:pt x="130" y="44"/>
                      </a:lnTo>
                      <a:lnTo>
                        <a:pt x="152" y="54"/>
                      </a:lnTo>
                      <a:lnTo>
                        <a:pt x="180" y="62"/>
                      </a:lnTo>
                      <a:lnTo>
                        <a:pt x="207" y="73"/>
                      </a:lnTo>
                      <a:lnTo>
                        <a:pt x="236" y="83"/>
                      </a:lnTo>
                      <a:lnTo>
                        <a:pt x="267" y="95"/>
                      </a:lnTo>
                      <a:lnTo>
                        <a:pt x="296" y="107"/>
                      </a:lnTo>
                      <a:lnTo>
                        <a:pt x="327" y="119"/>
                      </a:lnTo>
                      <a:lnTo>
                        <a:pt x="358" y="129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47800" y="2819520"/>
                  <a:ext cx="125640" cy="52920"/>
                </a:xfrm>
                <a:custGeom>
                  <a:avLst/>
                  <a:gdLst/>
                  <a:ahLst/>
                  <a:rect l="0" t="0" r="r" b="b"/>
                  <a:pathLst>
                    <a:path fill="none" w="349" h="147">
                      <a:moveTo>
                        <a:pt x="0" y="0"/>
                      </a:moveTo>
                      <a:lnTo>
                        <a:pt x="30" y="12"/>
                      </a:lnTo>
                      <a:lnTo>
                        <a:pt x="61" y="22"/>
                      </a:lnTo>
                      <a:lnTo>
                        <a:pt x="90" y="34"/>
                      </a:lnTo>
                      <a:lnTo>
                        <a:pt x="121" y="48"/>
                      </a:lnTo>
                      <a:lnTo>
                        <a:pt x="150" y="60"/>
                      </a:lnTo>
                      <a:lnTo>
                        <a:pt x="178" y="70"/>
                      </a:lnTo>
                      <a:lnTo>
                        <a:pt x="205" y="80"/>
                      </a:lnTo>
                      <a:lnTo>
                        <a:pt x="227" y="91"/>
                      </a:lnTo>
                      <a:lnTo>
                        <a:pt x="252" y="101"/>
                      </a:lnTo>
                      <a:lnTo>
                        <a:pt x="273" y="109"/>
                      </a:lnTo>
                      <a:lnTo>
                        <a:pt x="291" y="118"/>
                      </a:lnTo>
                      <a:lnTo>
                        <a:pt x="308" y="127"/>
                      </a:lnTo>
                      <a:lnTo>
                        <a:pt x="322" y="133"/>
                      </a:lnTo>
                      <a:lnTo>
                        <a:pt x="334" y="139"/>
                      </a:lnTo>
                      <a:lnTo>
                        <a:pt x="343" y="145"/>
                      </a:lnTo>
                      <a:lnTo>
                        <a:pt x="349" y="147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616040" y="2746440"/>
                  <a:ext cx="124200" cy="47880"/>
                </a:xfrm>
                <a:custGeom>
                  <a:avLst/>
                  <a:gdLst/>
                  <a:ahLst/>
                  <a:rect l="0" t="0" r="r" b="b"/>
                  <a:pathLst>
                    <a:path fill="none" w="345" h="133">
                      <a:moveTo>
                        <a:pt x="0" y="0"/>
                      </a:moveTo>
                      <a:lnTo>
                        <a:pt x="6" y="4"/>
                      </a:lnTo>
                      <a:lnTo>
                        <a:pt x="18" y="8"/>
                      </a:lnTo>
                      <a:lnTo>
                        <a:pt x="29" y="12"/>
                      </a:lnTo>
                      <a:lnTo>
                        <a:pt x="45" y="18"/>
                      </a:lnTo>
                      <a:lnTo>
                        <a:pt x="60" y="24"/>
                      </a:lnTo>
                      <a:lnTo>
                        <a:pt x="78" y="33"/>
                      </a:lnTo>
                      <a:lnTo>
                        <a:pt x="100" y="39"/>
                      </a:lnTo>
                      <a:lnTo>
                        <a:pt x="123" y="47"/>
                      </a:lnTo>
                      <a:lnTo>
                        <a:pt x="148" y="57"/>
                      </a:lnTo>
                      <a:lnTo>
                        <a:pt x="172" y="69"/>
                      </a:lnTo>
                      <a:lnTo>
                        <a:pt x="199" y="77"/>
                      </a:lnTo>
                      <a:lnTo>
                        <a:pt x="226" y="89"/>
                      </a:lnTo>
                      <a:lnTo>
                        <a:pt x="255" y="100"/>
                      </a:lnTo>
                      <a:lnTo>
                        <a:pt x="285" y="110"/>
                      </a:lnTo>
                      <a:lnTo>
                        <a:pt x="314" y="122"/>
                      </a:lnTo>
                      <a:lnTo>
                        <a:pt x="345" y="133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65440" y="2803680"/>
                  <a:ext cx="125640" cy="54360"/>
                </a:xfrm>
                <a:custGeom>
                  <a:avLst/>
                  <a:gdLst/>
                  <a:ahLst/>
                  <a:rect l="0" t="0" r="r" b="b"/>
                  <a:pathLst>
                    <a:path fill="none" w="349" h="151">
                      <a:moveTo>
                        <a:pt x="0" y="0"/>
                      </a:moveTo>
                      <a:lnTo>
                        <a:pt x="28" y="12"/>
                      </a:lnTo>
                      <a:lnTo>
                        <a:pt x="59" y="24"/>
                      </a:lnTo>
                      <a:lnTo>
                        <a:pt x="90" y="37"/>
                      </a:lnTo>
                      <a:lnTo>
                        <a:pt x="119" y="48"/>
                      </a:lnTo>
                      <a:lnTo>
                        <a:pt x="148" y="59"/>
                      </a:lnTo>
                      <a:lnTo>
                        <a:pt x="176" y="71"/>
                      </a:lnTo>
                      <a:lnTo>
                        <a:pt x="203" y="82"/>
                      </a:lnTo>
                      <a:lnTo>
                        <a:pt x="225" y="92"/>
                      </a:lnTo>
                      <a:lnTo>
                        <a:pt x="250" y="103"/>
                      </a:lnTo>
                      <a:lnTo>
                        <a:pt x="271" y="111"/>
                      </a:lnTo>
                      <a:lnTo>
                        <a:pt x="289" y="122"/>
                      </a:lnTo>
                      <a:lnTo>
                        <a:pt x="306" y="129"/>
                      </a:lnTo>
                      <a:lnTo>
                        <a:pt x="320" y="135"/>
                      </a:lnTo>
                      <a:lnTo>
                        <a:pt x="332" y="143"/>
                      </a:lnTo>
                      <a:lnTo>
                        <a:pt x="343" y="147"/>
                      </a:lnTo>
                      <a:lnTo>
                        <a:pt x="349" y="151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782720" y="2789280"/>
                  <a:ext cx="124200" cy="52920"/>
                </a:xfrm>
                <a:custGeom>
                  <a:avLst/>
                  <a:gdLst/>
                  <a:ahLst/>
                  <a:rect l="0" t="0" r="r" b="b"/>
                  <a:pathLst>
                    <a:path fill="none" w="345" h="147">
                      <a:moveTo>
                        <a:pt x="0" y="0"/>
                      </a:moveTo>
                      <a:lnTo>
                        <a:pt x="18" y="6"/>
                      </a:lnTo>
                      <a:lnTo>
                        <a:pt x="39" y="16"/>
                      </a:lnTo>
                      <a:lnTo>
                        <a:pt x="61" y="24"/>
                      </a:lnTo>
                      <a:lnTo>
                        <a:pt x="87" y="34"/>
                      </a:lnTo>
                      <a:lnTo>
                        <a:pt x="114" y="45"/>
                      </a:lnTo>
                      <a:lnTo>
                        <a:pt x="141" y="55"/>
                      </a:lnTo>
                      <a:lnTo>
                        <a:pt x="167" y="65"/>
                      </a:lnTo>
                      <a:lnTo>
                        <a:pt x="194" y="77"/>
                      </a:lnTo>
                      <a:lnTo>
                        <a:pt x="219" y="87"/>
                      </a:lnTo>
                      <a:lnTo>
                        <a:pt x="244" y="98"/>
                      </a:lnTo>
                      <a:lnTo>
                        <a:pt x="267" y="108"/>
                      </a:lnTo>
                      <a:lnTo>
                        <a:pt x="290" y="119"/>
                      </a:lnTo>
                      <a:lnTo>
                        <a:pt x="308" y="127"/>
                      </a:lnTo>
                      <a:lnTo>
                        <a:pt x="325" y="135"/>
                      </a:lnTo>
                      <a:lnTo>
                        <a:pt x="337" y="141"/>
                      </a:lnTo>
                      <a:lnTo>
                        <a:pt x="345" y="147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801800" y="2773440"/>
                  <a:ext cx="122760" cy="52920"/>
                </a:xfrm>
                <a:custGeom>
                  <a:avLst/>
                  <a:gdLst/>
                  <a:ahLst/>
                  <a:rect l="0" t="0" r="r" b="b"/>
                  <a:pathLst>
                    <a:path fill="none" w="341" h="147">
                      <a:moveTo>
                        <a:pt x="0" y="0"/>
                      </a:moveTo>
                      <a:lnTo>
                        <a:pt x="18" y="8"/>
                      </a:lnTo>
                      <a:lnTo>
                        <a:pt x="37" y="16"/>
                      </a:lnTo>
                      <a:lnTo>
                        <a:pt x="61" y="26"/>
                      </a:lnTo>
                      <a:lnTo>
                        <a:pt x="84" y="36"/>
                      </a:lnTo>
                      <a:lnTo>
                        <a:pt x="112" y="48"/>
                      </a:lnTo>
                      <a:lnTo>
                        <a:pt x="136" y="58"/>
                      </a:lnTo>
                      <a:lnTo>
                        <a:pt x="161" y="68"/>
                      </a:lnTo>
                      <a:lnTo>
                        <a:pt x="188" y="80"/>
                      </a:lnTo>
                      <a:lnTo>
                        <a:pt x="212" y="91"/>
                      </a:lnTo>
                      <a:lnTo>
                        <a:pt x="237" y="101"/>
                      </a:lnTo>
                      <a:lnTo>
                        <a:pt x="261" y="112"/>
                      </a:lnTo>
                      <a:lnTo>
                        <a:pt x="281" y="122"/>
                      </a:lnTo>
                      <a:lnTo>
                        <a:pt x="302" y="129"/>
                      </a:lnTo>
                      <a:lnTo>
                        <a:pt x="316" y="137"/>
                      </a:lnTo>
                      <a:lnTo>
                        <a:pt x="331" y="143"/>
                      </a:lnTo>
                      <a:lnTo>
                        <a:pt x="341" y="147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825560" y="2755800"/>
                  <a:ext cx="114840" cy="55800"/>
                </a:xfrm>
                <a:custGeom>
                  <a:avLst/>
                  <a:gdLst/>
                  <a:ahLst/>
                  <a:rect l="0" t="0" r="r" b="b"/>
                  <a:pathLst>
                    <a:path fill="none" w="319" h="155">
                      <a:moveTo>
                        <a:pt x="0" y="0"/>
                      </a:moveTo>
                      <a:lnTo>
                        <a:pt x="18" y="6"/>
                      </a:lnTo>
                      <a:lnTo>
                        <a:pt x="39" y="18"/>
                      </a:lnTo>
                      <a:lnTo>
                        <a:pt x="62" y="29"/>
                      </a:lnTo>
                      <a:lnTo>
                        <a:pt x="86" y="41"/>
                      </a:lnTo>
                      <a:lnTo>
                        <a:pt x="110" y="52"/>
                      </a:lnTo>
                      <a:lnTo>
                        <a:pt x="135" y="64"/>
                      </a:lnTo>
                      <a:lnTo>
                        <a:pt x="160" y="78"/>
                      </a:lnTo>
                      <a:lnTo>
                        <a:pt x="183" y="90"/>
                      </a:lnTo>
                      <a:lnTo>
                        <a:pt x="208" y="103"/>
                      </a:lnTo>
                      <a:lnTo>
                        <a:pt x="229" y="113"/>
                      </a:lnTo>
                      <a:lnTo>
                        <a:pt x="251" y="124"/>
                      </a:lnTo>
                      <a:lnTo>
                        <a:pt x="269" y="134"/>
                      </a:lnTo>
                      <a:lnTo>
                        <a:pt x="286" y="142"/>
                      </a:lnTo>
                      <a:lnTo>
                        <a:pt x="300" y="149"/>
                      </a:lnTo>
                      <a:lnTo>
                        <a:pt x="313" y="151"/>
                      </a:lnTo>
                      <a:lnTo>
                        <a:pt x="319" y="155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843200" y="2741760"/>
                  <a:ext cx="114840" cy="55800"/>
                </a:xfrm>
                <a:custGeom>
                  <a:avLst/>
                  <a:gdLst/>
                  <a:ahLst/>
                  <a:rect l="0" t="0" r="r" b="b"/>
                  <a:pathLst>
                    <a:path fill="none" w="319" h="155">
                      <a:moveTo>
                        <a:pt x="0" y="0"/>
                      </a:moveTo>
                      <a:lnTo>
                        <a:pt x="18" y="10"/>
                      </a:lnTo>
                      <a:lnTo>
                        <a:pt x="39" y="18"/>
                      </a:lnTo>
                      <a:lnTo>
                        <a:pt x="62" y="30"/>
                      </a:lnTo>
                      <a:lnTo>
                        <a:pt x="86" y="41"/>
                      </a:lnTo>
                      <a:lnTo>
                        <a:pt x="110" y="51"/>
                      </a:lnTo>
                      <a:lnTo>
                        <a:pt x="133" y="63"/>
                      </a:lnTo>
                      <a:lnTo>
                        <a:pt x="158" y="74"/>
                      </a:lnTo>
                      <a:lnTo>
                        <a:pt x="181" y="85"/>
                      </a:lnTo>
                      <a:lnTo>
                        <a:pt x="204" y="95"/>
                      </a:lnTo>
                      <a:lnTo>
                        <a:pt x="227" y="108"/>
                      </a:lnTo>
                      <a:lnTo>
                        <a:pt x="246" y="116"/>
                      </a:lnTo>
                      <a:lnTo>
                        <a:pt x="267" y="126"/>
                      </a:lnTo>
                      <a:lnTo>
                        <a:pt x="282" y="134"/>
                      </a:lnTo>
                      <a:lnTo>
                        <a:pt x="296" y="140"/>
                      </a:lnTo>
                      <a:lnTo>
                        <a:pt x="309" y="149"/>
                      </a:lnTo>
                      <a:lnTo>
                        <a:pt x="319" y="155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863720" y="2727360"/>
                  <a:ext cx="114840" cy="55800"/>
                </a:xfrm>
                <a:custGeom>
                  <a:avLst/>
                  <a:gdLst/>
                  <a:ahLst/>
                  <a:rect l="0" t="0" r="r" b="b"/>
                  <a:pathLst>
                    <a:path fill="none" w="319" h="155">
                      <a:moveTo>
                        <a:pt x="0" y="0"/>
                      </a:moveTo>
                      <a:lnTo>
                        <a:pt x="20" y="10"/>
                      </a:lnTo>
                      <a:lnTo>
                        <a:pt x="43" y="20"/>
                      </a:lnTo>
                      <a:lnTo>
                        <a:pt x="66" y="30"/>
                      </a:lnTo>
                      <a:lnTo>
                        <a:pt x="92" y="41"/>
                      </a:lnTo>
                      <a:lnTo>
                        <a:pt x="117" y="53"/>
                      </a:lnTo>
                      <a:lnTo>
                        <a:pt x="140" y="65"/>
                      </a:lnTo>
                      <a:lnTo>
                        <a:pt x="164" y="76"/>
                      </a:lnTo>
                      <a:lnTo>
                        <a:pt x="187" y="87"/>
                      </a:lnTo>
                      <a:lnTo>
                        <a:pt x="210" y="99"/>
                      </a:lnTo>
                      <a:lnTo>
                        <a:pt x="231" y="110"/>
                      </a:lnTo>
                      <a:lnTo>
                        <a:pt x="253" y="120"/>
                      </a:lnTo>
                      <a:lnTo>
                        <a:pt x="271" y="128"/>
                      </a:lnTo>
                      <a:lnTo>
                        <a:pt x="286" y="136"/>
                      </a:lnTo>
                      <a:lnTo>
                        <a:pt x="300" y="142"/>
                      </a:lnTo>
                      <a:lnTo>
                        <a:pt x="311" y="149"/>
                      </a:lnTo>
                      <a:lnTo>
                        <a:pt x="319" y="155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755720" y="2649600"/>
                  <a:ext cx="106560" cy="51120"/>
                </a:xfrm>
                <a:custGeom>
                  <a:avLst/>
                  <a:gdLst/>
                  <a:ahLst/>
                  <a:rect l="0" t="0" r="r" b="b"/>
                  <a:pathLst>
                    <a:path fill="none" w="296" h="142">
                      <a:moveTo>
                        <a:pt x="0" y="0"/>
                      </a:moveTo>
                      <a:lnTo>
                        <a:pt x="6" y="4"/>
                      </a:lnTo>
                      <a:lnTo>
                        <a:pt x="16" y="6"/>
                      </a:lnTo>
                      <a:lnTo>
                        <a:pt x="24" y="12"/>
                      </a:lnTo>
                      <a:lnTo>
                        <a:pt x="37" y="18"/>
                      </a:lnTo>
                      <a:lnTo>
                        <a:pt x="52" y="24"/>
                      </a:lnTo>
                      <a:lnTo>
                        <a:pt x="70" y="32"/>
                      </a:lnTo>
                      <a:lnTo>
                        <a:pt x="87" y="40"/>
                      </a:lnTo>
                      <a:lnTo>
                        <a:pt x="106" y="49"/>
                      </a:lnTo>
                      <a:lnTo>
                        <a:pt x="126" y="59"/>
                      </a:lnTo>
                      <a:lnTo>
                        <a:pt x="147" y="69"/>
                      </a:lnTo>
                      <a:lnTo>
                        <a:pt x="171" y="80"/>
                      </a:lnTo>
                      <a:lnTo>
                        <a:pt x="196" y="93"/>
                      </a:lnTo>
                      <a:lnTo>
                        <a:pt x="219" y="105"/>
                      </a:lnTo>
                      <a:lnTo>
                        <a:pt x="244" y="117"/>
                      </a:lnTo>
                      <a:lnTo>
                        <a:pt x="271" y="129"/>
                      </a:lnTo>
                      <a:lnTo>
                        <a:pt x="296" y="142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84240" y="2711520"/>
                  <a:ext cx="111600" cy="57600"/>
                </a:xfrm>
                <a:custGeom>
                  <a:avLst/>
                  <a:gdLst/>
                  <a:ahLst/>
                  <a:rect l="0" t="0" r="r" b="b"/>
                  <a:pathLst>
                    <a:path fill="none" w="310" h="160">
                      <a:moveTo>
                        <a:pt x="0" y="0"/>
                      </a:moveTo>
                      <a:lnTo>
                        <a:pt x="26" y="12"/>
                      </a:lnTo>
                      <a:lnTo>
                        <a:pt x="53" y="27"/>
                      </a:lnTo>
                      <a:lnTo>
                        <a:pt x="81" y="39"/>
                      </a:lnTo>
                      <a:lnTo>
                        <a:pt x="110" y="55"/>
                      </a:lnTo>
                      <a:lnTo>
                        <a:pt x="135" y="69"/>
                      </a:lnTo>
                      <a:lnTo>
                        <a:pt x="160" y="80"/>
                      </a:lnTo>
                      <a:lnTo>
                        <a:pt x="185" y="92"/>
                      </a:lnTo>
                      <a:lnTo>
                        <a:pt x="206" y="103"/>
                      </a:lnTo>
                      <a:lnTo>
                        <a:pt x="226" y="115"/>
                      </a:lnTo>
                      <a:lnTo>
                        <a:pt x="246" y="125"/>
                      </a:lnTo>
                      <a:lnTo>
                        <a:pt x="260" y="133"/>
                      </a:lnTo>
                      <a:lnTo>
                        <a:pt x="277" y="141"/>
                      </a:lnTo>
                      <a:lnTo>
                        <a:pt x="287" y="148"/>
                      </a:lnTo>
                      <a:lnTo>
                        <a:pt x="300" y="154"/>
                      </a:lnTo>
                      <a:lnTo>
                        <a:pt x="306" y="158"/>
                      </a:lnTo>
                      <a:lnTo>
                        <a:pt x="310" y="16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0" name=""/>
            <p:cNvSpPr txBox="1"/>
            <p:nvPr/>
          </p:nvSpPr>
          <p:spPr>
            <a:xfrm>
              <a:off x="1397160" y="2190600"/>
              <a:ext cx="1038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SDN New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 We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 txBox="1"/>
          <p:nvPr/>
        </p:nvSpPr>
        <p:spPr>
          <a:xfrm>
            <a:off x="3705120" y="2190600"/>
            <a:ext cx="1038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DN List 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298520" y="3790800"/>
            <a:ext cx="7488360" cy="822240"/>
            <a:chOff x="1298520" y="3790800"/>
            <a:chExt cx="7488360" cy="822240"/>
          </a:xfrm>
        </p:grpSpPr>
        <p:sp>
          <p:nvSpPr>
            <p:cNvPr id="263" name=""/>
            <p:cNvSpPr txBox="1"/>
            <p:nvPr/>
          </p:nvSpPr>
          <p:spPr>
            <a:xfrm>
              <a:off x="1298520" y="3790800"/>
              <a:ext cx="103824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SDN FTP Content Gopheriz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3290760" y="3808440"/>
              <a:ext cx="1604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veloper News Fla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unch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7110360" y="3790800"/>
              <a:ext cx="16765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119160"/>
                  <a:tab algn="l" pos="228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SDN - autho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19160"/>
                  <a:tab algn="l" pos="228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 on We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19160"/>
                  <a:tab algn="l" pos="228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b based view &amp;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cess to CD cont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5657760" y="3790800"/>
              <a:ext cx="1265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SDN tech articles on We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610160" y="2203560"/>
            <a:ext cx="1038240" cy="808560"/>
            <a:chOff x="4610160" y="2203560"/>
            <a:chExt cx="1038240" cy="808560"/>
          </a:xfrm>
        </p:grpSpPr>
        <p:sp>
          <p:nvSpPr>
            <p:cNvPr id="268" name=""/>
            <p:cNvSpPr txBox="1"/>
            <p:nvPr/>
          </p:nvSpPr>
          <p:spPr>
            <a:xfrm>
              <a:off x="4610160" y="2203560"/>
              <a:ext cx="1038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SDN News up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4751280" y="2563920"/>
              <a:ext cx="616320" cy="448200"/>
              <a:chOff x="4751280" y="2563920"/>
              <a:chExt cx="616320" cy="44820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4751280" y="2563920"/>
                <a:ext cx="616320" cy="448200"/>
                <a:chOff x="4751280" y="2563920"/>
                <a:chExt cx="616320" cy="4482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751280" y="2563920"/>
                  <a:ext cx="616320" cy="448200"/>
                </a:xfrm>
                <a:custGeom>
                  <a:avLst/>
                  <a:gdLst/>
                  <a:ahLst/>
                  <a:rect l="0" t="0" r="r" b="b"/>
                  <a:pathLst>
                    <a:path w="1712" h="1245">
                      <a:moveTo>
                        <a:pt x="140" y="843"/>
                      </a:moveTo>
                      <a:lnTo>
                        <a:pt x="130" y="850"/>
                      </a:lnTo>
                      <a:lnTo>
                        <a:pt x="126" y="863"/>
                      </a:lnTo>
                      <a:lnTo>
                        <a:pt x="123" y="875"/>
                      </a:lnTo>
                      <a:lnTo>
                        <a:pt x="126" y="891"/>
                      </a:lnTo>
                      <a:lnTo>
                        <a:pt x="130" y="903"/>
                      </a:lnTo>
                      <a:lnTo>
                        <a:pt x="138" y="916"/>
                      </a:lnTo>
                      <a:lnTo>
                        <a:pt x="146" y="923"/>
                      </a:lnTo>
                      <a:lnTo>
                        <a:pt x="159" y="928"/>
                      </a:lnTo>
                      <a:lnTo>
                        <a:pt x="173" y="933"/>
                      </a:lnTo>
                      <a:lnTo>
                        <a:pt x="206" y="947"/>
                      </a:lnTo>
                      <a:lnTo>
                        <a:pt x="256" y="964"/>
                      </a:lnTo>
                      <a:lnTo>
                        <a:pt x="318" y="984"/>
                      </a:lnTo>
                      <a:lnTo>
                        <a:pt x="388" y="1009"/>
                      </a:lnTo>
                      <a:lnTo>
                        <a:pt x="472" y="1039"/>
                      </a:lnTo>
                      <a:lnTo>
                        <a:pt x="554" y="1067"/>
                      </a:lnTo>
                      <a:lnTo>
                        <a:pt x="643" y="1100"/>
                      </a:lnTo>
                      <a:lnTo>
                        <a:pt x="730" y="1127"/>
                      </a:lnTo>
                      <a:lnTo>
                        <a:pt x="815" y="1157"/>
                      </a:lnTo>
                      <a:lnTo>
                        <a:pt x="893" y="1182"/>
                      </a:lnTo>
                      <a:lnTo>
                        <a:pt x="966" y="1207"/>
                      </a:lnTo>
                      <a:lnTo>
                        <a:pt x="1030" y="1222"/>
                      </a:lnTo>
                      <a:lnTo>
                        <a:pt x="1077" y="1238"/>
                      </a:lnTo>
                      <a:lnTo>
                        <a:pt x="1112" y="1245"/>
                      </a:lnTo>
                      <a:lnTo>
                        <a:pt x="1127" y="1245"/>
                      </a:lnTo>
                      <a:lnTo>
                        <a:pt x="1137" y="1238"/>
                      </a:lnTo>
                      <a:lnTo>
                        <a:pt x="1151" y="1225"/>
                      </a:lnTo>
                      <a:lnTo>
                        <a:pt x="1170" y="1207"/>
                      </a:lnTo>
                      <a:lnTo>
                        <a:pt x="1193" y="1187"/>
                      </a:lnTo>
                      <a:lnTo>
                        <a:pt x="1218" y="1162"/>
                      </a:lnTo>
                      <a:lnTo>
                        <a:pt x="1247" y="1132"/>
                      </a:lnTo>
                      <a:lnTo>
                        <a:pt x="1275" y="1105"/>
                      </a:lnTo>
                      <a:lnTo>
                        <a:pt x="1307" y="1072"/>
                      </a:lnTo>
                      <a:lnTo>
                        <a:pt x="1338" y="1039"/>
                      </a:lnTo>
                      <a:lnTo>
                        <a:pt x="1369" y="1007"/>
                      </a:lnTo>
                      <a:lnTo>
                        <a:pt x="1398" y="972"/>
                      </a:lnTo>
                      <a:lnTo>
                        <a:pt x="1429" y="942"/>
                      </a:lnTo>
                      <a:lnTo>
                        <a:pt x="1454" y="908"/>
                      </a:lnTo>
                      <a:lnTo>
                        <a:pt x="1481" y="878"/>
                      </a:lnTo>
                      <a:lnTo>
                        <a:pt x="1502" y="853"/>
                      </a:lnTo>
                      <a:lnTo>
                        <a:pt x="1516" y="830"/>
                      </a:lnTo>
                      <a:lnTo>
                        <a:pt x="1549" y="788"/>
                      </a:lnTo>
                      <a:lnTo>
                        <a:pt x="1582" y="745"/>
                      </a:lnTo>
                      <a:lnTo>
                        <a:pt x="1619" y="702"/>
                      </a:lnTo>
                      <a:lnTo>
                        <a:pt x="1655" y="660"/>
                      </a:lnTo>
                      <a:lnTo>
                        <a:pt x="1684" y="622"/>
                      </a:lnTo>
                      <a:lnTo>
                        <a:pt x="1704" y="585"/>
                      </a:lnTo>
                      <a:lnTo>
                        <a:pt x="1712" y="552"/>
                      </a:lnTo>
                      <a:lnTo>
                        <a:pt x="1704" y="524"/>
                      </a:lnTo>
                      <a:lnTo>
                        <a:pt x="1692" y="514"/>
                      </a:lnTo>
                      <a:lnTo>
                        <a:pt x="1665" y="497"/>
                      </a:lnTo>
                      <a:lnTo>
                        <a:pt x="1624" y="472"/>
                      </a:lnTo>
                      <a:lnTo>
                        <a:pt x="1572" y="439"/>
                      </a:lnTo>
                      <a:lnTo>
                        <a:pt x="1512" y="399"/>
                      </a:lnTo>
                      <a:lnTo>
                        <a:pt x="1444" y="359"/>
                      </a:lnTo>
                      <a:lnTo>
                        <a:pt x="1372" y="314"/>
                      </a:lnTo>
                      <a:lnTo>
                        <a:pt x="1295" y="268"/>
                      </a:lnTo>
                      <a:lnTo>
                        <a:pt x="1218" y="223"/>
                      </a:lnTo>
                      <a:lnTo>
                        <a:pt x="1145" y="178"/>
                      </a:lnTo>
                      <a:lnTo>
                        <a:pt x="1075" y="135"/>
                      </a:lnTo>
                      <a:lnTo>
                        <a:pt x="1011" y="97"/>
                      </a:lnTo>
                      <a:lnTo>
                        <a:pt x="957" y="65"/>
                      </a:lnTo>
                      <a:lnTo>
                        <a:pt x="914" y="40"/>
                      </a:lnTo>
                      <a:lnTo>
                        <a:pt x="883" y="22"/>
                      </a:lnTo>
                      <a:lnTo>
                        <a:pt x="866" y="12"/>
                      </a:lnTo>
                      <a:lnTo>
                        <a:pt x="854" y="5"/>
                      </a:lnTo>
                      <a:lnTo>
                        <a:pt x="839" y="2"/>
                      </a:lnTo>
                      <a:lnTo>
                        <a:pt x="823" y="0"/>
                      </a:lnTo>
                      <a:lnTo>
                        <a:pt x="808" y="0"/>
                      </a:lnTo>
                      <a:lnTo>
                        <a:pt x="792" y="2"/>
                      </a:lnTo>
                      <a:lnTo>
                        <a:pt x="775" y="10"/>
                      </a:lnTo>
                      <a:lnTo>
                        <a:pt x="759" y="17"/>
                      </a:lnTo>
                      <a:lnTo>
                        <a:pt x="740" y="32"/>
                      </a:lnTo>
                      <a:lnTo>
                        <a:pt x="691" y="75"/>
                      </a:lnTo>
                      <a:lnTo>
                        <a:pt x="639" y="115"/>
                      </a:lnTo>
                      <a:lnTo>
                        <a:pt x="587" y="155"/>
                      </a:lnTo>
                      <a:lnTo>
                        <a:pt x="538" y="195"/>
                      </a:lnTo>
                      <a:lnTo>
                        <a:pt x="486" y="235"/>
                      </a:lnTo>
                      <a:lnTo>
                        <a:pt x="437" y="275"/>
                      </a:lnTo>
                      <a:lnTo>
                        <a:pt x="386" y="316"/>
                      </a:lnTo>
                      <a:lnTo>
                        <a:pt x="338" y="357"/>
                      </a:lnTo>
                      <a:lnTo>
                        <a:pt x="291" y="394"/>
                      </a:lnTo>
                      <a:lnTo>
                        <a:pt x="245" y="432"/>
                      </a:lnTo>
                      <a:lnTo>
                        <a:pt x="202" y="472"/>
                      </a:lnTo>
                      <a:lnTo>
                        <a:pt x="161" y="509"/>
                      </a:lnTo>
                      <a:lnTo>
                        <a:pt x="121" y="547"/>
                      </a:lnTo>
                      <a:lnTo>
                        <a:pt x="84" y="585"/>
                      </a:lnTo>
                      <a:lnTo>
                        <a:pt x="49" y="622"/>
                      </a:lnTo>
                      <a:lnTo>
                        <a:pt x="20" y="660"/>
                      </a:lnTo>
                      <a:lnTo>
                        <a:pt x="4" y="687"/>
                      </a:lnTo>
                      <a:lnTo>
                        <a:pt x="0" y="713"/>
                      </a:lnTo>
                      <a:lnTo>
                        <a:pt x="2" y="738"/>
                      </a:lnTo>
                      <a:lnTo>
                        <a:pt x="12" y="758"/>
                      </a:lnTo>
                      <a:lnTo>
                        <a:pt x="28" y="778"/>
                      </a:lnTo>
                      <a:lnTo>
                        <a:pt x="47" y="795"/>
                      </a:lnTo>
                      <a:lnTo>
                        <a:pt x="70" y="808"/>
                      </a:lnTo>
                      <a:lnTo>
                        <a:pt x="92" y="818"/>
                      </a:lnTo>
                      <a:lnTo>
                        <a:pt x="97" y="820"/>
                      </a:lnTo>
                      <a:lnTo>
                        <a:pt x="101" y="820"/>
                      </a:lnTo>
                      <a:lnTo>
                        <a:pt x="105" y="825"/>
                      </a:lnTo>
                      <a:lnTo>
                        <a:pt x="111" y="828"/>
                      </a:lnTo>
                      <a:lnTo>
                        <a:pt x="117" y="833"/>
                      </a:lnTo>
                      <a:lnTo>
                        <a:pt x="126" y="835"/>
                      </a:lnTo>
                      <a:lnTo>
                        <a:pt x="132" y="838"/>
                      </a:lnTo>
                      <a:lnTo>
                        <a:pt x="140" y="843"/>
                      </a:lnTo>
                      <a:close/>
                    </a:path>
                  </a:pathLst>
                </a:custGeom>
                <a:solidFill>
                  <a:srgbClr val="ebebe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800600" y="2760840"/>
                  <a:ext cx="540000" cy="225720"/>
                </a:xfrm>
                <a:custGeom>
                  <a:avLst/>
                  <a:gdLst/>
                  <a:ahLst/>
                  <a:rect l="0" t="0" r="r" b="b"/>
                  <a:pathLst>
                    <a:path fill="none" w="1500" h="627">
                      <a:moveTo>
                        <a:pt x="1500" y="0"/>
                      </a:moveTo>
                      <a:lnTo>
                        <a:pt x="1479" y="10"/>
                      </a:lnTo>
                      <a:lnTo>
                        <a:pt x="1454" y="32"/>
                      </a:lnTo>
                      <a:lnTo>
                        <a:pt x="1423" y="60"/>
                      </a:lnTo>
                      <a:lnTo>
                        <a:pt x="1390" y="93"/>
                      </a:lnTo>
                      <a:lnTo>
                        <a:pt x="1351" y="133"/>
                      </a:lnTo>
                      <a:lnTo>
                        <a:pt x="1310" y="178"/>
                      </a:lnTo>
                      <a:lnTo>
                        <a:pt x="1268" y="226"/>
                      </a:lnTo>
                      <a:lnTo>
                        <a:pt x="1225" y="274"/>
                      </a:lnTo>
                      <a:lnTo>
                        <a:pt x="1181" y="325"/>
                      </a:lnTo>
                      <a:lnTo>
                        <a:pt x="1138" y="378"/>
                      </a:lnTo>
                      <a:lnTo>
                        <a:pt x="1099" y="428"/>
                      </a:lnTo>
                      <a:lnTo>
                        <a:pt x="1061" y="473"/>
                      </a:lnTo>
                      <a:lnTo>
                        <a:pt x="1026" y="521"/>
                      </a:lnTo>
                      <a:lnTo>
                        <a:pt x="995" y="561"/>
                      </a:lnTo>
                      <a:lnTo>
                        <a:pt x="970" y="597"/>
                      </a:lnTo>
                      <a:lnTo>
                        <a:pt x="952" y="627"/>
                      </a:lnTo>
                      <a:lnTo>
                        <a:pt x="906" y="609"/>
                      </a:lnTo>
                      <a:lnTo>
                        <a:pt x="850" y="589"/>
                      </a:lnTo>
                      <a:lnTo>
                        <a:pt x="788" y="564"/>
                      </a:lnTo>
                      <a:lnTo>
                        <a:pt x="717" y="536"/>
                      </a:lnTo>
                      <a:lnTo>
                        <a:pt x="645" y="508"/>
                      </a:lnTo>
                      <a:lnTo>
                        <a:pt x="568" y="481"/>
                      </a:lnTo>
                      <a:lnTo>
                        <a:pt x="490" y="451"/>
                      </a:lnTo>
                      <a:lnTo>
                        <a:pt x="413" y="420"/>
                      </a:lnTo>
                      <a:lnTo>
                        <a:pt x="339" y="393"/>
                      </a:lnTo>
                      <a:lnTo>
                        <a:pt x="264" y="365"/>
                      </a:lnTo>
                      <a:lnTo>
                        <a:pt x="200" y="340"/>
                      </a:lnTo>
                      <a:lnTo>
                        <a:pt x="140" y="317"/>
                      </a:lnTo>
                      <a:lnTo>
                        <a:pt x="86" y="299"/>
                      </a:lnTo>
                      <a:lnTo>
                        <a:pt x="47" y="281"/>
                      </a:lnTo>
                      <a:lnTo>
                        <a:pt x="16" y="271"/>
                      </a:lnTo>
                      <a:lnTo>
                        <a:pt x="0" y="266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767120" y="2736720"/>
                  <a:ext cx="586080" cy="243360"/>
                </a:xfrm>
                <a:custGeom>
                  <a:avLst/>
                  <a:gdLst/>
                  <a:ahLst/>
                  <a:rect l="0" t="0" r="r" b="b"/>
                  <a:pathLst>
                    <a:path fill="none" w="1628" h="676">
                      <a:moveTo>
                        <a:pt x="1058" y="638"/>
                      </a:moveTo>
                      <a:lnTo>
                        <a:pt x="1037" y="628"/>
                      </a:lnTo>
                      <a:lnTo>
                        <a:pt x="1014" y="618"/>
                      </a:lnTo>
                      <a:lnTo>
                        <a:pt x="992" y="603"/>
                      </a:lnTo>
                      <a:lnTo>
                        <a:pt x="965" y="590"/>
                      </a:lnTo>
                      <a:lnTo>
                        <a:pt x="938" y="575"/>
                      </a:lnTo>
                      <a:lnTo>
                        <a:pt x="911" y="560"/>
                      </a:lnTo>
                      <a:lnTo>
                        <a:pt x="880" y="542"/>
                      </a:lnTo>
                      <a:lnTo>
                        <a:pt x="849" y="527"/>
                      </a:lnTo>
                      <a:lnTo>
                        <a:pt x="816" y="509"/>
                      </a:lnTo>
                      <a:lnTo>
                        <a:pt x="782" y="491"/>
                      </a:lnTo>
                      <a:lnTo>
                        <a:pt x="747" y="476"/>
                      </a:lnTo>
                      <a:lnTo>
                        <a:pt x="714" y="458"/>
                      </a:lnTo>
                      <a:lnTo>
                        <a:pt x="679" y="438"/>
                      </a:lnTo>
                      <a:lnTo>
                        <a:pt x="642" y="420"/>
                      </a:lnTo>
                      <a:lnTo>
                        <a:pt x="605" y="402"/>
                      </a:lnTo>
                      <a:lnTo>
                        <a:pt x="569" y="385"/>
                      </a:lnTo>
                      <a:lnTo>
                        <a:pt x="530" y="367"/>
                      </a:lnTo>
                      <a:lnTo>
                        <a:pt x="495" y="349"/>
                      </a:lnTo>
                      <a:lnTo>
                        <a:pt x="456" y="334"/>
                      </a:lnTo>
                      <a:lnTo>
                        <a:pt x="419" y="319"/>
                      </a:lnTo>
                      <a:lnTo>
                        <a:pt x="382" y="301"/>
                      </a:lnTo>
                      <a:lnTo>
                        <a:pt x="344" y="286"/>
                      </a:lnTo>
                      <a:lnTo>
                        <a:pt x="307" y="273"/>
                      </a:lnTo>
                      <a:lnTo>
                        <a:pt x="270" y="261"/>
                      </a:lnTo>
                      <a:lnTo>
                        <a:pt x="237" y="248"/>
                      </a:lnTo>
                      <a:lnTo>
                        <a:pt x="202" y="238"/>
                      </a:lnTo>
                      <a:lnTo>
                        <a:pt x="167" y="228"/>
                      </a:lnTo>
                      <a:lnTo>
                        <a:pt x="134" y="220"/>
                      </a:lnTo>
                      <a:lnTo>
                        <a:pt x="101" y="213"/>
                      </a:lnTo>
                      <a:lnTo>
                        <a:pt x="70" y="210"/>
                      </a:lnTo>
                      <a:lnTo>
                        <a:pt x="39" y="205"/>
                      </a:lnTo>
                      <a:lnTo>
                        <a:pt x="12" y="203"/>
                      </a:lnTo>
                      <a:lnTo>
                        <a:pt x="4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2" y="236"/>
                      </a:lnTo>
                      <a:lnTo>
                        <a:pt x="6" y="243"/>
                      </a:lnTo>
                      <a:lnTo>
                        <a:pt x="12" y="246"/>
                      </a:lnTo>
                      <a:lnTo>
                        <a:pt x="22" y="251"/>
                      </a:lnTo>
                      <a:lnTo>
                        <a:pt x="33" y="253"/>
                      </a:lnTo>
                      <a:lnTo>
                        <a:pt x="49" y="261"/>
                      </a:lnTo>
                      <a:lnTo>
                        <a:pt x="84" y="273"/>
                      </a:lnTo>
                      <a:lnTo>
                        <a:pt x="134" y="294"/>
                      </a:lnTo>
                      <a:lnTo>
                        <a:pt x="200" y="319"/>
                      </a:lnTo>
                      <a:lnTo>
                        <a:pt x="274" y="349"/>
                      </a:lnTo>
                      <a:lnTo>
                        <a:pt x="357" y="385"/>
                      </a:lnTo>
                      <a:lnTo>
                        <a:pt x="446" y="422"/>
                      </a:lnTo>
                      <a:lnTo>
                        <a:pt x="536" y="460"/>
                      </a:lnTo>
                      <a:lnTo>
                        <a:pt x="627" y="501"/>
                      </a:lnTo>
                      <a:lnTo>
                        <a:pt x="714" y="537"/>
                      </a:lnTo>
                      <a:lnTo>
                        <a:pt x="799" y="573"/>
                      </a:lnTo>
                      <a:lnTo>
                        <a:pt x="874" y="605"/>
                      </a:lnTo>
                      <a:lnTo>
                        <a:pt x="938" y="633"/>
                      </a:lnTo>
                      <a:lnTo>
                        <a:pt x="988" y="653"/>
                      </a:lnTo>
                      <a:lnTo>
                        <a:pt x="1023" y="669"/>
                      </a:lnTo>
                      <a:lnTo>
                        <a:pt x="1039" y="676"/>
                      </a:lnTo>
                      <a:lnTo>
                        <a:pt x="1047" y="658"/>
                      </a:lnTo>
                      <a:lnTo>
                        <a:pt x="1062" y="633"/>
                      </a:lnTo>
                      <a:lnTo>
                        <a:pt x="1085" y="595"/>
                      </a:lnTo>
                      <a:lnTo>
                        <a:pt x="1111" y="552"/>
                      </a:lnTo>
                      <a:lnTo>
                        <a:pt x="1142" y="501"/>
                      </a:lnTo>
                      <a:lnTo>
                        <a:pt x="1180" y="448"/>
                      </a:lnTo>
                      <a:lnTo>
                        <a:pt x="1221" y="392"/>
                      </a:lnTo>
                      <a:lnTo>
                        <a:pt x="1264" y="334"/>
                      </a:lnTo>
                      <a:lnTo>
                        <a:pt x="1308" y="276"/>
                      </a:lnTo>
                      <a:lnTo>
                        <a:pt x="1355" y="218"/>
                      </a:lnTo>
                      <a:lnTo>
                        <a:pt x="1403" y="164"/>
                      </a:lnTo>
                      <a:lnTo>
                        <a:pt x="1450" y="116"/>
                      </a:lnTo>
                      <a:lnTo>
                        <a:pt x="1498" y="73"/>
                      </a:lnTo>
                      <a:lnTo>
                        <a:pt x="1543" y="40"/>
                      </a:lnTo>
                      <a:lnTo>
                        <a:pt x="1586" y="15"/>
                      </a:lnTo>
                      <a:lnTo>
                        <a:pt x="1628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917960" y="2616120"/>
                  <a:ext cx="192600" cy="130680"/>
                </a:xfrm>
                <a:custGeom>
                  <a:avLst/>
                  <a:gdLst/>
                  <a:ahLst/>
                  <a:rect l="0" t="0" r="r" b="b"/>
                  <a:pathLst>
                    <a:path w="535" h="363">
                      <a:moveTo>
                        <a:pt x="247" y="0"/>
                      </a:moveTo>
                      <a:lnTo>
                        <a:pt x="0" y="199"/>
                      </a:lnTo>
                      <a:lnTo>
                        <a:pt x="313" y="363"/>
                      </a:lnTo>
                      <a:lnTo>
                        <a:pt x="331" y="342"/>
                      </a:lnTo>
                      <a:lnTo>
                        <a:pt x="361" y="314"/>
                      </a:lnTo>
                      <a:lnTo>
                        <a:pt x="397" y="281"/>
                      </a:lnTo>
                      <a:lnTo>
                        <a:pt x="436" y="245"/>
                      </a:lnTo>
                      <a:lnTo>
                        <a:pt x="471" y="215"/>
                      </a:lnTo>
                      <a:lnTo>
                        <a:pt x="503" y="187"/>
                      </a:lnTo>
                      <a:lnTo>
                        <a:pt x="527" y="168"/>
                      </a:lnTo>
                      <a:lnTo>
                        <a:pt x="535" y="161"/>
                      </a:lnTo>
                      <a:lnTo>
                        <a:pt x="247" y="0"/>
                      </a:lnTo>
                      <a:close/>
                    </a:path>
                  </a:pathLst>
                </a:custGeom>
                <a:solidFill>
                  <a:srgbClr val="c2c2a4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802040" y="2606760"/>
                <a:ext cx="551160" cy="378000"/>
                <a:chOff x="4802040" y="2606760"/>
                <a:chExt cx="551160" cy="3780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813200" y="2766960"/>
                  <a:ext cx="540000" cy="217800"/>
                </a:xfrm>
                <a:custGeom>
                  <a:avLst/>
                  <a:gdLst/>
                  <a:ahLst/>
                  <a:rect l="0" t="0" r="r" b="b"/>
                  <a:pathLst>
                    <a:path fill="none" w="1500" h="605">
                      <a:moveTo>
                        <a:pt x="1471" y="4"/>
                      </a:moveTo>
                      <a:lnTo>
                        <a:pt x="1481" y="2"/>
                      </a:lnTo>
                      <a:lnTo>
                        <a:pt x="1487" y="0"/>
                      </a:lnTo>
                      <a:lnTo>
                        <a:pt x="1489" y="0"/>
                      </a:lnTo>
                      <a:lnTo>
                        <a:pt x="1492" y="2"/>
                      </a:lnTo>
                      <a:lnTo>
                        <a:pt x="1496" y="4"/>
                      </a:lnTo>
                      <a:lnTo>
                        <a:pt x="1500" y="13"/>
                      </a:lnTo>
                      <a:lnTo>
                        <a:pt x="1498" y="23"/>
                      </a:lnTo>
                      <a:lnTo>
                        <a:pt x="939" y="605"/>
                      </a:lnTo>
                      <a:lnTo>
                        <a:pt x="0" y="292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802040" y="2754360"/>
                  <a:ext cx="330480" cy="151200"/>
                </a:xfrm>
                <a:custGeom>
                  <a:avLst/>
                  <a:gdLst/>
                  <a:ahLst/>
                  <a:rect l="0" t="0" r="r" b="b"/>
                  <a:pathLst>
                    <a:path w="918" h="420">
                      <a:moveTo>
                        <a:pt x="0" y="91"/>
                      </a:moveTo>
                      <a:lnTo>
                        <a:pt x="18" y="93"/>
                      </a:lnTo>
                      <a:lnTo>
                        <a:pt x="50" y="100"/>
                      </a:lnTo>
                      <a:lnTo>
                        <a:pt x="91" y="114"/>
                      </a:lnTo>
                      <a:lnTo>
                        <a:pt x="137" y="129"/>
                      </a:lnTo>
                      <a:lnTo>
                        <a:pt x="194" y="145"/>
                      </a:lnTo>
                      <a:lnTo>
                        <a:pt x="255" y="166"/>
                      </a:lnTo>
                      <a:lnTo>
                        <a:pt x="321" y="188"/>
                      </a:lnTo>
                      <a:lnTo>
                        <a:pt x="388" y="212"/>
                      </a:lnTo>
                      <a:lnTo>
                        <a:pt x="457" y="238"/>
                      </a:lnTo>
                      <a:lnTo>
                        <a:pt x="527" y="265"/>
                      </a:lnTo>
                      <a:lnTo>
                        <a:pt x="592" y="291"/>
                      </a:lnTo>
                      <a:lnTo>
                        <a:pt x="657" y="318"/>
                      </a:lnTo>
                      <a:lnTo>
                        <a:pt x="713" y="346"/>
                      </a:lnTo>
                      <a:lnTo>
                        <a:pt x="766" y="372"/>
                      </a:lnTo>
                      <a:lnTo>
                        <a:pt x="806" y="396"/>
                      </a:lnTo>
                      <a:lnTo>
                        <a:pt x="841" y="420"/>
                      </a:lnTo>
                      <a:lnTo>
                        <a:pt x="847" y="407"/>
                      </a:lnTo>
                      <a:lnTo>
                        <a:pt x="857" y="394"/>
                      </a:lnTo>
                      <a:lnTo>
                        <a:pt x="867" y="379"/>
                      </a:lnTo>
                      <a:lnTo>
                        <a:pt x="877" y="364"/>
                      </a:lnTo>
                      <a:lnTo>
                        <a:pt x="891" y="348"/>
                      </a:lnTo>
                      <a:lnTo>
                        <a:pt x="902" y="338"/>
                      </a:lnTo>
                      <a:lnTo>
                        <a:pt x="912" y="327"/>
                      </a:lnTo>
                      <a:lnTo>
                        <a:pt x="918" y="322"/>
                      </a:lnTo>
                      <a:lnTo>
                        <a:pt x="873" y="297"/>
                      </a:lnTo>
                      <a:lnTo>
                        <a:pt x="823" y="273"/>
                      </a:lnTo>
                      <a:lnTo>
                        <a:pt x="768" y="247"/>
                      </a:lnTo>
                      <a:lnTo>
                        <a:pt x="707" y="221"/>
                      </a:lnTo>
                      <a:lnTo>
                        <a:pt x="644" y="195"/>
                      </a:lnTo>
                      <a:lnTo>
                        <a:pt x="582" y="169"/>
                      </a:lnTo>
                      <a:lnTo>
                        <a:pt x="519" y="142"/>
                      </a:lnTo>
                      <a:lnTo>
                        <a:pt x="453" y="116"/>
                      </a:lnTo>
                      <a:lnTo>
                        <a:pt x="390" y="93"/>
                      </a:lnTo>
                      <a:lnTo>
                        <a:pt x="334" y="72"/>
                      </a:lnTo>
                      <a:lnTo>
                        <a:pt x="279" y="50"/>
                      </a:lnTo>
                      <a:lnTo>
                        <a:pt x="230" y="34"/>
                      </a:lnTo>
                      <a:lnTo>
                        <a:pt x="186" y="21"/>
                      </a:lnTo>
                      <a:lnTo>
                        <a:pt x="151" y="10"/>
                      </a:lnTo>
                      <a:lnTo>
                        <a:pt x="125" y="4"/>
                      </a:lnTo>
                      <a:lnTo>
                        <a:pt x="109" y="0"/>
                      </a:lnTo>
                      <a:lnTo>
                        <a:pt x="95" y="10"/>
                      </a:lnTo>
                      <a:lnTo>
                        <a:pt x="78" y="21"/>
                      </a:lnTo>
                      <a:lnTo>
                        <a:pt x="64" y="37"/>
                      </a:lnTo>
                      <a:lnTo>
                        <a:pt x="48" y="50"/>
                      </a:lnTo>
                      <a:lnTo>
                        <a:pt x="34" y="63"/>
                      </a:lnTo>
                      <a:lnTo>
                        <a:pt x="20" y="74"/>
                      </a:lnTo>
                      <a:lnTo>
                        <a:pt x="10" y="85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348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871880" y="2733840"/>
                  <a:ext cx="128880" cy="51120"/>
                </a:xfrm>
                <a:custGeom>
                  <a:avLst/>
                  <a:gdLst/>
                  <a:ahLst/>
                  <a:rect l="0" t="0" r="r" b="b"/>
                  <a:pathLst>
                    <a:path fill="none" w="358" h="14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8" y="4"/>
                      </a:lnTo>
                      <a:lnTo>
                        <a:pt x="30" y="9"/>
                      </a:lnTo>
                      <a:lnTo>
                        <a:pt x="47" y="13"/>
                      </a:lnTo>
                      <a:lnTo>
                        <a:pt x="64" y="22"/>
                      </a:lnTo>
                      <a:lnTo>
                        <a:pt x="82" y="29"/>
                      </a:lnTo>
                      <a:lnTo>
                        <a:pt x="105" y="38"/>
                      </a:lnTo>
                      <a:lnTo>
                        <a:pt x="130" y="47"/>
                      </a:lnTo>
                      <a:lnTo>
                        <a:pt x="152" y="59"/>
                      </a:lnTo>
                      <a:lnTo>
                        <a:pt x="180" y="68"/>
                      </a:lnTo>
                      <a:lnTo>
                        <a:pt x="207" y="80"/>
                      </a:lnTo>
                      <a:lnTo>
                        <a:pt x="236" y="92"/>
                      </a:lnTo>
                      <a:lnTo>
                        <a:pt x="267" y="105"/>
                      </a:lnTo>
                      <a:lnTo>
                        <a:pt x="296" y="117"/>
                      </a:lnTo>
                      <a:lnTo>
                        <a:pt x="327" y="130"/>
                      </a:lnTo>
                      <a:lnTo>
                        <a:pt x="358" y="142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024520" y="2795760"/>
                  <a:ext cx="125640" cy="59040"/>
                </a:xfrm>
                <a:custGeom>
                  <a:avLst/>
                  <a:gdLst/>
                  <a:ahLst/>
                  <a:rect l="0" t="0" r="r" b="b"/>
                  <a:pathLst>
                    <a:path fill="none" w="349" h="164">
                      <a:moveTo>
                        <a:pt x="0" y="0"/>
                      </a:moveTo>
                      <a:lnTo>
                        <a:pt x="30" y="13"/>
                      </a:lnTo>
                      <a:lnTo>
                        <a:pt x="61" y="25"/>
                      </a:lnTo>
                      <a:lnTo>
                        <a:pt x="90" y="39"/>
                      </a:lnTo>
                      <a:lnTo>
                        <a:pt x="121" y="52"/>
                      </a:lnTo>
                      <a:lnTo>
                        <a:pt x="150" y="66"/>
                      </a:lnTo>
                      <a:lnTo>
                        <a:pt x="178" y="78"/>
                      </a:lnTo>
                      <a:lnTo>
                        <a:pt x="205" y="90"/>
                      </a:lnTo>
                      <a:lnTo>
                        <a:pt x="227" y="102"/>
                      </a:lnTo>
                      <a:lnTo>
                        <a:pt x="252" y="113"/>
                      </a:lnTo>
                      <a:lnTo>
                        <a:pt x="273" y="122"/>
                      </a:lnTo>
                      <a:lnTo>
                        <a:pt x="291" y="131"/>
                      </a:lnTo>
                      <a:lnTo>
                        <a:pt x="308" y="141"/>
                      </a:lnTo>
                      <a:lnTo>
                        <a:pt x="322" y="148"/>
                      </a:lnTo>
                      <a:lnTo>
                        <a:pt x="334" y="154"/>
                      </a:lnTo>
                      <a:lnTo>
                        <a:pt x="343" y="161"/>
                      </a:lnTo>
                      <a:lnTo>
                        <a:pt x="349" y="164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892760" y="2714760"/>
                  <a:ext cx="124200" cy="52920"/>
                </a:xfrm>
                <a:custGeom>
                  <a:avLst/>
                  <a:gdLst/>
                  <a:ahLst/>
                  <a:rect l="0" t="0" r="r" b="b"/>
                  <a:pathLst>
                    <a:path fill="none" w="345" h="147">
                      <a:moveTo>
                        <a:pt x="0" y="0"/>
                      </a:moveTo>
                      <a:lnTo>
                        <a:pt x="6" y="4"/>
                      </a:lnTo>
                      <a:lnTo>
                        <a:pt x="18" y="9"/>
                      </a:lnTo>
                      <a:lnTo>
                        <a:pt x="29" y="13"/>
                      </a:lnTo>
                      <a:lnTo>
                        <a:pt x="45" y="20"/>
                      </a:lnTo>
                      <a:lnTo>
                        <a:pt x="60" y="27"/>
                      </a:lnTo>
                      <a:lnTo>
                        <a:pt x="78" y="36"/>
                      </a:lnTo>
                      <a:lnTo>
                        <a:pt x="100" y="44"/>
                      </a:lnTo>
                      <a:lnTo>
                        <a:pt x="123" y="53"/>
                      </a:lnTo>
                      <a:lnTo>
                        <a:pt x="148" y="64"/>
                      </a:lnTo>
                      <a:lnTo>
                        <a:pt x="172" y="76"/>
                      </a:lnTo>
                      <a:lnTo>
                        <a:pt x="199" y="85"/>
                      </a:lnTo>
                      <a:lnTo>
                        <a:pt x="226" y="98"/>
                      </a:lnTo>
                      <a:lnTo>
                        <a:pt x="255" y="111"/>
                      </a:lnTo>
                      <a:lnTo>
                        <a:pt x="285" y="122"/>
                      </a:lnTo>
                      <a:lnTo>
                        <a:pt x="314" y="136"/>
                      </a:lnTo>
                      <a:lnTo>
                        <a:pt x="345" y="147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41800" y="2778120"/>
                  <a:ext cx="125640" cy="60840"/>
                </a:xfrm>
                <a:custGeom>
                  <a:avLst/>
                  <a:gdLst/>
                  <a:ahLst/>
                  <a:rect l="0" t="0" r="r" b="b"/>
                  <a:pathLst>
                    <a:path fill="none" w="349" h="169">
                      <a:moveTo>
                        <a:pt x="0" y="0"/>
                      </a:moveTo>
                      <a:lnTo>
                        <a:pt x="28" y="13"/>
                      </a:lnTo>
                      <a:lnTo>
                        <a:pt x="59" y="27"/>
                      </a:lnTo>
                      <a:lnTo>
                        <a:pt x="90" y="41"/>
                      </a:lnTo>
                      <a:lnTo>
                        <a:pt x="119" y="54"/>
                      </a:lnTo>
                      <a:lnTo>
                        <a:pt x="148" y="66"/>
                      </a:lnTo>
                      <a:lnTo>
                        <a:pt x="176" y="80"/>
                      </a:lnTo>
                      <a:lnTo>
                        <a:pt x="203" y="91"/>
                      </a:lnTo>
                      <a:lnTo>
                        <a:pt x="225" y="103"/>
                      </a:lnTo>
                      <a:lnTo>
                        <a:pt x="250" y="115"/>
                      </a:lnTo>
                      <a:lnTo>
                        <a:pt x="271" y="124"/>
                      </a:lnTo>
                      <a:lnTo>
                        <a:pt x="289" y="136"/>
                      </a:lnTo>
                      <a:lnTo>
                        <a:pt x="306" y="143"/>
                      </a:lnTo>
                      <a:lnTo>
                        <a:pt x="320" y="150"/>
                      </a:lnTo>
                      <a:lnTo>
                        <a:pt x="332" y="160"/>
                      </a:lnTo>
                      <a:lnTo>
                        <a:pt x="343" y="164"/>
                      </a:lnTo>
                      <a:lnTo>
                        <a:pt x="349" y="169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059440" y="2762280"/>
                  <a:ext cx="124200" cy="59040"/>
                </a:xfrm>
                <a:custGeom>
                  <a:avLst/>
                  <a:gdLst/>
                  <a:ahLst/>
                  <a:rect l="0" t="0" r="r" b="b"/>
                  <a:pathLst>
                    <a:path fill="none" w="345" h="164">
                      <a:moveTo>
                        <a:pt x="0" y="0"/>
                      </a:moveTo>
                      <a:lnTo>
                        <a:pt x="18" y="6"/>
                      </a:lnTo>
                      <a:lnTo>
                        <a:pt x="39" y="18"/>
                      </a:lnTo>
                      <a:lnTo>
                        <a:pt x="61" y="27"/>
                      </a:lnTo>
                      <a:lnTo>
                        <a:pt x="87" y="38"/>
                      </a:lnTo>
                      <a:lnTo>
                        <a:pt x="114" y="49"/>
                      </a:lnTo>
                      <a:lnTo>
                        <a:pt x="141" y="61"/>
                      </a:lnTo>
                      <a:lnTo>
                        <a:pt x="167" y="72"/>
                      </a:lnTo>
                      <a:lnTo>
                        <a:pt x="194" y="87"/>
                      </a:lnTo>
                      <a:lnTo>
                        <a:pt x="219" y="98"/>
                      </a:lnTo>
                      <a:lnTo>
                        <a:pt x="244" y="109"/>
                      </a:lnTo>
                      <a:lnTo>
                        <a:pt x="267" y="121"/>
                      </a:lnTo>
                      <a:lnTo>
                        <a:pt x="290" y="132"/>
                      </a:lnTo>
                      <a:lnTo>
                        <a:pt x="308" y="141"/>
                      </a:lnTo>
                      <a:lnTo>
                        <a:pt x="325" y="150"/>
                      </a:lnTo>
                      <a:lnTo>
                        <a:pt x="337" y="157"/>
                      </a:lnTo>
                      <a:lnTo>
                        <a:pt x="345" y="164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078520" y="2744640"/>
                  <a:ext cx="122760" cy="57600"/>
                </a:xfrm>
                <a:custGeom>
                  <a:avLst/>
                  <a:gdLst/>
                  <a:ahLst/>
                  <a:rect l="0" t="0" r="r" b="b"/>
                  <a:pathLst>
                    <a:path fill="none" w="341" h="160">
                      <a:moveTo>
                        <a:pt x="0" y="0"/>
                      </a:moveTo>
                      <a:lnTo>
                        <a:pt x="18" y="8"/>
                      </a:lnTo>
                      <a:lnTo>
                        <a:pt x="37" y="17"/>
                      </a:lnTo>
                      <a:lnTo>
                        <a:pt x="61" y="29"/>
                      </a:lnTo>
                      <a:lnTo>
                        <a:pt x="84" y="41"/>
                      </a:lnTo>
                      <a:lnTo>
                        <a:pt x="112" y="52"/>
                      </a:lnTo>
                      <a:lnTo>
                        <a:pt x="136" y="63"/>
                      </a:lnTo>
                      <a:lnTo>
                        <a:pt x="161" y="74"/>
                      </a:lnTo>
                      <a:lnTo>
                        <a:pt x="188" y="88"/>
                      </a:lnTo>
                      <a:lnTo>
                        <a:pt x="212" y="99"/>
                      </a:lnTo>
                      <a:lnTo>
                        <a:pt x="237" y="110"/>
                      </a:lnTo>
                      <a:lnTo>
                        <a:pt x="261" y="122"/>
                      </a:lnTo>
                      <a:lnTo>
                        <a:pt x="281" y="133"/>
                      </a:lnTo>
                      <a:lnTo>
                        <a:pt x="302" y="140"/>
                      </a:lnTo>
                      <a:lnTo>
                        <a:pt x="316" y="149"/>
                      </a:lnTo>
                      <a:lnTo>
                        <a:pt x="331" y="156"/>
                      </a:lnTo>
                      <a:lnTo>
                        <a:pt x="341" y="16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102280" y="2724120"/>
                  <a:ext cx="114840" cy="62280"/>
                </a:xfrm>
                <a:custGeom>
                  <a:avLst/>
                  <a:gdLst/>
                  <a:ahLst/>
                  <a:rect l="0" t="0" r="r" b="b"/>
                  <a:pathLst>
                    <a:path fill="none" w="319" h="173">
                      <a:moveTo>
                        <a:pt x="0" y="0"/>
                      </a:moveTo>
                      <a:lnTo>
                        <a:pt x="18" y="6"/>
                      </a:lnTo>
                      <a:lnTo>
                        <a:pt x="39" y="20"/>
                      </a:lnTo>
                      <a:lnTo>
                        <a:pt x="62" y="32"/>
                      </a:lnTo>
                      <a:lnTo>
                        <a:pt x="86" y="47"/>
                      </a:lnTo>
                      <a:lnTo>
                        <a:pt x="110" y="59"/>
                      </a:lnTo>
                      <a:lnTo>
                        <a:pt x="135" y="73"/>
                      </a:lnTo>
                      <a:lnTo>
                        <a:pt x="160" y="86"/>
                      </a:lnTo>
                      <a:lnTo>
                        <a:pt x="183" y="100"/>
                      </a:lnTo>
                      <a:lnTo>
                        <a:pt x="208" y="114"/>
                      </a:lnTo>
                      <a:lnTo>
                        <a:pt x="229" y="126"/>
                      </a:lnTo>
                      <a:lnTo>
                        <a:pt x="251" y="139"/>
                      </a:lnTo>
                      <a:lnTo>
                        <a:pt x="269" y="150"/>
                      </a:lnTo>
                      <a:lnTo>
                        <a:pt x="286" y="160"/>
                      </a:lnTo>
                      <a:lnTo>
                        <a:pt x="300" y="167"/>
                      </a:lnTo>
                      <a:lnTo>
                        <a:pt x="313" y="169"/>
                      </a:lnTo>
                      <a:lnTo>
                        <a:pt x="319" y="173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119560" y="2708280"/>
                  <a:ext cx="114840" cy="62280"/>
                </a:xfrm>
                <a:custGeom>
                  <a:avLst/>
                  <a:gdLst/>
                  <a:ahLst/>
                  <a:rect l="0" t="0" r="r" b="b"/>
                  <a:pathLst>
                    <a:path fill="none" w="319" h="173">
                      <a:moveTo>
                        <a:pt x="0" y="0"/>
                      </a:moveTo>
                      <a:lnTo>
                        <a:pt x="18" y="11"/>
                      </a:lnTo>
                      <a:lnTo>
                        <a:pt x="39" y="20"/>
                      </a:lnTo>
                      <a:lnTo>
                        <a:pt x="62" y="34"/>
                      </a:lnTo>
                      <a:lnTo>
                        <a:pt x="86" y="46"/>
                      </a:lnTo>
                      <a:lnTo>
                        <a:pt x="110" y="58"/>
                      </a:lnTo>
                      <a:lnTo>
                        <a:pt x="133" y="72"/>
                      </a:lnTo>
                      <a:lnTo>
                        <a:pt x="158" y="83"/>
                      </a:lnTo>
                      <a:lnTo>
                        <a:pt x="181" y="95"/>
                      </a:lnTo>
                      <a:lnTo>
                        <a:pt x="204" y="106"/>
                      </a:lnTo>
                      <a:lnTo>
                        <a:pt x="227" y="120"/>
                      </a:lnTo>
                      <a:lnTo>
                        <a:pt x="246" y="129"/>
                      </a:lnTo>
                      <a:lnTo>
                        <a:pt x="267" y="141"/>
                      </a:lnTo>
                      <a:lnTo>
                        <a:pt x="282" y="151"/>
                      </a:lnTo>
                      <a:lnTo>
                        <a:pt x="296" y="157"/>
                      </a:lnTo>
                      <a:lnTo>
                        <a:pt x="309" y="167"/>
                      </a:lnTo>
                      <a:lnTo>
                        <a:pt x="319" y="173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140440" y="2692440"/>
                  <a:ext cx="114840" cy="62280"/>
                </a:xfrm>
                <a:custGeom>
                  <a:avLst/>
                  <a:gdLst/>
                  <a:ahLst/>
                  <a:rect l="0" t="0" r="r" b="b"/>
                  <a:pathLst>
                    <a:path fill="none" w="319" h="173">
                      <a:moveTo>
                        <a:pt x="0" y="0"/>
                      </a:moveTo>
                      <a:lnTo>
                        <a:pt x="20" y="11"/>
                      </a:lnTo>
                      <a:lnTo>
                        <a:pt x="43" y="22"/>
                      </a:lnTo>
                      <a:lnTo>
                        <a:pt x="66" y="34"/>
                      </a:lnTo>
                      <a:lnTo>
                        <a:pt x="92" y="46"/>
                      </a:lnTo>
                      <a:lnTo>
                        <a:pt x="117" y="60"/>
                      </a:lnTo>
                      <a:lnTo>
                        <a:pt x="140" y="74"/>
                      </a:lnTo>
                      <a:lnTo>
                        <a:pt x="164" y="85"/>
                      </a:lnTo>
                      <a:lnTo>
                        <a:pt x="187" y="97"/>
                      </a:lnTo>
                      <a:lnTo>
                        <a:pt x="210" y="111"/>
                      </a:lnTo>
                      <a:lnTo>
                        <a:pt x="231" y="122"/>
                      </a:lnTo>
                      <a:lnTo>
                        <a:pt x="253" y="134"/>
                      </a:lnTo>
                      <a:lnTo>
                        <a:pt x="271" y="144"/>
                      </a:lnTo>
                      <a:lnTo>
                        <a:pt x="286" y="153"/>
                      </a:lnTo>
                      <a:lnTo>
                        <a:pt x="300" y="160"/>
                      </a:lnTo>
                      <a:lnTo>
                        <a:pt x="311" y="167"/>
                      </a:lnTo>
                      <a:lnTo>
                        <a:pt x="319" y="173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032440" y="2606760"/>
                  <a:ext cx="106560" cy="55800"/>
                </a:xfrm>
                <a:custGeom>
                  <a:avLst/>
                  <a:gdLst/>
                  <a:ahLst/>
                  <a:rect l="0" t="0" r="r" b="b"/>
                  <a:pathLst>
                    <a:path fill="none" w="296" h="155">
                      <a:moveTo>
                        <a:pt x="0" y="0"/>
                      </a:moveTo>
                      <a:lnTo>
                        <a:pt x="6" y="4"/>
                      </a:lnTo>
                      <a:lnTo>
                        <a:pt x="16" y="6"/>
                      </a:lnTo>
                      <a:lnTo>
                        <a:pt x="24" y="13"/>
                      </a:lnTo>
                      <a:lnTo>
                        <a:pt x="37" y="20"/>
                      </a:lnTo>
                      <a:lnTo>
                        <a:pt x="52" y="26"/>
                      </a:lnTo>
                      <a:lnTo>
                        <a:pt x="70" y="35"/>
                      </a:lnTo>
                      <a:lnTo>
                        <a:pt x="87" y="44"/>
                      </a:lnTo>
                      <a:lnTo>
                        <a:pt x="106" y="53"/>
                      </a:lnTo>
                      <a:lnTo>
                        <a:pt x="126" y="64"/>
                      </a:lnTo>
                      <a:lnTo>
                        <a:pt x="147" y="76"/>
                      </a:lnTo>
                      <a:lnTo>
                        <a:pt x="171" y="88"/>
                      </a:lnTo>
                      <a:lnTo>
                        <a:pt x="196" y="101"/>
                      </a:lnTo>
                      <a:lnTo>
                        <a:pt x="219" y="115"/>
                      </a:lnTo>
                      <a:lnTo>
                        <a:pt x="244" y="128"/>
                      </a:lnTo>
                      <a:lnTo>
                        <a:pt x="271" y="141"/>
                      </a:lnTo>
                      <a:lnTo>
                        <a:pt x="296" y="155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60960" y="2674800"/>
                  <a:ext cx="111600" cy="63720"/>
                </a:xfrm>
                <a:custGeom>
                  <a:avLst/>
                  <a:gdLst/>
                  <a:ahLst/>
                  <a:rect l="0" t="0" r="r" b="b"/>
                  <a:pathLst>
                    <a:path fill="none" w="310" h="177">
                      <a:moveTo>
                        <a:pt x="0" y="0"/>
                      </a:moveTo>
                      <a:lnTo>
                        <a:pt x="26" y="13"/>
                      </a:lnTo>
                      <a:lnTo>
                        <a:pt x="53" y="30"/>
                      </a:lnTo>
                      <a:lnTo>
                        <a:pt x="81" y="44"/>
                      </a:lnTo>
                      <a:lnTo>
                        <a:pt x="110" y="60"/>
                      </a:lnTo>
                      <a:lnTo>
                        <a:pt x="135" y="76"/>
                      </a:lnTo>
                      <a:lnTo>
                        <a:pt x="160" y="89"/>
                      </a:lnTo>
                      <a:lnTo>
                        <a:pt x="185" y="103"/>
                      </a:lnTo>
                      <a:lnTo>
                        <a:pt x="206" y="114"/>
                      </a:lnTo>
                      <a:lnTo>
                        <a:pt x="226" y="128"/>
                      </a:lnTo>
                      <a:lnTo>
                        <a:pt x="246" y="137"/>
                      </a:lnTo>
                      <a:lnTo>
                        <a:pt x="260" y="147"/>
                      </a:lnTo>
                      <a:lnTo>
                        <a:pt x="277" y="156"/>
                      </a:lnTo>
                      <a:lnTo>
                        <a:pt x="287" y="163"/>
                      </a:lnTo>
                      <a:lnTo>
                        <a:pt x="300" y="170"/>
                      </a:lnTo>
                      <a:lnTo>
                        <a:pt x="306" y="175"/>
                      </a:lnTo>
                      <a:lnTo>
                        <a:pt x="310" y="177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9" name=""/>
          <p:cNvGrpSpPr/>
          <p:nvPr/>
        </p:nvGrpSpPr>
        <p:grpSpPr>
          <a:xfrm>
            <a:off x="339840" y="3187800"/>
            <a:ext cx="7513560" cy="541800"/>
            <a:chOff x="339840" y="3187800"/>
            <a:chExt cx="7513560" cy="541800"/>
          </a:xfrm>
        </p:grpSpPr>
        <p:sp>
          <p:nvSpPr>
            <p:cNvPr id="290" name=""/>
            <p:cNvSpPr/>
            <p:nvPr/>
          </p:nvSpPr>
          <p:spPr>
            <a:xfrm>
              <a:off x="5035680" y="31971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68880" y="318780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5827680" y="3503520"/>
              <a:ext cx="469800" cy="2260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/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7358040" y="3503520"/>
              <a:ext cx="495360" cy="2260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/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2200" y="31892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339840" y="3503520"/>
              <a:ext cx="495360" cy="2260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/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90800" y="319104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2630520" y="3503520"/>
              <a:ext cx="495360" cy="2260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/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62200" y="3206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1517760" y="3503520"/>
              <a:ext cx="493560" cy="2260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/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4687920" y="3503520"/>
              <a:ext cx="495360" cy="2260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/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46680" y="32068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701880" y="3494160"/>
              <a:ext cx="493560" cy="2260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/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4280" y="3257640"/>
              <a:ext cx="702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4280" y="318780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 txBox="1"/>
          <p:nvPr/>
        </p:nvSpPr>
        <p:spPr>
          <a:xfrm>
            <a:off x="8285040" y="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0" y="27288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chNet/MSDN Produc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05280" y="1812960"/>
            <a:ext cx="1609560" cy="804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298520" y="1528920"/>
            <a:ext cx="2044800" cy="51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F (Vario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258920" y="2365200"/>
            <a:ext cx="2238480" cy="51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904000" y="1492200"/>
            <a:ext cx="1628640" cy="51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321600" y="2397240"/>
            <a:ext cx="1222200" cy="51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224240" y="201780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514520" y="3792600"/>
            <a:ext cx="106668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751200" y="3792600"/>
            <a:ext cx="193824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F (Vie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521400" y="3792600"/>
            <a:ext cx="163368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F (He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370560" y="4640400"/>
            <a:ext cx="2003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586320" y="4640400"/>
            <a:ext cx="2308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er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95240" y="5556240"/>
            <a:ext cx="2459160" cy="51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-Wide-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557520" y="5556240"/>
            <a:ext cx="2433600" cy="51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-ROM (MV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970680" y="5556240"/>
            <a:ext cx="766800" cy="51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6680" y="305928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Tr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24240" y="1795320"/>
            <a:ext cx="665280" cy="254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471840" y="2419200"/>
            <a:ext cx="533520" cy="254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418000" y="1746360"/>
            <a:ext cx="484200" cy="269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67320" y="2370240"/>
            <a:ext cx="862200" cy="303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617920" y="3429000"/>
            <a:ext cx="1625400" cy="550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9600" y="3429000"/>
            <a:ext cx="0" cy="344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560" y="3429000"/>
            <a:ext cx="1108080" cy="550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27520" y="2616120"/>
            <a:ext cx="0" cy="525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19600" y="4267080"/>
            <a:ext cx="7920" cy="435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35720" y="4278240"/>
            <a:ext cx="0" cy="460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338960" y="4987800"/>
            <a:ext cx="1800" cy="54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43360" y="5014800"/>
            <a:ext cx="0" cy="515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22480" y="4267080"/>
            <a:ext cx="0" cy="1247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285040" y="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677880" y="272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fobase on th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81160" y="1739880"/>
            <a:ext cx="12873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F to HTML macros complete. (Begin t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603760" y="1673280"/>
            <a:ext cx="1403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parellel testing of synching  RTF/HTM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8680" y="261612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83520" y="260676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951680" y="2855880"/>
            <a:ext cx="469800" cy="226080"/>
          </a:xfrm>
          <a:prstGeom prst="rect">
            <a:avLst/>
          </a:prstGeom>
          <a:solidFill>
            <a:srgbClr val="f7f7f7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995560" y="2610000"/>
            <a:ext cx="0" cy="12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735280" y="2922480"/>
            <a:ext cx="495360" cy="226080"/>
          </a:xfrm>
          <a:prstGeom prst="rect">
            <a:avLst/>
          </a:prstGeom>
          <a:solidFill>
            <a:srgbClr val="f7f7f7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01800" y="258768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57360" y="2897280"/>
            <a:ext cx="493560" cy="226080"/>
          </a:xfrm>
          <a:prstGeom prst="rect">
            <a:avLst/>
          </a:prstGeom>
          <a:solidFill>
            <a:srgbClr val="f7f7f7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954760" y="2874960"/>
            <a:ext cx="495360" cy="226080"/>
          </a:xfrm>
          <a:prstGeom prst="rect">
            <a:avLst/>
          </a:prstGeom>
          <a:solidFill>
            <a:srgbClr val="f7f7f7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01800" y="2654280"/>
            <a:ext cx="728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28960" y="3643200"/>
            <a:ext cx="5302080" cy="28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 HTML macros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d code onto Word and Blackb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 reviewed by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process is fairly manual in nature, looking to improve efficiency by leveraging other groups’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495520" y="1660680"/>
            <a:ext cx="1403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“tagging” selective contents and editing for Web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911760" y="2022480"/>
            <a:ext cx="132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posting to WWW 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52920" y="2581200"/>
            <a:ext cx="0" cy="168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7661160" y="1701720"/>
            <a:ext cx="1085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ly updates to content on WW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42920" y="3524400"/>
            <a:ext cx="3351240" cy="3067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8285040" y="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677880" y="272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inor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701640" y="1751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ve mandate to improve Internet security preca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we need plans for a Web viewer for Chicago/NT Workstation beyond W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authoring standards (print, CD, on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lear, certralized ownership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/Evang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Internet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cont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77880" y="272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icrosoft Internet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90520" y="2057400"/>
            <a:ext cx="728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recent attempted and successful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filter “firewall”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evaluation of direct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kio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grade to T3, new Internet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285040" y="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677880" y="272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duc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0280" y="1476360"/>
            <a:ext cx="8107200" cy="369720"/>
          </a:xfrm>
          <a:prstGeom prst="rect">
            <a:avLst/>
          </a:prstGeom>
          <a:gradFill rotWithShape="0">
            <a:gsLst>
              <a:gs pos="0">
                <a:srgbClr val="f7f7f7"/>
              </a:gs>
              <a:gs pos="100000">
                <a:srgbClr val="4a4a4a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25640" y="1433520"/>
            <a:ext cx="86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985160" y="1425600"/>
            <a:ext cx="10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46080" y="2217600"/>
            <a:ext cx="183528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w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Publishing (integration w/ BackOff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552760" y="2203560"/>
            <a:ext cx="2454120" cy="32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c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, Mail, FTP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hortc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89360" y="2165400"/>
            <a:ext cx="253044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, Mail, FTP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, Gopher, Web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 offic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hortc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ount sub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7105680" y="2165400"/>
            <a:ext cx="202572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Mail and News for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pult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Internet Publi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4480" y="2048040"/>
            <a:ext cx="419040" cy="4610160"/>
          </a:xfrm>
          <a:prstGeom prst="rect">
            <a:avLst/>
          </a:prstGeom>
          <a:gradFill rotWithShape="0">
            <a:gsLst>
              <a:gs pos="0">
                <a:srgbClr val="f7f7f7"/>
              </a:gs>
              <a:gs pos="100000">
                <a:srgbClr val="acacac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250920" y="2405160"/>
            <a:ext cx="123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130320" y="5883120"/>
            <a:ext cx="97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260028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27288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crosoft Campus Internet Conne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54000" y="1550880"/>
            <a:ext cx="69627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6840" y="272880"/>
            <a:ext cx="8908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ord: Authoring, Publishing, Vie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6600" y="1731960"/>
            <a:ext cx="799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Create great Web authoring (reads/writes HTML) environment with the ability to test link integrity and do basic view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ensing underlying transport technology (BookLink) for 16-bit Word (HTTP, FTP, Gop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ing: free “add-in” for Word 6.x available on Internet and CompuServe for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ility: December ‘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285040" y="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77880" y="272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icago: Great Internet 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01640" y="175104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Connectivi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indows Sockets, TCP/IP, P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hort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DRG evangelism for 32-bit OLE Internet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FTP client (common 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one Internet Mail+News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tarter Kit” under inves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285040" y="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0" y="27288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pone/Exchange: Internet Messa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01640" y="193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S: Native SMT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one MAPI providers (mail and news) for Chicago and Dayt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E: Integration with Chicago und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S: NNTP gateway plan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285040" y="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27288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ndows NT: Great Internet 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08120" y="1581120"/>
            <a:ext cx="8346960" cy="50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Kit: will contain public domain Gopher, Web, WAIS servers + basic DNS and Telnet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P blitz/RAS Internet Help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of breed” Web, Gopher, DNS, telnet servers to be added to base system repatoire, enhance FTP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hort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one+Internet Mail/News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 office routing, drive standard online account subscrip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99880" y="136224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yt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3160" y="3246480"/>
            <a:ext cx="1181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st-Dayt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285040" y="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1480" y="1704960"/>
            <a:ext cx="4746600" cy="276696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8560" y="20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aditional Internet Publ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01800" y="1746360"/>
            <a:ext cx="108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67120" y="1787400"/>
            <a:ext cx="114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1440" y="186228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0" y="3643200"/>
            <a:ext cx="132084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System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dom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560" y="2597040"/>
            <a:ext cx="1435320" cy="1016280"/>
          </a:xfrm>
          <a:custGeom>
            <a:avLst/>
            <a:gdLst/>
            <a:ahLst/>
            <a:rect l="0" t="0" r="r" b="b"/>
            <a:pathLst>
              <a:path w="3987" h="2823">
                <a:moveTo>
                  <a:pt x="1287" y="515"/>
                </a:moveTo>
                <a:lnTo>
                  <a:pt x="1287" y="1089"/>
                </a:lnTo>
                <a:lnTo>
                  <a:pt x="2977" y="1089"/>
                </a:lnTo>
                <a:lnTo>
                  <a:pt x="3078" y="1084"/>
                </a:lnTo>
                <a:lnTo>
                  <a:pt x="3162" y="1067"/>
                </a:lnTo>
                <a:lnTo>
                  <a:pt x="3237" y="1036"/>
                </a:lnTo>
                <a:lnTo>
                  <a:pt x="3317" y="1001"/>
                </a:lnTo>
                <a:lnTo>
                  <a:pt x="3396" y="948"/>
                </a:lnTo>
                <a:lnTo>
                  <a:pt x="3467" y="890"/>
                </a:lnTo>
                <a:lnTo>
                  <a:pt x="3542" y="820"/>
                </a:lnTo>
                <a:lnTo>
                  <a:pt x="3594" y="749"/>
                </a:lnTo>
                <a:lnTo>
                  <a:pt x="3643" y="674"/>
                </a:lnTo>
                <a:lnTo>
                  <a:pt x="3687" y="604"/>
                </a:lnTo>
                <a:lnTo>
                  <a:pt x="3736" y="520"/>
                </a:lnTo>
                <a:lnTo>
                  <a:pt x="3771" y="445"/>
                </a:lnTo>
                <a:lnTo>
                  <a:pt x="3811" y="361"/>
                </a:lnTo>
                <a:lnTo>
                  <a:pt x="3841" y="277"/>
                </a:lnTo>
                <a:lnTo>
                  <a:pt x="3872" y="189"/>
                </a:lnTo>
                <a:lnTo>
                  <a:pt x="3894" y="110"/>
                </a:lnTo>
                <a:lnTo>
                  <a:pt x="3921" y="0"/>
                </a:lnTo>
                <a:lnTo>
                  <a:pt x="3952" y="97"/>
                </a:lnTo>
                <a:lnTo>
                  <a:pt x="3969" y="180"/>
                </a:lnTo>
                <a:lnTo>
                  <a:pt x="3982" y="282"/>
                </a:lnTo>
                <a:lnTo>
                  <a:pt x="3987" y="388"/>
                </a:lnTo>
                <a:lnTo>
                  <a:pt x="3987" y="493"/>
                </a:lnTo>
                <a:lnTo>
                  <a:pt x="3987" y="617"/>
                </a:lnTo>
                <a:lnTo>
                  <a:pt x="3978" y="749"/>
                </a:lnTo>
                <a:lnTo>
                  <a:pt x="3969" y="873"/>
                </a:lnTo>
                <a:lnTo>
                  <a:pt x="3952" y="996"/>
                </a:lnTo>
                <a:lnTo>
                  <a:pt x="3921" y="1128"/>
                </a:lnTo>
                <a:lnTo>
                  <a:pt x="3885" y="1252"/>
                </a:lnTo>
                <a:lnTo>
                  <a:pt x="3841" y="1367"/>
                </a:lnTo>
                <a:lnTo>
                  <a:pt x="3780" y="1500"/>
                </a:lnTo>
                <a:lnTo>
                  <a:pt x="3727" y="1601"/>
                </a:lnTo>
                <a:lnTo>
                  <a:pt x="3661" y="1729"/>
                </a:lnTo>
                <a:lnTo>
                  <a:pt x="3572" y="1853"/>
                </a:lnTo>
                <a:lnTo>
                  <a:pt x="3497" y="1941"/>
                </a:lnTo>
                <a:lnTo>
                  <a:pt x="3400" y="2047"/>
                </a:lnTo>
                <a:lnTo>
                  <a:pt x="3303" y="2117"/>
                </a:lnTo>
                <a:lnTo>
                  <a:pt x="3206" y="2174"/>
                </a:lnTo>
                <a:lnTo>
                  <a:pt x="3070" y="2210"/>
                </a:lnTo>
                <a:lnTo>
                  <a:pt x="2959" y="2223"/>
                </a:lnTo>
                <a:lnTo>
                  <a:pt x="2849" y="2223"/>
                </a:lnTo>
                <a:lnTo>
                  <a:pt x="1287" y="2223"/>
                </a:lnTo>
                <a:lnTo>
                  <a:pt x="1287" y="2823"/>
                </a:lnTo>
                <a:lnTo>
                  <a:pt x="0" y="1676"/>
                </a:lnTo>
                <a:lnTo>
                  <a:pt x="1287" y="51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44600" y="2602080"/>
            <a:ext cx="1435320" cy="1016280"/>
          </a:xfrm>
          <a:custGeom>
            <a:avLst/>
            <a:gdLst/>
            <a:ahLst/>
            <a:rect l="0" t="0" r="r" b="b"/>
            <a:pathLst>
              <a:path w="3987" h="2823">
                <a:moveTo>
                  <a:pt x="2699" y="515"/>
                </a:moveTo>
                <a:lnTo>
                  <a:pt x="2699" y="1089"/>
                </a:lnTo>
                <a:lnTo>
                  <a:pt x="1009" y="1089"/>
                </a:lnTo>
                <a:lnTo>
                  <a:pt x="908" y="1084"/>
                </a:lnTo>
                <a:lnTo>
                  <a:pt x="824" y="1067"/>
                </a:lnTo>
                <a:lnTo>
                  <a:pt x="749" y="1036"/>
                </a:lnTo>
                <a:lnTo>
                  <a:pt x="670" y="1001"/>
                </a:lnTo>
                <a:lnTo>
                  <a:pt x="590" y="948"/>
                </a:lnTo>
                <a:lnTo>
                  <a:pt x="520" y="890"/>
                </a:lnTo>
                <a:lnTo>
                  <a:pt x="445" y="820"/>
                </a:lnTo>
                <a:lnTo>
                  <a:pt x="392" y="749"/>
                </a:lnTo>
                <a:lnTo>
                  <a:pt x="343" y="674"/>
                </a:lnTo>
                <a:lnTo>
                  <a:pt x="299" y="604"/>
                </a:lnTo>
                <a:lnTo>
                  <a:pt x="251" y="520"/>
                </a:lnTo>
                <a:lnTo>
                  <a:pt x="216" y="445"/>
                </a:lnTo>
                <a:lnTo>
                  <a:pt x="176" y="361"/>
                </a:lnTo>
                <a:lnTo>
                  <a:pt x="145" y="277"/>
                </a:lnTo>
                <a:lnTo>
                  <a:pt x="114" y="189"/>
                </a:lnTo>
                <a:lnTo>
                  <a:pt x="92" y="110"/>
                </a:lnTo>
                <a:lnTo>
                  <a:pt x="66" y="0"/>
                </a:lnTo>
                <a:lnTo>
                  <a:pt x="35" y="97"/>
                </a:lnTo>
                <a:lnTo>
                  <a:pt x="17" y="180"/>
                </a:lnTo>
                <a:lnTo>
                  <a:pt x="4" y="282"/>
                </a:lnTo>
                <a:lnTo>
                  <a:pt x="0" y="388"/>
                </a:lnTo>
                <a:lnTo>
                  <a:pt x="0" y="493"/>
                </a:lnTo>
                <a:lnTo>
                  <a:pt x="0" y="617"/>
                </a:lnTo>
                <a:lnTo>
                  <a:pt x="8" y="749"/>
                </a:lnTo>
                <a:lnTo>
                  <a:pt x="17" y="873"/>
                </a:lnTo>
                <a:lnTo>
                  <a:pt x="35" y="996"/>
                </a:lnTo>
                <a:lnTo>
                  <a:pt x="66" y="1128"/>
                </a:lnTo>
                <a:lnTo>
                  <a:pt x="101" y="1252"/>
                </a:lnTo>
                <a:lnTo>
                  <a:pt x="145" y="1367"/>
                </a:lnTo>
                <a:lnTo>
                  <a:pt x="207" y="1500"/>
                </a:lnTo>
                <a:lnTo>
                  <a:pt x="260" y="1601"/>
                </a:lnTo>
                <a:lnTo>
                  <a:pt x="326" y="1729"/>
                </a:lnTo>
                <a:lnTo>
                  <a:pt x="414" y="1853"/>
                </a:lnTo>
                <a:lnTo>
                  <a:pt x="489" y="1941"/>
                </a:lnTo>
                <a:lnTo>
                  <a:pt x="586" y="2047"/>
                </a:lnTo>
                <a:lnTo>
                  <a:pt x="683" y="2117"/>
                </a:lnTo>
                <a:lnTo>
                  <a:pt x="780" y="2174"/>
                </a:lnTo>
                <a:lnTo>
                  <a:pt x="917" y="2210"/>
                </a:lnTo>
                <a:lnTo>
                  <a:pt x="1027" y="2223"/>
                </a:lnTo>
                <a:lnTo>
                  <a:pt x="1137" y="2223"/>
                </a:lnTo>
                <a:lnTo>
                  <a:pt x="2699" y="2223"/>
                </a:lnTo>
                <a:lnTo>
                  <a:pt x="2699" y="2823"/>
                </a:lnTo>
                <a:lnTo>
                  <a:pt x="3987" y="1676"/>
                </a:lnTo>
                <a:lnTo>
                  <a:pt x="2699" y="51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96960" y="3524400"/>
            <a:ext cx="1473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text edito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tly Un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975360" y="3570120"/>
            <a:ext cx="15526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a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c, XWindow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30400" y="4697280"/>
            <a:ext cx="767880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0040" indent="-23004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ontent authored using some standalone tool (generally on Uni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ontent is copied to the Unix filesystem and placed in some sub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ontent available to any Internet client w/ Mosaic or some other Web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are required to compile and install complex server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ng and publishing steps are disj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 publishers require system exper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84200" y="1400040"/>
            <a:ext cx="2717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prise or Internet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4360" y="1606680"/>
            <a:ext cx="4959360" cy="302904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426440" y="1306440"/>
            <a:ext cx="1182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17560" y="2298600"/>
            <a:ext cx="1279440" cy="1144440"/>
            <a:chOff x="817560" y="2298600"/>
            <a:chExt cx="1279440" cy="114444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817560" y="2298600"/>
              <a:ext cx="127944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1039680" y="2343240"/>
              <a:ext cx="493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% v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046400" y="2311560"/>
            <a:ext cx="860400" cy="1203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089840" y="2430360"/>
            <a:ext cx="1279440" cy="1144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353360" y="2478240"/>
            <a:ext cx="749160" cy="614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520560" y="546732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ness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423280" y="7920"/>
            <a:ext cx="708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453384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89520" y="6540480"/>
            <a:ext cx="514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opportunity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Web servers coming online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 da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09760" y="1589040"/>
            <a:ext cx="4383000" cy="239724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28560" y="20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indows Internet Publ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635280" y="2081160"/>
            <a:ext cx="1157400" cy="1160640"/>
            <a:chOff x="3635280" y="2081160"/>
            <a:chExt cx="1157400" cy="116064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635280" y="2081160"/>
              <a:ext cx="115740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3878280" y="2139840"/>
              <a:ext cx="571680" cy="60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6323040" y="1941480"/>
            <a:ext cx="995760" cy="895680"/>
            <a:chOff x="6323040" y="1941480"/>
            <a:chExt cx="995760" cy="895680"/>
          </a:xfrm>
        </p:grpSpPr>
        <p:grpSp>
          <p:nvGrpSpPr>
            <p:cNvPr id="128" name=""/>
            <p:cNvGrpSpPr/>
            <p:nvPr/>
          </p:nvGrpSpPr>
          <p:grpSpPr>
            <a:xfrm>
              <a:off x="6359400" y="2498760"/>
              <a:ext cx="909720" cy="279360"/>
              <a:chOff x="6359400" y="2498760"/>
              <a:chExt cx="909720" cy="279360"/>
            </a:xfrm>
          </p:grpSpPr>
          <p:sp>
            <p:nvSpPr>
              <p:cNvPr id="129" name=""/>
              <p:cNvSpPr/>
              <p:nvPr/>
            </p:nvSpPr>
            <p:spPr>
              <a:xfrm>
                <a:off x="6359400" y="2498760"/>
                <a:ext cx="909720" cy="279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65920" y="2546280"/>
                <a:ext cx="312840" cy="12708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323040" y="2657520"/>
              <a:ext cx="995760" cy="179640"/>
              <a:chOff x="6323040" y="2657520"/>
              <a:chExt cx="995760" cy="179640"/>
            </a:xfrm>
          </p:grpSpPr>
          <p:sp>
            <p:nvSpPr>
              <p:cNvPr id="132" name=""/>
              <p:cNvSpPr/>
              <p:nvPr/>
            </p:nvSpPr>
            <p:spPr>
              <a:xfrm>
                <a:off x="6323040" y="2657520"/>
                <a:ext cx="995760" cy="179640"/>
              </a:xfrm>
              <a:custGeom>
                <a:avLst/>
                <a:gdLst/>
                <a:ahLst/>
                <a:rect l="0" t="0" r="r" b="b"/>
                <a:pathLst>
                  <a:path w="2766" h="499">
                    <a:moveTo>
                      <a:pt x="344" y="0"/>
                    </a:moveTo>
                    <a:lnTo>
                      <a:pt x="2429" y="0"/>
                    </a:lnTo>
                    <a:lnTo>
                      <a:pt x="2760" y="450"/>
                    </a:lnTo>
                    <a:lnTo>
                      <a:pt x="2766" y="471"/>
                    </a:lnTo>
                    <a:lnTo>
                      <a:pt x="2753" y="488"/>
                    </a:lnTo>
                    <a:lnTo>
                      <a:pt x="2732" y="499"/>
                    </a:lnTo>
                    <a:lnTo>
                      <a:pt x="37" y="499"/>
                    </a:lnTo>
                    <a:lnTo>
                      <a:pt x="13" y="485"/>
                    </a:lnTo>
                    <a:lnTo>
                      <a:pt x="0" y="464"/>
                    </a:lnTo>
                    <a:lnTo>
                      <a:pt x="6" y="440"/>
                    </a:lnTo>
                    <a:lnTo>
                      <a:pt x="3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378480" y="2695680"/>
                <a:ext cx="660600" cy="114840"/>
              </a:xfrm>
              <a:custGeom>
                <a:avLst/>
                <a:gdLst/>
                <a:ahLst/>
                <a:rect l="0" t="0" r="r" b="b"/>
                <a:pathLst>
                  <a:path w="1835" h="319">
                    <a:moveTo>
                      <a:pt x="244" y="0"/>
                    </a:moveTo>
                    <a:lnTo>
                      <a:pt x="1749" y="0"/>
                    </a:lnTo>
                    <a:lnTo>
                      <a:pt x="1835" y="319"/>
                    </a:lnTo>
                    <a:lnTo>
                      <a:pt x="0" y="319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59600" y="2695680"/>
                <a:ext cx="201960" cy="114840"/>
              </a:xfrm>
              <a:custGeom>
                <a:avLst/>
                <a:gdLst/>
                <a:ahLst/>
                <a:rect l="0" t="0" r="r" b="b"/>
                <a:pathLst>
                  <a:path w="561" h="319">
                    <a:moveTo>
                      <a:pt x="0" y="0"/>
                    </a:moveTo>
                    <a:lnTo>
                      <a:pt x="329" y="0"/>
                    </a:lnTo>
                    <a:lnTo>
                      <a:pt x="561" y="319"/>
                    </a:lnTo>
                    <a:lnTo>
                      <a:pt x="103" y="3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485040" y="1941480"/>
              <a:ext cx="660240" cy="546120"/>
              <a:chOff x="6485040" y="1941480"/>
              <a:chExt cx="660240" cy="546120"/>
            </a:xfrm>
          </p:grpSpPr>
          <p:sp>
            <p:nvSpPr>
              <p:cNvPr id="136" name=""/>
              <p:cNvSpPr/>
              <p:nvPr/>
            </p:nvSpPr>
            <p:spPr>
              <a:xfrm>
                <a:off x="6485040" y="1941480"/>
                <a:ext cx="660240" cy="546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527880" y="1986120"/>
                <a:ext cx="574560" cy="463680"/>
              </a:xfrm>
              <a:prstGeom prst="rect">
                <a:avLst/>
              </a:prstGeom>
              <a:solidFill>
                <a:srgbClr val="105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021440" y="1986120"/>
                <a:ext cx="79200" cy="463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042320" y="2011320"/>
                <a:ext cx="34920" cy="2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45200" y="221292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45200" y="229716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45200" y="23781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6527880" y="1986120"/>
              <a:ext cx="487440" cy="44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826920" y="2038320"/>
            <a:ext cx="1356120" cy="1209960"/>
            <a:chOff x="826920" y="2038320"/>
            <a:chExt cx="1356120" cy="1209960"/>
          </a:xfrm>
        </p:grpSpPr>
        <p:grpSp>
          <p:nvGrpSpPr>
            <p:cNvPr id="145" name=""/>
            <p:cNvGrpSpPr/>
            <p:nvPr/>
          </p:nvGrpSpPr>
          <p:grpSpPr>
            <a:xfrm>
              <a:off x="876240" y="2790720"/>
              <a:ext cx="1238400" cy="379440"/>
              <a:chOff x="876240" y="2790720"/>
              <a:chExt cx="1238400" cy="379440"/>
            </a:xfrm>
          </p:grpSpPr>
          <p:sp>
            <p:nvSpPr>
              <p:cNvPr id="146" name=""/>
              <p:cNvSpPr/>
              <p:nvPr/>
            </p:nvSpPr>
            <p:spPr>
              <a:xfrm>
                <a:off x="876240" y="2790720"/>
                <a:ext cx="1238400" cy="37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565280" y="2855880"/>
                <a:ext cx="426960" cy="1713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826920" y="3006720"/>
              <a:ext cx="1356120" cy="241560"/>
              <a:chOff x="826920" y="3006720"/>
              <a:chExt cx="1356120" cy="241560"/>
            </a:xfrm>
          </p:grpSpPr>
          <p:sp>
            <p:nvSpPr>
              <p:cNvPr id="149" name=""/>
              <p:cNvSpPr/>
              <p:nvPr/>
            </p:nvSpPr>
            <p:spPr>
              <a:xfrm>
                <a:off x="826920" y="3006720"/>
                <a:ext cx="1356120" cy="241560"/>
              </a:xfrm>
              <a:custGeom>
                <a:avLst/>
                <a:gdLst/>
                <a:ahLst/>
                <a:rect l="0" t="0" r="r" b="b"/>
                <a:pathLst>
                  <a:path w="3767" h="671">
                    <a:moveTo>
                      <a:pt x="469" y="0"/>
                    </a:moveTo>
                    <a:lnTo>
                      <a:pt x="3307" y="0"/>
                    </a:lnTo>
                    <a:lnTo>
                      <a:pt x="3758" y="606"/>
                    </a:lnTo>
                    <a:lnTo>
                      <a:pt x="3767" y="634"/>
                    </a:lnTo>
                    <a:lnTo>
                      <a:pt x="3749" y="657"/>
                    </a:lnTo>
                    <a:lnTo>
                      <a:pt x="3720" y="671"/>
                    </a:lnTo>
                    <a:lnTo>
                      <a:pt x="51" y="671"/>
                    </a:lnTo>
                    <a:lnTo>
                      <a:pt x="18" y="652"/>
                    </a:lnTo>
                    <a:lnTo>
                      <a:pt x="0" y="624"/>
                    </a:lnTo>
                    <a:lnTo>
                      <a:pt x="9" y="592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01800" y="3056040"/>
                <a:ext cx="902160" cy="154440"/>
              </a:xfrm>
              <a:custGeom>
                <a:avLst/>
                <a:gdLst/>
                <a:ahLst/>
                <a:rect l="0" t="0" r="r" b="b"/>
                <a:pathLst>
                  <a:path w="2506" h="429">
                    <a:moveTo>
                      <a:pt x="334" y="0"/>
                    </a:moveTo>
                    <a:lnTo>
                      <a:pt x="2389" y="0"/>
                    </a:lnTo>
                    <a:lnTo>
                      <a:pt x="2506" y="429"/>
                    </a:lnTo>
                    <a:lnTo>
                      <a:pt x="0" y="429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32040" y="3056040"/>
                <a:ext cx="273240" cy="154440"/>
              </a:xfrm>
              <a:custGeom>
                <a:avLst/>
                <a:gdLst/>
                <a:ahLst/>
                <a:rect l="0" t="0" r="r" b="b"/>
                <a:pathLst>
                  <a:path w="759" h="429">
                    <a:moveTo>
                      <a:pt x="0" y="0"/>
                    </a:moveTo>
                    <a:lnTo>
                      <a:pt x="445" y="0"/>
                    </a:lnTo>
                    <a:lnTo>
                      <a:pt x="759" y="429"/>
                    </a:lnTo>
                    <a:lnTo>
                      <a:pt x="140" y="4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1047600" y="2038320"/>
              <a:ext cx="900000" cy="738360"/>
              <a:chOff x="1047600" y="2038320"/>
              <a:chExt cx="900000" cy="738360"/>
            </a:xfrm>
          </p:grpSpPr>
          <p:sp>
            <p:nvSpPr>
              <p:cNvPr id="153" name=""/>
              <p:cNvSpPr/>
              <p:nvPr/>
            </p:nvSpPr>
            <p:spPr>
              <a:xfrm>
                <a:off x="1047600" y="2038320"/>
                <a:ext cx="900000" cy="738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06640" y="2098800"/>
                <a:ext cx="782640" cy="623880"/>
              </a:xfrm>
              <a:prstGeom prst="rect">
                <a:avLst/>
              </a:prstGeom>
              <a:solidFill>
                <a:srgbClr val="105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779480" y="2098800"/>
                <a:ext cx="108000" cy="62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06480" y="2131920"/>
                <a:ext cx="47520" cy="39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11160" y="2405160"/>
                <a:ext cx="36360" cy="36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811160" y="2519280"/>
                <a:ext cx="363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11160" y="2628720"/>
                <a:ext cx="36360" cy="34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1106640" y="2098800"/>
              <a:ext cx="663480" cy="60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114560" y="2117880"/>
            <a:ext cx="641520" cy="596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909720" y="1581120"/>
            <a:ext cx="108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619440" y="1657440"/>
            <a:ext cx="114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935760" y="153036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97120" y="3324240"/>
            <a:ext cx="1289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22360" y="2344680"/>
            <a:ext cx="1198800" cy="763920"/>
          </a:xfrm>
          <a:custGeom>
            <a:avLst/>
            <a:gdLst/>
            <a:ahLst/>
            <a:rect l="0" t="0" r="r" b="b"/>
            <a:pathLst>
              <a:path w="3330" h="2122">
                <a:moveTo>
                  <a:pt x="2254" y="387"/>
                </a:moveTo>
                <a:lnTo>
                  <a:pt x="2254" y="818"/>
                </a:lnTo>
                <a:lnTo>
                  <a:pt x="843" y="818"/>
                </a:lnTo>
                <a:lnTo>
                  <a:pt x="758" y="815"/>
                </a:lnTo>
                <a:lnTo>
                  <a:pt x="688" y="802"/>
                </a:lnTo>
                <a:lnTo>
                  <a:pt x="626" y="778"/>
                </a:lnTo>
                <a:lnTo>
                  <a:pt x="559" y="752"/>
                </a:lnTo>
                <a:lnTo>
                  <a:pt x="493" y="712"/>
                </a:lnTo>
                <a:lnTo>
                  <a:pt x="434" y="669"/>
                </a:lnTo>
                <a:lnTo>
                  <a:pt x="371" y="616"/>
                </a:lnTo>
                <a:lnTo>
                  <a:pt x="327" y="563"/>
                </a:lnTo>
                <a:lnTo>
                  <a:pt x="287" y="507"/>
                </a:lnTo>
                <a:lnTo>
                  <a:pt x="250" y="454"/>
                </a:lnTo>
                <a:lnTo>
                  <a:pt x="209" y="391"/>
                </a:lnTo>
                <a:lnTo>
                  <a:pt x="180" y="334"/>
                </a:lnTo>
                <a:lnTo>
                  <a:pt x="147" y="271"/>
                </a:lnTo>
                <a:lnTo>
                  <a:pt x="121" y="208"/>
                </a:lnTo>
                <a:lnTo>
                  <a:pt x="95" y="142"/>
                </a:lnTo>
                <a:lnTo>
                  <a:pt x="77" y="82"/>
                </a:lnTo>
                <a:lnTo>
                  <a:pt x="55" y="0"/>
                </a:lnTo>
                <a:lnTo>
                  <a:pt x="29" y="72"/>
                </a:lnTo>
                <a:lnTo>
                  <a:pt x="14" y="135"/>
                </a:lnTo>
                <a:lnTo>
                  <a:pt x="3" y="212"/>
                </a:lnTo>
                <a:lnTo>
                  <a:pt x="0" y="291"/>
                </a:lnTo>
                <a:lnTo>
                  <a:pt x="0" y="371"/>
                </a:lnTo>
                <a:lnTo>
                  <a:pt x="0" y="463"/>
                </a:lnTo>
                <a:lnTo>
                  <a:pt x="7" y="563"/>
                </a:lnTo>
                <a:lnTo>
                  <a:pt x="14" y="656"/>
                </a:lnTo>
                <a:lnTo>
                  <a:pt x="29" y="749"/>
                </a:lnTo>
                <a:lnTo>
                  <a:pt x="55" y="848"/>
                </a:lnTo>
                <a:lnTo>
                  <a:pt x="84" y="941"/>
                </a:lnTo>
                <a:lnTo>
                  <a:pt x="121" y="1027"/>
                </a:lnTo>
                <a:lnTo>
                  <a:pt x="173" y="1127"/>
                </a:lnTo>
                <a:lnTo>
                  <a:pt x="217" y="1204"/>
                </a:lnTo>
                <a:lnTo>
                  <a:pt x="272" y="1300"/>
                </a:lnTo>
                <a:lnTo>
                  <a:pt x="346" y="1392"/>
                </a:lnTo>
                <a:lnTo>
                  <a:pt x="408" y="1459"/>
                </a:lnTo>
                <a:lnTo>
                  <a:pt x="489" y="1538"/>
                </a:lnTo>
                <a:lnTo>
                  <a:pt x="570" y="1591"/>
                </a:lnTo>
                <a:lnTo>
                  <a:pt x="651" y="1634"/>
                </a:lnTo>
                <a:lnTo>
                  <a:pt x="766" y="1661"/>
                </a:lnTo>
                <a:lnTo>
                  <a:pt x="858" y="1671"/>
                </a:lnTo>
                <a:lnTo>
                  <a:pt x="950" y="1671"/>
                </a:lnTo>
                <a:lnTo>
                  <a:pt x="2254" y="1671"/>
                </a:lnTo>
                <a:lnTo>
                  <a:pt x="2254" y="2122"/>
                </a:lnTo>
                <a:lnTo>
                  <a:pt x="3330" y="1260"/>
                </a:lnTo>
                <a:lnTo>
                  <a:pt x="2254" y="387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04960" y="3236760"/>
            <a:ext cx="135396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fW, Chicag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337520" y="2106720"/>
            <a:ext cx="11415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cag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, Cap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96760" y="4803840"/>
            <a:ext cx="767880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0040" indent="-23004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ontent authored in Word, “published” directly into public EMS folders via File-&gt;S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lients can browse content using Internet protocols (e.g., FTP, gopher, Web) or Cap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s EMS as the focal point of enterprise (or provider)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s effectively w/ both Notes and Unix with a single, simple 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roads for BackOffice as the standard “platform” for corporations and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2120" y="1235160"/>
            <a:ext cx="2717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prise or Internet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29080" y="1441440"/>
            <a:ext cx="5092560" cy="277488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434360" y="1141560"/>
            <a:ext cx="1182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11840" y="2355840"/>
            <a:ext cx="1114920" cy="763920"/>
          </a:xfrm>
          <a:custGeom>
            <a:avLst/>
            <a:gdLst/>
            <a:ahLst/>
            <a:rect l="0" t="0" r="r" b="b"/>
            <a:pathLst>
              <a:path w="3097" h="2122">
                <a:moveTo>
                  <a:pt x="1000" y="387"/>
                </a:moveTo>
                <a:lnTo>
                  <a:pt x="1000" y="818"/>
                </a:lnTo>
                <a:lnTo>
                  <a:pt x="2312" y="818"/>
                </a:lnTo>
                <a:lnTo>
                  <a:pt x="2392" y="815"/>
                </a:lnTo>
                <a:lnTo>
                  <a:pt x="2457" y="802"/>
                </a:lnTo>
                <a:lnTo>
                  <a:pt x="2515" y="778"/>
                </a:lnTo>
                <a:lnTo>
                  <a:pt x="2577" y="752"/>
                </a:lnTo>
                <a:lnTo>
                  <a:pt x="2638" y="712"/>
                </a:lnTo>
                <a:lnTo>
                  <a:pt x="2693" y="669"/>
                </a:lnTo>
                <a:lnTo>
                  <a:pt x="2751" y="616"/>
                </a:lnTo>
                <a:lnTo>
                  <a:pt x="2792" y="563"/>
                </a:lnTo>
                <a:lnTo>
                  <a:pt x="2830" y="507"/>
                </a:lnTo>
                <a:lnTo>
                  <a:pt x="2864" y="454"/>
                </a:lnTo>
                <a:lnTo>
                  <a:pt x="2902" y="391"/>
                </a:lnTo>
                <a:lnTo>
                  <a:pt x="2929" y="334"/>
                </a:lnTo>
                <a:lnTo>
                  <a:pt x="2960" y="271"/>
                </a:lnTo>
                <a:lnTo>
                  <a:pt x="2984" y="208"/>
                </a:lnTo>
                <a:lnTo>
                  <a:pt x="3008" y="142"/>
                </a:lnTo>
                <a:lnTo>
                  <a:pt x="3025" y="82"/>
                </a:lnTo>
                <a:lnTo>
                  <a:pt x="3046" y="0"/>
                </a:lnTo>
                <a:lnTo>
                  <a:pt x="3070" y="72"/>
                </a:lnTo>
                <a:lnTo>
                  <a:pt x="3083" y="135"/>
                </a:lnTo>
                <a:lnTo>
                  <a:pt x="3094" y="212"/>
                </a:lnTo>
                <a:lnTo>
                  <a:pt x="3097" y="291"/>
                </a:lnTo>
                <a:lnTo>
                  <a:pt x="3097" y="371"/>
                </a:lnTo>
                <a:lnTo>
                  <a:pt x="3097" y="463"/>
                </a:lnTo>
                <a:lnTo>
                  <a:pt x="3090" y="563"/>
                </a:lnTo>
                <a:lnTo>
                  <a:pt x="3083" y="656"/>
                </a:lnTo>
                <a:lnTo>
                  <a:pt x="3070" y="749"/>
                </a:lnTo>
                <a:lnTo>
                  <a:pt x="3046" y="848"/>
                </a:lnTo>
                <a:lnTo>
                  <a:pt x="3018" y="941"/>
                </a:lnTo>
                <a:lnTo>
                  <a:pt x="2984" y="1027"/>
                </a:lnTo>
                <a:lnTo>
                  <a:pt x="2936" y="1127"/>
                </a:lnTo>
                <a:lnTo>
                  <a:pt x="2895" y="1204"/>
                </a:lnTo>
                <a:lnTo>
                  <a:pt x="2844" y="1300"/>
                </a:lnTo>
                <a:lnTo>
                  <a:pt x="2775" y="1392"/>
                </a:lnTo>
                <a:lnTo>
                  <a:pt x="2717" y="1459"/>
                </a:lnTo>
                <a:lnTo>
                  <a:pt x="2642" y="1538"/>
                </a:lnTo>
                <a:lnTo>
                  <a:pt x="2566" y="1591"/>
                </a:lnTo>
                <a:lnTo>
                  <a:pt x="2491" y="1634"/>
                </a:lnTo>
                <a:lnTo>
                  <a:pt x="2385" y="1661"/>
                </a:lnTo>
                <a:lnTo>
                  <a:pt x="2298" y="1671"/>
                </a:lnTo>
                <a:lnTo>
                  <a:pt x="2213" y="1671"/>
                </a:lnTo>
                <a:lnTo>
                  <a:pt x="1000" y="1671"/>
                </a:lnTo>
                <a:lnTo>
                  <a:pt x="1000" y="2122"/>
                </a:lnTo>
                <a:lnTo>
                  <a:pt x="0" y="1260"/>
                </a:lnTo>
                <a:lnTo>
                  <a:pt x="1000" y="387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338960" y="3108240"/>
            <a:ext cx="1162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c, XWindow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6253200" y="2997360"/>
            <a:ext cx="1119240" cy="995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6465960" y="3054240"/>
            <a:ext cx="585720" cy="506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520560" y="531972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423280" y="7920"/>
            <a:ext cx="708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58720" y="4376880"/>
            <a:ext cx="8064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. Allard</dc:creator>
  <dc:description/>
  <dc:language>en-US</dc:language>
  <cp:lastModifiedBy>bill gates</cp:lastModifiedBy>
  <cp:revision>0</cp:revision>
  <dc:subject/>
  <dc:title>Internet Update (billg)</dc:title>
</cp:coreProperties>
</file>