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FB1-A870-48F4-8219-6E20A919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A45-5D6C-4878-9965-007D534B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37E-40BB-41AF-9747-BEB86377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F8C-31E2-44FD-AD63-67BFEF57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4DAE-E7E8-42B5-A4F3-0F949B05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C02A-19E0-476F-9F94-2B0F0CE3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EC45-2255-4533-8ABB-0BD072E5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B7A2-9588-4FAA-93EE-DE3D1C73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D5C5-CE11-40E1-AFAB-45B5B208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F1E3-1150-410C-99C2-2B96682F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1781-D0AB-4949-83B2-E3DE154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BF5-674B-496C-9E31-63792D73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0559-93E6-47D5-A019-741FB224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6138-14ED-436D-88C9-CF9AEE5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7CD0-EEBC-4DAD-8D52-41BAEAFF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5EF7-07EB-43C1-9906-E5D25813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769E-653F-4D2C-9948-2571A546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06C-6FA7-4E32-903C-8C865459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5E5-111F-4736-B178-2A4EBEC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C8E-8572-44DD-853A-F2ED8F54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E60-BCE9-4A38-B2E9-404D7CB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443-44DF-43FD-B9E0-0FDE9444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832-D478-46BE-A6AA-55D026D4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BF2-DFA1-4BD9-80F1-F46C5C44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2C10-6CDB-4B7A-8FAC-A4ECEEF40F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0F11-1079-4C2F-9CA0-84E914ECD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E 4.0 as a browser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toshi Nakaji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-going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 (double the metrix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Keep it work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Bug fix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ugh Estimate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e time development cos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4 persons X 2 weeks (no buffering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 (bug-fixe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1 or 2 dedicated develope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(To Be Filled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3352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in95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828800"/>
            <a:ext cx="228600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581280"/>
            <a:ext cx="228600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5257800"/>
            <a:ext cx="22860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0200" y="1676520"/>
            <a:ext cx="35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eskto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/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429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Folder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AP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istView/TreeView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oolbar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7672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.0 Brows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8288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5146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3434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0560" y="1676520"/>
            <a:ext cx="34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3623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/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ReBa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556272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ini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Urlm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lin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ctxprx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17220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leaut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17220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8640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weeper 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486400"/>
            <a:ext cx="670572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89548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4876920"/>
            <a:ext cx="22860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shtm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876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ML Vie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5623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 running on Win95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209680"/>
            <a:ext cx="22860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172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52388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explorer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09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Reba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9718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8195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334120"/>
            <a:ext cx="2286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257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Internet Name Space hoo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 Web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638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 Proce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981080"/>
            <a:ext cx="380988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4724280"/>
            <a:ext cx="2286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523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Rebar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362320"/>
            <a:ext cx="228600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2096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01520" y="609120"/>
            <a:ext cx="634212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e-time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-coupling shdocvw from shell32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ke following features work agai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CommandL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ype associations (html, jpg, …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DD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Autom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bChec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thena integr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tu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8:40:59Z</dcterms:created>
  <dc:creator>Satoshi Nakajima</dc:creator>
  <dc:description/>
  <dc:language>en-US</dc:language>
  <cp:lastModifiedBy>Satoshi Nakajima</cp:lastModifiedBy>
  <cp:lastPrinted>1996-12-09T20:07:36Z</cp:lastPrinted>
  <dcterms:modified xsi:type="dcterms:W3CDTF">1996-12-09T22:44:30Z</dcterms:modified>
  <cp:revision>7</cp:revision>
  <dc:subject/>
  <dc:title>IE 4.0 as a browser</dc:title>
</cp:coreProperties>
</file>