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451E26-7892-4177-AB9C-2A0B870F2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3D0CCE4-85FF-408B-8C34-80747B07D87E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/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86080" y="1895400"/>
            <a:ext cx="609588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a place next-door to Intel Haifa. Lease for 1 year with extension option. Got a local project mgr to refit the space for out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Intel on a low-cost high-speed network solution for S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MIS and intenational F&amp;A on legal, accouting, HR issues. Will use Intel as ou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 to 'open the doors' for SDEs in Haifa October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86080" y="1514520"/>
            <a:ext cx="60958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Must: Run OS/2 1.X Server applications* binary compatible on NT Product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i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cintosh server (investigate AFP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ther server apps: Comm (investigate DLC support), Not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Sa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Potentially modify instal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86080" y="1895400"/>
            <a:ext cx="609588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oal: Run server apps' utility programs binary compat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stall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fig/Maintenace front-ends a-la LM admin 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Try: Full non-PM OS2  1.X functionality (All of VIO/KBD/MOU/M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llow apps like Word 5.5, Rbase, PWB to run binary compa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6080" y="1895400"/>
            <a:ext cx="6095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design for P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sign point as described in earlie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rite a detailed internal specification and prototype split screen groups. As PM requirements get clearer, adjust manpower to buil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86080" y="189540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d implementation April 1991. Designed and impemented APIs, thunk layer, loader and kernel support to a level that allows us to fully build our SW self hosted (OS2 1.X compiler, linker etc. work  binary compatible on OS2/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130 APIs implemented. ~10 left to complete SQL server 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included LarryS and YaronS. AviN join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 for Produc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86080" y="1895400"/>
            <a:ext cx="609588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n SQL server Q3 199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 Kernel support neded for product 1 by July 15th. Discuss with  Davec to mutually com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OS2 into NT console  by Oct 15 (currently using kdb COM1 for U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complete Dec 1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System Test Jan 31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Plan for FY'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86080" y="1895400"/>
            <a:ext cx="609588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Head Count - 10 SDE + 1 ad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server apps support - 5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/2 VIO support - 3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 design and prototype - 2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at Haifa, 1 at Redmond. Plan for integration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ruiting trip June 20. Have 9 SDEs we like and three admins. Will offer to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Beni Lavi; D12, currently with Intel Haifa. Did their Wizard i860 kernel.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Eli Grushko; D11/12, currently with Ready Systems. Designed and implemented Vertex/Spar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Michael Jarus; D12, HW/SW lead for PC to IBM terminal emulation, DOS/X86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growth (h.c. max 10)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