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90360" y="64850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6ACA4AD-F83A-439E-85C7-8FF317011DA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CDF2C31-6BFA-4388-875E-93E3CB38F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33480"/>
            <a:ext cx="9128160" cy="683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/15/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 (con’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 "permission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a flowcahrt would be goo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Lo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erging Security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-HTTP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S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Commerc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lone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pplication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Technologie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29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2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676767"/>
              </a:gs>
              <a:gs pos="50000">
                <a:srgbClr val="1e1e1e"/>
              </a:gs>
              <a:gs pos="100000">
                <a:srgbClr val="676767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rox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Q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shing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bdbdbd"/>
              </a:gs>
              <a:gs pos="50000">
                <a:srgbClr val="919191"/>
              </a:gs>
              <a:gs pos="100000">
                <a:srgbClr val="bdbdbd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217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220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223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228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Roll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tapult pilot to ~180 users -  networking dev, test and progra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tapult server managed by test group (486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oad ~15 users, 4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bugs discovered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open to all of NT group 5/15, BSD by 6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g 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2057400"/>
            <a:ext cx="312408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sues (P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057400"/>
            <a:ext cx="3200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5334120"/>
            <a:ext cx="3657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omponent sp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xy - no packets passed directly between organization client and extern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user policy control - administrator can specify access level (e.g., ftp read, web, etc..) for each user based on domai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support - current POR is to map to single domain user (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/host filters - permits administrator to restrict (or permit) access to only specified sites or domai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: *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: www.playbo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BC Gateway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(.wdg files) permit the expression of datasource username and password in cleartext on a per-query basis. These will default to NULL if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saic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MD5 user authentication packages included (uuenco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irus checking of .exe’s, .zip’s, etc. on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pplication authentication at Catapul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r use of wininet.dll could permit malicious user to “write” without access (e.g., passing .c files using ftp “read” commands like NL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opportunity for client application license violation (e.g., NetScape) within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disabl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campus pilot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 Tool Sec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will create a new group - “Internet Users” which will initially contain local administrators, but permit modification of administrative rights with User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ver authenticated RPC - IP, IPX or Named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d5, ssl, s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, uuencode,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enables s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gg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Gibraltar Review 5/10</dc:title>
</cp:coreProperties>
</file>