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file/NTF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371600" y="2666880"/>
            <a:ext cx="640080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a L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ip Laforn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y Kim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Property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format as docfile property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ed explanation of why we’re doing this from Ma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robustness they are recognized and protected by the file system (via explicit SetProp and GetProp c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multiple named property sets p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ystem will allow only well formed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on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file property sets (and HTML tags) will be shadowed into native property sets by the CI 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on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the OFS CI/Query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NT 5.0 the code will be integrated into NT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, Text, Word, Excel, Power Poin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specific word breakers and ste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-DB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nternal NTFS Building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indexing, Create an index over arbitrar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properties,  Stored natively as NTFS streams, allows for quick query and an enriched storag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notification,  Enhance change notification to work across reboots (a general USN mechan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instance ACL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ssion on the wire to reduce wire traffic, and reduce CPU overhead on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I/O calls and pathlength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ing security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 security checking by caching previous access checks, will speed up query trimming and ope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for Future Rel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s over native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ction points for 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on write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IS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s on individual native property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Planned or Needing Further Invest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level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 replication support using timestamps on ACLs and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Docfile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key missing basic file system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ich file system as a step toward a unified storag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urrent NTFS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 volume size (2^63 clusters where clusters can soon be at most 64K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size (512B to 64K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head per file (1 file record = 1KB, new streams are about 70 byte overh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stream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ghtly slower than F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possible file size (2^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ssion per file (not drive space/double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 throug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5.0: Docfile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FS Development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FS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le upgrade with a minor on-disk revision (users automatically get the upgrade when they install NT 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features that can be safely accomplished within the development cycl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p in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emphasis on file system performance for both the server and work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FS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 in NT 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some missing basic file system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some enriched file system features as a step toward a unified stor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 planned for future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 not planned or needing further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File System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user per volume based on total alloc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fail-ov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to handle volume remounting betwee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OLE to implement efficient link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iching the Stor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 user perspective NTFS will be expanded with a richer set of storage types an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property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o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o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NTFS building blocks for implementing new quer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yki</cp:lastModifiedBy>
  <cp:revision>0</cp:revision>
  <dc:subject/>
  <dc:title>NTFS Development Plan</dc:title>
</cp:coreProperties>
</file>