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57200" y="640080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fld id="{61C2D6FF-587C-40AD-9B79-51EDB6EFB40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906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39880" y="32018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Internet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25680" y="4524480"/>
            <a:ext cx="6400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3, 19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24591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6a779a"/>
              </a:gs>
              <a:gs pos="50000">
                <a:srgbClr val="081d58"/>
              </a:gs>
              <a:gs pos="100000">
                <a:srgbClr val="6a779a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Server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99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102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105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110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pplication Gateway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34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37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6996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1152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44640" y="3056040"/>
            <a:ext cx="1722600" cy="563400"/>
            <a:chOff x="1844640" y="3056040"/>
            <a:chExt cx="1722600" cy="563400"/>
          </a:xfrm>
        </p:grpSpPr>
        <p:sp>
          <p:nvSpPr>
            <p:cNvPr id="142" name=""/>
            <p:cNvSpPr/>
            <p:nvPr/>
          </p:nvSpPr>
          <p:spPr>
            <a:xfrm>
              <a:off x="184464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207324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1788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840" y="4397400"/>
            <a:ext cx="57754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78480" y="3306600"/>
            <a:ext cx="3537000" cy="1296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3440" y="3619440"/>
            <a:ext cx="0" cy="777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6040" y="1301760"/>
            <a:ext cx="815976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Code complete, performance tuning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: 85%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: basic functionality stable, cleanup underway, admin hooks TB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: Alpha SDK released to ~100 TechEd attendees and tier 1 ISV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92280" y="1409760"/>
            <a:ext cx="75153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: Basic APIs code complete for all protocols.  Lots of tuning and minor features before campus pi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: Development begins 4/1 based on Spyglass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: FTP, Gopher, Web configuration code complete.  Setup, DNS, Catapult begin this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8320" y="487980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-11592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Statu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07920" y="906480"/>
            <a:ext cx="716292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I test suite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test suite 75%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and Benchma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mpetitive performance numbers (y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FTP stress tests on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, DNS stress tests 90%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 running M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-361800"/>
            <a:ext cx="817236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Bug Summar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878120"/>
            <a:ext cx="6078600" cy="4052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90720" y="1600200"/>
            <a:ext cx="71629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ly 54 ACTIVE 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D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/Setu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6480" y="1311120"/>
            <a:ext cx="71629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SQL integ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Provider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97040" y="1581120"/>
            <a:ext cx="7635960" cy="24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SMORG mail/news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ly developing catapult client in BSD since POSD bailed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ffing for Gibraltar ‘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47800" y="1787400"/>
            <a:ext cx="7467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Cairo distribut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, BackOffice Admin (increased manag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(content index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ing and simple packet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ne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curity (S-HTTP, SSL or 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S query standard (Z39.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emerging standards a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4760" y="1438200"/>
            <a:ext cx="9016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sy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O’hare client to support Microsoft standards on the Internet (OLE, Office formats, DCOM, STT/eCommerce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BackOffic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SQL and Exchange integration to the nex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/DAD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support for Web query/report building, better InternetAssistant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airo scripting to drive Office solutions from  server (e.g., complex Excel model or piv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Team (Lea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8800"/>
            <a:ext cx="762012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: DavidTr, Thomas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: Pe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Mgt: D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gt: Kerr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Ed: Jeff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S: Greg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ompetitiv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0600" y="1481040"/>
            <a:ext cx="6481800" cy="3129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872400" y="1479600"/>
            <a:ext cx="18828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63640" y="2900520"/>
            <a:ext cx="73152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icrosoft Internet Server provides high-performance  information access and information publishing for organizations in an easy to use Internet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Release Feat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1760" y="1371600"/>
            <a:ext cx="8737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 Points: Performance, manageability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QL (ODBC) integration with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access from the 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 Security, Caching, Transport Independence, Policy control (per-us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dministration of al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, SNMP and logging (SQL, filesystem or EventLo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rowser bund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, NT, Win95 support (based on Spyglass source b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mitted B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9040" y="1265400"/>
            <a:ext cx="83059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Internet Mail/Ne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3 and News included in 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cli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ssistant team investigating 3rd 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does permit 3rd parties to add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(e.g., traditional IP “firewall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Web Security (SSL, S-HTT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application gateway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Query/Report author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ompe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5680" y="1009800"/>
            <a:ext cx="853452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:  InterNotes News, InterNotes Publis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:  Oracl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: DB2WWW, AIX Gate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: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moured to have publishing and application gateway under development, has licensed NetScape as a stop-gap solution until Fe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:  NetSite Ser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 NT-based Web Products: O’Reilly, Process, Ameri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 Internet server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:  Netra Interne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:  SCO Glob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BN:  Interne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0200" y="1206360"/>
            <a:ext cx="82249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: product name, small business mail/n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BSD Tier 1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, German, French, Japanese (servers Unicode, admin tools DBCS for Win95 compati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O’hare to all Win95 languages except Catalan and Bas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ositioning statement under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77760" y="1066680"/>
            <a:ext cx="71629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thinking - not appro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995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0-50 catapult clien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lient access fee for FTP, Gopher, WWW internal or external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(chann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SD 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 relationships (AT&amp;T, MC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monstrate NT Server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et plat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Internet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rchitecture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1760" y="1131840"/>
            <a:ext cx="8921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mit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kernel support transmits a file directly from cache to a network socket stream. Huge performance gain (in NT 3.5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xtensions for Win3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ermit 3rd parties/corp developers to build Internet access applications, compatible with Catapul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: Binary Gatewa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in-process interface for realtime Web extensions to Internet server for VARs/ISVs (ODBC gateway will use this in 1.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gates</dc:creator>
  <dc:description/>
  <dc:language>en-US</dc:language>
  <cp:lastModifiedBy>peteo</cp:lastModifiedBy>
  <cp:revision>0</cp:revision>
  <dc:subject/>
  <dc:title>BSD Internet Review</dc:title>
</cp:coreProperties>
</file>