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544840" y="2560680"/>
            <a:ext cx="3346560" cy="21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m 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Fors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evelopment Engine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Advanced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719440" y="2560680"/>
            <a:ext cx="299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am I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aphical tool for disk configuration an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the single place an administrator goes for disk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umes tools such as MS-DOS F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ed with Microsoft Windows NT and Windows NT Advanced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: Currently supported op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artition volume configu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d delete of volume sets and stripe sets (RAID level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 NTFS volu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fault tolerance configu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d delete of mirror sets and parity stripe sets (RAID levels 1 and 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 drive letter assig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: The Fu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oper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 forma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cy checking (CHKDS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(HPFS and FAT to NTF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el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architecture:  ISV-provided code for volume and disk ope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: 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 and disk 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tension optionally provides menu operations and property p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olume extension “claims” a volume based on some feature it finds interesting. For example, Norton could provide an NTFS defragmentation utility that would “claim” NTFS volu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ly, a disk extension “claims” a disk based on some feature it finds interesting. For example, a hardware RAID vendor would “claim” a disk that was actually a RAID subsystem, and perform configuration on that sub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: 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enhanc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 me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h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: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s work in progress. Many things will undoubtedly change before this is shipp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9044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k Administrator: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5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provide easy-to-use graphical tools for system administ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