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428840"/>
            <a:ext cx="9132840" cy="152280"/>
            <a:chOff x="0" y="1428840"/>
            <a:chExt cx="9132840" cy="152280"/>
          </a:xfrm>
        </p:grpSpPr>
        <p:sp>
          <p:nvSpPr>
            <p:cNvPr id="1" name=""/>
            <p:cNvSpPr/>
            <p:nvPr/>
          </p:nvSpPr>
          <p:spPr>
            <a:xfrm>
              <a:off x="0" y="1428840"/>
              <a:ext cx="9132840" cy="74520"/>
            </a:xfrm>
            <a:prstGeom prst="rect">
              <a:avLst/>
            </a:prstGeom>
            <a:gradFill rotWithShape="0">
              <a:gsLst>
                <a:gs pos="0">
                  <a:srgbClr val="006f65"/>
                </a:gs>
                <a:gs pos="50000">
                  <a:srgbClr val="00dfca"/>
                </a:gs>
                <a:gs pos="100000">
                  <a:srgbClr val="006f65"/>
                </a:gs>
              </a:gsLst>
              <a:lin ang="0"/>
            </a:gradFill>
            <a:ln w="0">
              <a:noFill/>
            </a:ln>
          </p:spPr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4296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975f80"/>
                </a:gs>
                <a:gs pos="50000">
                  <a:srgbClr val="d989b8"/>
                </a:gs>
                <a:gs pos="100000">
                  <a:srgbClr val="975f80"/>
                </a:gs>
              </a:gsLst>
              <a:lin ang="0"/>
            </a:gradFill>
            <a:ln w="0">
              <a:noFill/>
            </a:ln>
          </p:spPr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"/>
          <p:cNvSpPr txBox="1"/>
          <p:nvPr/>
        </p:nvSpPr>
        <p:spPr>
          <a:xfrm>
            <a:off x="90360" y="6485040"/>
            <a:ext cx="16462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Murali R. Krishn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 txBox="1"/>
          <p:nvPr/>
        </p:nvSpPr>
        <p:spPr>
          <a:xfrm>
            <a:off x="8670960" y="6485040"/>
            <a:ext cx="382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fld id="{84FA9596-33E5-44B6-AC6A-753B0F4A3ECC}" type="slidenum"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26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685800" y="2286000"/>
            <a:ext cx="77724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  <a:ea typeface="Book Antiqua"/>
              </a:rPr>
              <a:t>Secure internet Communications using Socke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urali R. Krishn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3024360" y="5029200"/>
            <a:ext cx="3097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icrosoft Corpo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26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609480" y="228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  <a:ea typeface="Book Antiqua"/>
              </a:rPr>
              <a:t>SSL and Winsock 2.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dc0081"/>
                </a:solidFill>
                <a:latin typeface="Arial"/>
                <a:ea typeface="Arial"/>
              </a:rPr>
              <a:t>Proposed by Netsca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socket options for authentication and encryption relat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pplications can use getsockopt() and setsockopt() for querying and setting op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oes Winsock 2.0 standards committee permit th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26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609480" y="228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  <a:ea typeface="Book Antiqua"/>
              </a:rPr>
              <a:t>SSL and Winsock 2.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dfca"/>
                </a:solidFill>
                <a:latin typeface="Arial"/>
                <a:ea typeface="Arial"/>
              </a:rPr>
              <a:t>+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imple; applications need to use only one set of AP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dc0081"/>
                </a:solidFill>
                <a:latin typeface="Arial"/>
                <a:ea typeface="Arial"/>
              </a:rPr>
              <a:t>--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pendency on RSA encryption and authentication (hard coded option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dc0081"/>
                </a:solidFill>
                <a:latin typeface="Arial"/>
                <a:ea typeface="Arial"/>
              </a:rPr>
              <a:t>--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how to obtain authentication -- left to user level hook (not specified in standar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26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09480" y="228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  <a:ea typeface="Book Antiqua"/>
              </a:rPr>
              <a:t>SSP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pecifies interface for security support provi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Targetted at Distributed systems and RPC runtime eng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oes not specify its relation to socket commun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26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609480" y="228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  <a:ea typeface="Book Antiqua"/>
              </a:rPr>
              <a:t>Wssa &amp; CAP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ssa: Windows Secure Sockets API -- same as SSL interface and uses ssl implement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API: Crypto API -- 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26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609480" y="228600"/>
            <a:ext cx="784872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  <a:ea typeface="Book Antiqua"/>
              </a:rPr>
              <a:t>What should new interface provid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imple interface supporting security and transport independ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e Scalable. Extensions to support transports and security schemes should be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Interoperability of the different schemes adopted (unless it is open scheme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26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609480" y="228600"/>
            <a:ext cx="784872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  <a:ea typeface="Book Antiqua"/>
              </a:rPr>
              <a:t>What should new interface provide? (contd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uthentication and Encrypted data should be decipherable independent of platform us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upport communicating with multiple peers with different schemes for eac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low easy layering of user level protocols (http, ftp, ...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26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609480" y="228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  <a:ea typeface="Book Antiqua"/>
              </a:rPr>
              <a:t>Op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opt SSL as-is-it-now (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pay royalty to Netscape happil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)    [DevTime = 4 weeks. Maintenance = ?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Implement our own SSL compliant DLL, but use authentication and encryption packages from 3rd party ( trustable?)   [DevTime = 3 months. Maintenance = ?]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26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09480" y="228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  <a:ea typeface="Book Antiqua"/>
              </a:rPr>
              <a:t>Op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609480" y="1981080"/>
            <a:ext cx="7848720" cy="461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Implement our own SSL compliant DLL (or maybe like Wssa), as well as implement authentication and encryption packages (in kernel mode possibly, speed ==$$)  [ DevTime = 6 months. Maybe long for Winsock 2.0 based impl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pecify a new interface separately for security, evangelize and implement it; Couple this with Winsock. [ DevTime = 6-12 months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ce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609480" y="228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474747"/>
                </a:solidFill>
                <a:latin typeface="Book Antiqua"/>
                <a:ea typeface="Book Antiqua"/>
              </a:rPr>
              <a:t>SARC AP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638360" y="2144880"/>
            <a:ext cx="6438960" cy="372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26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609480" y="228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  <a:ea typeface="Book Antiqua"/>
              </a:rPr>
              <a:t>SARC AP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Two pronged approach - separate API set for security (extensions of SSPI possibly) and retain/enhance Winsock for raw communic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e the API set open to enable scalability and intero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pplications will run on SARC API (esp. http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26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609480" y="228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  <a:ea typeface="Book Antiqua"/>
              </a:rPr>
              <a:t>Goals for this tal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xisting communication interfaces (Winsock, SSL, SSPI, et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roposed op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cus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26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609480" y="228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  <a:ea typeface="Book Antiqua"/>
              </a:rPr>
              <a:t>Discus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es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at is our strategy? and what is corporate-wide strateg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at is our long term and short term solu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It is time to talk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26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609480" y="228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  <a:ea typeface="Book Antiqua"/>
              </a:rPr>
              <a:t>Current Requir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ockets/TCP is used for internet commun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pplication protocols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htt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, ftp, gopher need to be sec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modifications of application protoc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e interoperable, secure and scal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26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609480" y="228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  <a:ea typeface="Book Antiqua"/>
              </a:rPr>
              <a:t>Winso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rived from Berkeley sock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Flexible and simple API virtualizing transpo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oes not support options for any authentication or encyption of transported dat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26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609480" y="228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  <a:ea typeface="Book Antiqua"/>
              </a:rPr>
              <a:t>SSL: Secure Sockets Layer</a:t>
            </a:r>
            <a:r>
              <a:rPr b="0" lang="en-US" sz="4400" spc="-1" strike="noStrike">
                <a:solidFill>
                  <a:srgbClr val="00dfca"/>
                </a:solidFill>
                <a:latin typeface="Book Antiqua"/>
                <a:ea typeface="Book Antiqua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666880" y="4495680"/>
            <a:ext cx="3200400" cy="838080"/>
          </a:xfrm>
          <a:prstGeom prst="rect">
            <a:avLst/>
          </a:prstGeom>
          <a:solidFill>
            <a:srgbClr val="dc008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3200400" y="4724280"/>
            <a:ext cx="190512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ock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38280" y="2362320"/>
            <a:ext cx="4800600" cy="838080"/>
          </a:xfrm>
          <a:prstGeom prst="rect">
            <a:avLst/>
          </a:prstGeom>
          <a:solidFill>
            <a:srgbClr val="dc008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124080" y="2514600"/>
            <a:ext cx="365760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htt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029200" y="320040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32004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29000" y="4343400"/>
            <a:ext cx="0" cy="152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066680" y="2971800"/>
            <a:ext cx="1219320" cy="2209680"/>
          </a:xfrm>
          <a:prstGeom prst="ellipse">
            <a:avLst/>
          </a:prstGeom>
          <a:solidFill>
            <a:srgbClr val="dc008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219320" y="4267080"/>
            <a:ext cx="914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990720" y="3809880"/>
            <a:ext cx="13716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cur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762120" y="160020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43200" y="3581280"/>
            <a:ext cx="1523880" cy="762120"/>
          </a:xfrm>
          <a:prstGeom prst="rect">
            <a:avLst/>
          </a:prstGeom>
          <a:solidFill>
            <a:srgbClr val="dc008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2971800" y="3733920"/>
            <a:ext cx="99072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S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2133720" y="3733920"/>
            <a:ext cx="609480" cy="152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26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609480" y="228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  <a:ea typeface="Book Antiqua"/>
              </a:rPr>
              <a:t>SSL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SL defines a separate set of functions for handling I/O (masks socket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t all socket functions are replicat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upports only TC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s 3rd party (RSA, PKCS) software for authentication and encry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26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609480" y="228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  <a:ea typeface="Book Antiqua"/>
              </a:rPr>
              <a:t>SSL Pro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dfca"/>
                </a:solidFill>
                <a:latin typeface="Arial"/>
                <a:ea typeface="Arial"/>
              </a:rPr>
              <a:t>+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its on top of sockets, providing socket like interf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dfca"/>
                </a:solidFill>
                <a:latin typeface="Arial"/>
                <a:ea typeface="Arial"/>
              </a:rPr>
              <a:t>+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s public key encryption offering secur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dfca"/>
                </a:solidFill>
                <a:latin typeface="Arial"/>
                <a:ea typeface="Arial"/>
              </a:rPr>
              <a:t>+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lows unencrypted and unauthenticated communic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26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609480" y="228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  <a:ea typeface="Book Antiqua"/>
              </a:rPr>
              <a:t>SSL Cons  :(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dc0081"/>
                </a:solidFill>
                <a:latin typeface="Arial"/>
                <a:ea typeface="Arial"/>
              </a:rPr>
              <a:t>--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pends on 3rd party software for encryption and 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dc0081"/>
                </a:solidFill>
                <a:latin typeface="Arial"/>
                <a:ea typeface="Arial"/>
              </a:rPr>
              <a:t>--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support for adding/modifying authentication and encryption sche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dc0081"/>
                </a:solidFill>
                <a:latin typeface="Arial"/>
                <a:ea typeface="Arial"/>
              </a:rPr>
              <a:t>--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only runs over TC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dc0081"/>
                </a:solidFill>
                <a:latin typeface="Arial"/>
                <a:ea typeface="Arial"/>
              </a:rPr>
              <a:t>--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pends on centralized certificate issuer (currently Netscape) for 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26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609480" y="228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  <a:ea typeface="Book Antiqua"/>
              </a:rPr>
              <a:t>SSL cons :(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dc0081"/>
                </a:solidFill>
                <a:latin typeface="Arial"/>
                <a:ea typeface="Arial"/>
              </a:rPr>
              <a:t>--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oes not support multiple client/server connections within same process (relevant for catapult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urali R. Krishnan</dc:creator>
  <dc:description>This presentation was prepared for talk on Wednesday, 14 June, 1995 to discuss about secure communication strategy for our internet related products.</dc:description>
  <dc:language>en-US</dc:language>
  <cp:lastModifiedBy>Murali R. Krishnan</cp:lastModifiedBy>
  <cp:revision>0</cp:revision>
  <dc:subject>Secure Communications</dc:subject>
  <dc:title>Secure And Reliable Communication using Sockets</dc:title>
</cp:coreProperties>
</file>